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8.jpeg" ContentType="image/jpeg"/>
  <Override PartName="/ppt/media/image6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052-6D20-41F1-A46F-CA9725D4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2888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ADA-9367-4CF9-B45B-0D6CF3AD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0792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288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288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F42-F8DC-4279-825E-4B8952FB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0792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0792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288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288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288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906-5B89-4E80-8097-C0CB09AF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7E02-3F94-4E5D-A601-AA47C5EC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B5CF-DC0E-4B5B-9E06-905A244F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C074-6677-4E2C-9A41-7583EE24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0792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2D76-0D18-4308-8199-C6E833B8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3DFD-EF93-44ED-A504-08B2FDD7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9280" y="115920"/>
            <a:ext cx="878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05CC-F62E-4371-8C20-35D00B45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0792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288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62C2-6EF0-439B-954C-7568D136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F626-5CD0-4580-B5EE-2ADBA037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0792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288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E0EA-7286-4AB0-9C37-5534E138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90792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2888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E437-02B4-4680-8222-4DA6530A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2888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F60B-9EFB-4BBE-8D23-AC5C24D7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90792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288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288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A4C4-80FF-4C50-8431-95DD033A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90792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90792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288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288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288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686B-BC12-4201-90D4-97A809D2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03E-9C79-4007-B495-A764569D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0792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389-33C1-490D-9954-E5F42BFA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F2A-1F4F-4B1B-838D-B07F9BB9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9280" y="115920"/>
            <a:ext cx="878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3DB-D909-4E90-A071-E6E639F3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0792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288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796-AE5D-4956-91D5-E84DF9D5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0792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288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E96-112A-43B1-B6B4-0CCDA49D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0792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2888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362-8E52-4FEB-B897-8F317CA0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-1440"/>
            <a:ext cx="9144000" cy="766440"/>
          </a:xfrm>
          <a:prstGeom prst="rect">
            <a:avLst/>
          </a:prstGeom>
          <a:solidFill>
            <a:srgbClr val="9a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2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7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2" marL="1143000" indent="-228600">
              <a:spcBef>
                <a:spcPts val="799"/>
              </a:spcBef>
              <a:buClr>
                <a:srgbClr val="6e962e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6FB8-CC44-4A5F-9299-ED95B782E3C1}" type="datetime">
              <a:rPr b="0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26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9019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A020-04A3-4AB0-AE22-EE2B601A2EBF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0" y="0"/>
            <a:ext cx="108000" cy="692280"/>
          </a:xfrm>
          <a:prstGeom prst="rect">
            <a:avLst/>
          </a:prstGeom>
          <a:solidFill>
            <a:srgbClr val="9a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e9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2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9a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73360"/>
            <a:ext cx="9144000" cy="216000"/>
          </a:xfrm>
          <a:prstGeom prst="rect">
            <a:avLst/>
          </a:prstGeom>
          <a:solidFill>
            <a:srgbClr val="9a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3816360"/>
            <a:ext cx="9144000" cy="46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7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2" marL="1143000" indent="-228600">
              <a:spcBef>
                <a:spcPts val="799"/>
              </a:spcBef>
              <a:buClr>
                <a:srgbClr val="6e962e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4B8A-DF67-4DE2-80F1-5AB8B626DC46}" type="datetime">
              <a:rPr b="0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26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A187-0869-4705-A04B-9AD396AFBFD8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HGPｺﾞｼｯｸE"/>
              </a:rPr>
              <a:t>第２回地理空間情報利活用研究会</a:t>
            </a:r>
            <a:endParaRPr b="0" lang="en-US" sz="40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6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平成２３年１０月１９日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三重県自治会館組合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92" name=""/>
          <p:cNvSpPr/>
          <p:nvPr/>
        </p:nvSpPr>
        <p:spPr>
          <a:xfrm>
            <a:off x="7545240" y="379440"/>
            <a:ext cx="122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資料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C313-EC05-4B58-A1DE-986D82C9F5F5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１－１．現状調査の概要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5000" y="920880"/>
            <a:ext cx="865836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県域レベルの住所データの整備・更新にあたり、市町が保有する住所情報（地番情報、住居表示台帳）の整備・提供状況等を調査・整理し、その利用可能性の検討材料とすることを目的とする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調査対象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全２９市町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地番図の管理部門（税務課）、住居表示台帳の管理部門の担当者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調査期間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平成２３年８月４日（木）～９月６日（火）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調査項目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地番情報の整備状況及び提供可否等について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住居表示台帳の整備状況及び提供可否等について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3C44-F5F3-4E6F-9369-7E40F681EB6D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１－１．現状調査の概要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984240"/>
            <a:ext cx="856944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アンケート回答率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９０％（２６市町／２９市町）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アンケート調査結果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調査結果の詳細は、資料２を参照下さい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4356000" y="2133720"/>
            <a:ext cx="1657440" cy="422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15" y="0"/>
                </a:lnTo>
                <a:lnTo>
                  <a:pt x="21600" y="10800"/>
                </a:lnTo>
                <a:lnTo>
                  <a:pt x="190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2ffd3"/>
          </a:solidFill>
          <a:ln w="25560">
            <a:solidFill>
              <a:srgbClr val="9ac94e"/>
            </a:solidFill>
            <a:miter/>
          </a:ln>
          <a:effectLst>
            <a:outerShdw dist="85328" dir="1593903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資料２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A470-6D37-4A76-A7B9-C5328651BFA6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１－２．現状調査結果</a:t>
            </a: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①</a:t>
            </a: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（地番情報）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1640" y="806040"/>
            <a:ext cx="886788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地番情報の整備状況について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326880" indent="-12564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地番レベルの住所データの整備状況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１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502920" indent="-10044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約９割の市町で整備済み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703800" indent="-1004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未整備市町においても地番図は電子化済みであ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26880" indent="-12564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原典資料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２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502920" indent="-10044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約８割の市町は地番図より整備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26880" indent="-12564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地番図のデータ形式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８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502920" indent="-10044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約６割の市町は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S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形式で整備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26880" indent="-12564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地番図の整備範囲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８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502920" indent="-10044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全域整備が約５割、平地部のみが約５割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26880" indent="-12564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地番図の更新頻度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８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502920" indent="-10044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全ての市町で毎年更新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している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6" name=""/>
          <p:cNvSpPr/>
          <p:nvPr/>
        </p:nvSpPr>
        <p:spPr>
          <a:xfrm>
            <a:off x="4741920" y="6483240"/>
            <a:ext cx="38163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marL="93600" indent="-4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集計結果は無回答市町を除く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33B6-DF6D-4631-9CF3-C1478A7BCABC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１－２．現状調査結果</a:t>
            </a: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①</a:t>
            </a: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（地番情報）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9400" y="818640"/>
            <a:ext cx="886752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地番情報の提供について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378720" indent="-14544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提供可否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５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582840" indent="-11628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約９割の市町が提供可能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815760" indent="-1162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一部市町では個人情報保護審査会の承認を条件としてい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582840" indent="-11628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約１割の市町については、以下の理由より提供が難しい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815760" indent="-1162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地方税法第２２条に抵触しないとする明確な判断根拠が不足しているため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815760" indent="-1162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特に規定等はないが、個人情報に該当しないという判断根拠が不足しているため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78720" indent="-14544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三重県が都市計画基礎調査でデータ化した各市町の地番データの利用可否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３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582840" indent="-11628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約８割の市町が利用してもよいと回答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78720" indent="-14544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行政外への提供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９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582840" indent="-11628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約５割の市町が行政外への提供は不可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0" name=""/>
          <p:cNvSpPr/>
          <p:nvPr/>
        </p:nvSpPr>
        <p:spPr>
          <a:xfrm>
            <a:off x="4716360" y="6356520"/>
            <a:ext cx="38163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marL="93600" indent="-4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集計結果は無回答市町を除く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DF52-34E2-43F8-933F-11ED63A890F2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１－２．現状調査結果</a:t>
            </a: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①</a:t>
            </a: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（地番情報）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9040" y="844200"/>
            <a:ext cx="8802360" cy="35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その他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27920" indent="-280080">
              <a:spcBef>
                <a:spcPts val="64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ＭＳ Ｐゴシック"/>
              </a:rPr>
              <a:t>住所データの整備・更新費用の負担について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600" spc="-1" strike="noStrike">
                <a:solidFill>
                  <a:srgbClr val="000000"/>
                </a:solidFill>
                <a:latin typeface="ＭＳ Ｐゴシック"/>
              </a:rPr>
              <a:t>設問１０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19960" indent="-223920">
              <a:spcBef>
                <a:spcPts val="499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現在利用している住所データの更新費用よりも、費用を抑えられるのであれば負担も可能（８市町）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19960" indent="-223920">
              <a:spcBef>
                <a:spcPts val="499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現在住所データを導入していないため、費用負担は難しい（４市町）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19960" indent="-223920">
              <a:spcBef>
                <a:spcPts val="499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現在住所データを導入していないが、割合によっては負担も可能（１市町）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19960" indent="-223920">
              <a:spcBef>
                <a:spcPts val="499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その他主な意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更新した住所データを、現在運用中のシステムで使用できることが前提となる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現在は、住所データと地番図データの整備を一括で委託しているため、住所データのみの整備を別業務とすることでかえって非効率になる。費用負担については、地番図データと住所データの整備を一体的に検討する必要がある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現時点では詳細が不明なため、何ともいえない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7D13-5046-42E6-AF79-9E8815A6F7BA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１－２．現状調査結果</a:t>
            </a: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①</a:t>
            </a: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（地番情報）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5600" y="981000"/>
            <a:ext cx="85867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その他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住所データの整備・更新に関する意見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１２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地番データを提供することは問題ないが、どのように利活用できるかが重要である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地番図データの正確性（完成度には市町間で差がある）や、住所に対する一般市民の認識差を考慮する必要がある。民間データの調達も検討する必要があると考える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他自治体の住所データを使用する機会はほとんどない。住所データについては、適切なバックアップ環境で、災害等が発生したときに国・県等の行政機関が利用できることを検討してはどうか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若干、データの整合性が図られていないところもあるので気になる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BFA4-28D7-4433-860A-BB5C6558B9D1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１－２．現状調査結果</a:t>
            </a: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②</a:t>
            </a: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（住居表示台帳）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9400" y="1022400"/>
            <a:ext cx="886752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住居表示台帳の整備状況について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393480" indent="-15120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地図形式での整備状況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１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605520" indent="-12096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約４割（８市町）の市町が地図形式で整備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93480" indent="-15120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データ形式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２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605520" indent="-12096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２市町のみが電子化済み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S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B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MQX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形式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93480" indent="-15120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整備範囲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２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605520" indent="-12096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地図形式で整備している全市町が住居表示実施地区全域を整備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93480" indent="-15120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更新頻度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２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605520" indent="-12096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更新頻度は市町によりばらつきがある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847800" indent="-120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変化発生ごと、月１回程度、不定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93B2-C90E-4DC5-99BD-375143E31C5A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１－２．現状調査結果</a:t>
            </a: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②</a:t>
            </a: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（住居表示台帳）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9400" y="971640"/>
            <a:ext cx="886752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住居表示台帳の提供について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408600" indent="-15696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提供可否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３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628560" indent="-12564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地図形式で整備している約６割（５市町）が提供可能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879840" indent="-125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一部市町では個人情報保護審査会の承認を条件としてい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879840" indent="-1256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提供不可と回答している市町でも、日常業務へ配慮すれば対応可能と推定される市町（２市町）もあ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408600" indent="-15696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提供不可の理由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５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628560" indent="-12564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特に規定はないが個人情報保護法に触れる可能性があるため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408600" indent="-15696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行政外への提供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設問６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628560" indent="-12564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提供可能（非営利利用、部分開示も含む）が５市町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628560" indent="-12564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検討中が２市町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8DB9-DB07-47EE-961E-877593C00C3C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１－３．追加調査結果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46240" y="995400"/>
            <a:ext cx="858672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国土地理院の「住居表示住所」データの整備状況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ＭＳ Ｐゴシック"/>
              </a:rPr>
              <a:t>現在、国土地理院が、電子国土基本図（地名情報）「住居表示住所」データとして、全国を対象に住居表示台帳を原典とした住所データを整備中です。（整備済みデータは、国土地理院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HP</a:t>
            </a:r>
            <a:r>
              <a:rPr b="0" lang="ja-JP" sz="2600" spc="-1" strike="noStrike">
                <a:solidFill>
                  <a:srgbClr val="000000"/>
                </a:solidFill>
                <a:latin typeface="ＭＳ Ｐゴシック"/>
              </a:rPr>
              <a:t>で無償提供中）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4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ＭＳ Ｐゴシック"/>
              </a:rPr>
              <a:t>国土地理院に、三重県の「住居表示住所」データの整備状況を確認したところ、</a:t>
            </a:r>
            <a:r>
              <a:rPr b="0" lang="ja-JP" sz="2600" spc="-1" strike="noStrike">
                <a:solidFill>
                  <a:srgbClr val="ff0000"/>
                </a:solidFill>
                <a:latin typeface="ＭＳ Ｐゴシック"/>
              </a:rPr>
              <a:t>今年度中に県内住居表示地区の「住居表示住所」データの整備を完了する予定だと回答を得ています</a:t>
            </a:r>
            <a:r>
              <a:rPr b="0" lang="ja-JP" sz="26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A30E-14E7-4769-9A87-30C8806B2E39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参考：国土地理院の住居表示住所データ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5920" y="804960"/>
            <a:ext cx="8718480" cy="18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電子国土基本図（地名情報）「住居表示住所」とは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「住居表示に関する法律」による住居表示が行われている地区の住居番号（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○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市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○○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丁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番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号という住所のうち、「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号」に該当する番号）を決める際に用いる「基礎番号」を国土地理院がデータ化した基本測量成果で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基礎番号とは、街区縁上の一定区間（フロンテージ）毎に定められた番号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415880" y="2873520"/>
            <a:ext cx="6409080" cy="3705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84360" y="6526080"/>
            <a:ext cx="76327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 marL="93600" indent="-4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国土地理院ＨＰより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http://www.gsi.go.jp/kihonjohochousa/jukyo_jusho.htm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F5DA-96DC-4283-84DF-06D1DAC89D30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本日の議題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5600" y="971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ｺﾞｼｯｸE"/>
              </a:rPr>
              <a:t>（第</a:t>
            </a:r>
            <a:r>
              <a:rPr b="0" lang="en-US" sz="3200" spc="-1" strike="noStrike">
                <a:solidFill>
                  <a:srgbClr val="000000"/>
                </a:solidFill>
                <a:latin typeface="HGPｺﾞｼｯｸE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HGPｺﾞｼｯｸE"/>
              </a:rPr>
              <a:t>回研究会のおさらい）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-343080">
              <a:spcBef>
                <a:spcPts val="799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ｺﾞｼｯｸE"/>
              </a:rPr>
              <a:t>１．住所情報に関する現状調査結果の報告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-343080">
              <a:spcBef>
                <a:spcPts val="799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ｺﾞｼｯｸE"/>
              </a:rPr>
              <a:t>２．住所データの整備、更新、利活用計画（素案）について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-343080">
              <a:spcBef>
                <a:spcPts val="799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ｺﾞｼｯｸE"/>
              </a:rPr>
              <a:t>３．その他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7256-B7AA-41D3-B042-CC76AF3741E5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１－４．現状調査結果のまとめ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8840" y="942480"/>
            <a:ext cx="858672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ｺﾞｼｯｸE"/>
              </a:rPr>
              <a:t>地番データ（地番情報）については、</a:t>
            </a:r>
            <a:r>
              <a:rPr b="0" lang="ja-JP" sz="2600" spc="-1" strike="noStrike">
                <a:solidFill>
                  <a:srgbClr val="ff0000"/>
                </a:solidFill>
                <a:latin typeface="HGPｺﾞｼｯｸE"/>
              </a:rPr>
              <a:t>ほぼ全ての市町で電子化済み</a:t>
            </a:r>
            <a:r>
              <a:rPr b="0" lang="ja-JP" sz="2600" spc="-1" strike="noStrike">
                <a:solidFill>
                  <a:srgbClr val="000000"/>
                </a:solidFill>
                <a:latin typeface="HGPｺﾞｼｯｸE"/>
              </a:rPr>
              <a:t>であり、また</a:t>
            </a:r>
            <a:r>
              <a:rPr b="0" lang="ja-JP" sz="2600" spc="-1" strike="noStrike">
                <a:solidFill>
                  <a:srgbClr val="ff0000"/>
                </a:solidFill>
                <a:latin typeface="HGPｺﾞｼｯｸE"/>
              </a:rPr>
              <a:t>約８割の市町が行政内の利用であれば提供可能</a:t>
            </a:r>
            <a:r>
              <a:rPr b="0" lang="ja-JP" sz="2600" spc="-1" strike="noStrike">
                <a:solidFill>
                  <a:srgbClr val="000000"/>
                </a:solidFill>
                <a:latin typeface="HGPｺﾞｼｯｸE"/>
              </a:rPr>
              <a:t>なことから、住所データの原典情報として利用可能性は高いといえます。</a:t>
            </a:r>
            <a:endParaRPr b="0" lang="en-US" sz="26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-343080">
              <a:spcBef>
                <a:spcPts val="649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ｺﾞｼｯｸE"/>
              </a:rPr>
              <a:t>また、</a:t>
            </a:r>
            <a:r>
              <a:rPr b="0" lang="ja-JP" sz="2600" spc="-1" strike="noStrike">
                <a:solidFill>
                  <a:srgbClr val="ff0000"/>
                </a:solidFill>
                <a:latin typeface="HGPｺﾞｼｯｸE"/>
              </a:rPr>
              <a:t>ほぼ全ての市町が毎年地番データを更新している</a:t>
            </a:r>
            <a:r>
              <a:rPr b="0" lang="ja-JP" sz="2600" spc="-1" strike="noStrike">
                <a:solidFill>
                  <a:srgbClr val="000000"/>
                </a:solidFill>
                <a:latin typeface="HGPｺﾞｼｯｸE"/>
              </a:rPr>
              <a:t>ことから、住所データの定期的な更新が期待できます。</a:t>
            </a:r>
            <a:endParaRPr b="0" lang="en-US" sz="26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-343080">
              <a:spcBef>
                <a:spcPts val="649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ｺﾞｼｯｸE"/>
              </a:rPr>
              <a:t>住居表示台帳については、</a:t>
            </a:r>
            <a:r>
              <a:rPr b="0" lang="ja-JP" sz="2600" spc="-1" strike="noStrike">
                <a:solidFill>
                  <a:srgbClr val="ff0000"/>
                </a:solidFill>
                <a:latin typeface="HGPｺﾞｼｯｸE"/>
              </a:rPr>
              <a:t>国土地理院がすでに県内の住居表示台帳を使用した住所データを整備中</a:t>
            </a:r>
            <a:r>
              <a:rPr b="0" lang="ja-JP" sz="2600" spc="-1" strike="noStrike">
                <a:solidFill>
                  <a:srgbClr val="000000"/>
                </a:solidFill>
                <a:latin typeface="HGPｺﾞｼｯｸE"/>
              </a:rPr>
              <a:t>であり、今後、国土地理院と連携可能性（例えば、国土地理院への住居表示台帳の定期的な提供など）を検討することにより、住所データの定期的な更新が期待できます。</a:t>
            </a:r>
            <a:endParaRPr b="0" lang="en-US" sz="26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GPｺﾞｼｯｸ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CDC6-3C9A-4734-B0D0-D6228D20280B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HGPｺﾞｼｯｸE"/>
              </a:rPr>
              <a:t>１－５．地番データの検証作業について</a:t>
            </a:r>
            <a:endParaRPr b="0" lang="en-US" sz="35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6240" y="971640"/>
            <a:ext cx="858672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現状調査結果より、市町が保有する地番データと住居表示台帳は、住所データの有効な原典データとしての利用可能性が高いことが判明しました。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今後、具体的な利用可能性（地番データの品質、利用にあたっての必要なコスト、民間データとの差異等）を検討するため、実際の地番データを用いて検証作業を実施します。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27" name=""/>
          <p:cNvSpPr/>
          <p:nvPr/>
        </p:nvSpPr>
        <p:spPr>
          <a:xfrm>
            <a:off x="755640" y="4363920"/>
            <a:ext cx="7561440" cy="1729080"/>
          </a:xfrm>
          <a:prstGeom prst="rect">
            <a:avLst/>
          </a:prstGeom>
          <a:solidFill>
            <a:srgbClr val="ffe7f3"/>
          </a:solidFill>
          <a:ln w="255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9360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都市計画基礎調査でデータ化した地番データのうち、利用してもよいと回答頂いた市町の地番データを借用させて頂きま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本研究会後、自治会館組合より公文書を送付させて頂きますので、ご協力よろしくお願い致しま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2414-A0EC-4F20-BABC-D5310B2B80D7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0280" y="2695680"/>
            <a:ext cx="799164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HGPｺﾞｼｯｸE"/>
              </a:rPr>
              <a:t>２．住所データの整備、更新、利活用計画（素案）について</a:t>
            </a:r>
            <a:endParaRPr b="0" lang="en-US" sz="4000" spc="-1" strike="noStrike">
              <a:solidFill>
                <a:srgbClr val="000000"/>
              </a:solidFill>
              <a:latin typeface="HGPｺﾞｼｯｸ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B4D9-D0B5-4D64-84C8-4C55DB8EB33E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HGPｺﾞｼｯｸE"/>
              </a:rPr>
              <a:t>２－１．本研究会の目指す姿について</a:t>
            </a:r>
            <a:endParaRPr b="0" lang="en-US" sz="35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79280" y="1157040"/>
            <a:ext cx="858672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基本方針（案）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</p:txBody>
      </p:sp>
      <p:grpSp>
        <p:nvGrpSpPr>
          <p:cNvPr id="334" name="グループ化 10"/>
          <p:cNvGrpSpPr/>
          <p:nvPr/>
        </p:nvGrpSpPr>
        <p:grpSpPr>
          <a:xfrm>
            <a:off x="468360" y="2058480"/>
            <a:ext cx="7920000" cy="900720"/>
            <a:chOff x="468360" y="2058480"/>
            <a:chExt cx="7920000" cy="900720"/>
          </a:xfrm>
        </p:grpSpPr>
        <p:sp>
          <p:nvSpPr>
            <p:cNvPr id="335" name="正方形/長方形 11"/>
            <p:cNvSpPr/>
            <p:nvPr/>
          </p:nvSpPr>
          <p:spPr>
            <a:xfrm>
              <a:off x="468360" y="2382840"/>
              <a:ext cx="7920000" cy="576360"/>
            </a:xfrm>
            <a:prstGeom prst="rect">
              <a:avLst/>
            </a:prstGeom>
            <a:solidFill>
              <a:srgbClr val="ffffdd"/>
            </a:solidFill>
            <a:ln w="284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lvl="2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地番レベルでの住所検索による窓口対応の効率化</a:t>
              </a: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36" name="角丸四角形 12"/>
            <p:cNvSpPr/>
            <p:nvPr/>
          </p:nvSpPr>
          <p:spPr>
            <a:xfrm>
              <a:off x="598320" y="2058480"/>
              <a:ext cx="2608200" cy="405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lvl="2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HGPｺﾞｼｯｸE"/>
                  <a:ea typeface="HGPｺﾞｼｯｸE"/>
                </a:rPr>
                <a:t>①</a:t>
              </a:r>
              <a:r>
                <a:rPr b="0" lang="ja-JP" sz="2400" spc="-1" strike="noStrike">
                  <a:solidFill>
                    <a:srgbClr val="000000"/>
                  </a:solidFill>
                  <a:latin typeface="HGPｺﾞｼｯｸE"/>
                  <a:ea typeface="HGPｺﾞｼｯｸE"/>
                </a:rPr>
                <a:t>業務の効率化</a:t>
              </a: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37" name="グループ化 13"/>
          <p:cNvGrpSpPr/>
          <p:nvPr/>
        </p:nvGrpSpPr>
        <p:grpSpPr>
          <a:xfrm>
            <a:off x="468360" y="3430080"/>
            <a:ext cx="7920000" cy="1222920"/>
            <a:chOff x="468360" y="3430080"/>
            <a:chExt cx="7920000" cy="1222920"/>
          </a:xfrm>
        </p:grpSpPr>
        <p:sp>
          <p:nvSpPr>
            <p:cNvPr id="338" name="正方形/長方形 14"/>
            <p:cNvSpPr/>
            <p:nvPr/>
          </p:nvSpPr>
          <p:spPr>
            <a:xfrm>
              <a:off x="468360" y="3754440"/>
              <a:ext cx="7920000" cy="898560"/>
            </a:xfrm>
            <a:prstGeom prst="rect">
              <a:avLst/>
            </a:prstGeom>
            <a:solidFill>
              <a:srgbClr val="ffffdd"/>
            </a:solidFill>
            <a:ln w="284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lvl="2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アドレスマッチングを用い、市町・県でそれぞれ保有している行政情報を展開し住民へ公開するなど、「見える化」の促進</a:t>
              </a: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39" name="角丸四角形 15"/>
            <p:cNvSpPr/>
            <p:nvPr/>
          </p:nvSpPr>
          <p:spPr>
            <a:xfrm>
              <a:off x="601560" y="3430080"/>
              <a:ext cx="5916600" cy="405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lvl="2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HGPｺﾞｼｯｸE"/>
                  <a:ea typeface="HGPｺﾞｼｯｸE"/>
                </a:rPr>
                <a:t>②</a:t>
              </a:r>
              <a:r>
                <a:rPr b="0" lang="ja-JP" sz="2400" spc="-1" strike="noStrike">
                  <a:solidFill>
                    <a:srgbClr val="000000"/>
                  </a:solidFill>
                  <a:latin typeface="HGPｺﾞｼｯｸE"/>
                  <a:ea typeface="HGPｺﾞｼｯｸE"/>
                </a:rPr>
                <a:t>住民サービスの向上・情報共有の効率化</a:t>
              </a: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40" name="グループ化 16"/>
          <p:cNvGrpSpPr/>
          <p:nvPr/>
        </p:nvGrpSpPr>
        <p:grpSpPr>
          <a:xfrm>
            <a:off x="468360" y="5087160"/>
            <a:ext cx="7920000" cy="862920"/>
            <a:chOff x="468360" y="5087160"/>
            <a:chExt cx="7920000" cy="862920"/>
          </a:xfrm>
        </p:grpSpPr>
        <p:sp>
          <p:nvSpPr>
            <p:cNvPr id="341" name="正方形/長方形 17"/>
            <p:cNvSpPr/>
            <p:nvPr/>
          </p:nvSpPr>
          <p:spPr>
            <a:xfrm>
              <a:off x="468360" y="5411520"/>
              <a:ext cx="7920000" cy="538560"/>
            </a:xfrm>
            <a:prstGeom prst="rect">
              <a:avLst/>
            </a:prstGeom>
            <a:solidFill>
              <a:srgbClr val="ffffdd"/>
            </a:solidFill>
            <a:ln w="284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noAutofit/>
            </a:bodyPr>
            <a:p>
              <a:pPr lvl="2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GIS</a:t>
              </a: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データ化した行政情報を組み合わせ、総合的な政策立案</a:t>
              </a: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2" name="角丸四角形 18"/>
            <p:cNvSpPr/>
            <p:nvPr/>
          </p:nvSpPr>
          <p:spPr>
            <a:xfrm>
              <a:off x="600120" y="5087160"/>
              <a:ext cx="2462040" cy="405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ctr">
              <a:spAutoFit/>
            </a:bodyPr>
            <a:p>
              <a:pPr lvl="2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HGPｺﾞｼｯｸE"/>
                  <a:ea typeface="HGPｺﾞｼｯｸE"/>
                </a:rPr>
                <a:t>③</a:t>
              </a:r>
              <a:r>
                <a:rPr b="0" lang="ja-JP" sz="2400" spc="-1" strike="noStrike">
                  <a:solidFill>
                    <a:srgbClr val="000000"/>
                  </a:solidFill>
                  <a:latin typeface="HGPｺﾞｼｯｸE"/>
                  <a:ea typeface="HGPｺﾞｼｯｸE"/>
                </a:rPr>
                <a:t>行政の高度化</a:t>
              </a: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6C2C-6ACD-4406-9C2E-EE16D4912A72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HGPｺﾞｼｯｸE"/>
              </a:rPr>
              <a:t>２－１．本研究会の目指す姿について</a:t>
            </a:r>
            <a:endParaRPr b="0" lang="en-US" sz="3500" spc="-1" strike="noStrike">
              <a:solidFill>
                <a:srgbClr val="000000"/>
              </a:solidFill>
              <a:latin typeface="HGPｺﾞｼｯｸE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72360" cy="3862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755640" y="2949480"/>
            <a:ext cx="7488360" cy="911160"/>
          </a:xfrm>
          <a:prstGeom prst="rect">
            <a:avLst/>
          </a:prstGeom>
          <a:noFill/>
          <a:ln cap="rnd" w="507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5661000"/>
            <a:ext cx="4248000" cy="897120"/>
          </a:xfrm>
          <a:prstGeom prst="borderCallout2">
            <a:avLst>
              <a:gd name="adj1" fmla="val 18750"/>
              <a:gd name="adj2" fmla="val -8333"/>
              <a:gd name="adj3" fmla="val 12745"/>
              <a:gd name="adj4" fmla="val 109601"/>
              <a:gd name="adj5" fmla="val -201592"/>
              <a:gd name="adj6" fmla="val 117675"/>
            </a:avLst>
          </a:prstGeom>
          <a:solidFill>
            <a:srgbClr val="ffffdd"/>
          </a:solidFill>
          <a:ln w="3168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地番データの検証結果を踏まえつつ、このレベルを目指していきたいと考えている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851280" y="3017880"/>
            <a:ext cx="1800360" cy="8427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564000" y="2801880"/>
            <a:ext cx="172872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自治会館組合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236000" y="2001960"/>
            <a:ext cx="1800000" cy="8427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126200" y="1824120"/>
            <a:ext cx="1150920" cy="35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市町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22200" y="2060640"/>
            <a:ext cx="1800360" cy="8427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826920" y="5504040"/>
            <a:ext cx="1873440" cy="8982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E452-A139-4752-83D4-E316733BAAE8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HGPｺﾞｼｯｸE"/>
              </a:rPr>
              <a:t>２－２．住所データの整備手法について</a:t>
            </a:r>
            <a:endParaRPr b="0" lang="en-US" sz="35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4080" y="836280"/>
            <a:ext cx="858672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ｺﾞｼｯｸE"/>
              </a:rPr>
              <a:t>整備計画（素案）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57" name=""/>
          <p:cNvSpPr/>
          <p:nvPr/>
        </p:nvSpPr>
        <p:spPr>
          <a:xfrm>
            <a:off x="4068720" y="3860640"/>
            <a:ext cx="1230480" cy="86544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住所データ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（県全域）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8" name=""/>
          <p:cNvSpPr/>
          <p:nvPr/>
        </p:nvSpPr>
        <p:spPr>
          <a:xfrm>
            <a:off x="4788000" y="4869000"/>
            <a:ext cx="1801800" cy="718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三重県住所データ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製品仕様書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9" name=""/>
          <p:cNvSpPr/>
          <p:nvPr/>
        </p:nvSpPr>
        <p:spPr>
          <a:xfrm>
            <a:off x="1403280" y="2708280"/>
            <a:ext cx="1230480" cy="86508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住所データ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0" name=""/>
          <p:cNvSpPr/>
          <p:nvPr/>
        </p:nvSpPr>
        <p:spPr>
          <a:xfrm>
            <a:off x="6661080" y="2708280"/>
            <a:ext cx="1230480" cy="865080"/>
          </a:xfrm>
          <a:prstGeom prst="can">
            <a:avLst>
              <a:gd name="adj" fmla="val 25000"/>
            </a:avLst>
          </a:prstGeom>
          <a:solidFill>
            <a:srgbClr val="ffd1e8"/>
          </a:solidFill>
          <a:ln w="0">
            <a:noFill/>
          </a:ln>
          <a:effectLst>
            <a:outerShdw dist="17819" dir="2700000" blurRad="0" rotWithShape="0">
              <a:srgbClr val="98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地番データ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1" name=""/>
          <p:cNvSpPr/>
          <p:nvPr/>
        </p:nvSpPr>
        <p:spPr>
          <a:xfrm>
            <a:off x="2413080" y="5634000"/>
            <a:ext cx="1230120" cy="86508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住居表示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住所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62" name=""/>
          <p:cNvCxnSpPr>
            <a:stCxn id="361" idx="4"/>
            <a:endCxn id="357" idx="3"/>
          </p:cNvCxnSpPr>
          <p:nvPr/>
        </p:nvCxnSpPr>
        <p:spPr>
          <a:xfrm flipV="1">
            <a:off x="3642840" y="4725720"/>
            <a:ext cx="1042200" cy="1342080"/>
          </a:xfrm>
          <a:prstGeom prst="bentConnector2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9" idx="3"/>
            <a:endCxn id="357" idx="2"/>
          </p:cNvCxnSpPr>
          <p:nvPr/>
        </p:nvCxnSpPr>
        <p:spPr>
          <a:xfrm flipH="1" rot="16200000">
            <a:off x="2682720" y="2908800"/>
            <a:ext cx="721440" cy="2050200"/>
          </a:xfrm>
          <a:prstGeom prst="bentConnector2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60" idx="3"/>
            <a:endCxn id="357" idx="4"/>
          </p:cNvCxnSpPr>
          <p:nvPr/>
        </p:nvCxnSpPr>
        <p:spPr>
          <a:xfrm rot="5400000">
            <a:off x="5927040" y="2944800"/>
            <a:ext cx="721440" cy="1978560"/>
          </a:xfrm>
          <a:prstGeom prst="bentConnector2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539640" y="5361120"/>
            <a:ext cx="1511280" cy="35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国土地理院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6" name=""/>
          <p:cNvSpPr/>
          <p:nvPr/>
        </p:nvSpPr>
        <p:spPr>
          <a:xfrm>
            <a:off x="250920" y="1844640"/>
            <a:ext cx="115092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市町Ａ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7" name=""/>
          <p:cNvSpPr/>
          <p:nvPr/>
        </p:nvSpPr>
        <p:spPr>
          <a:xfrm>
            <a:off x="2266920" y="1773360"/>
            <a:ext cx="1800360" cy="863640"/>
          </a:xfrm>
          <a:prstGeom prst="wedgeRoundRectCallout">
            <a:avLst>
              <a:gd name="adj1" fmla="val -68958"/>
              <a:gd name="adj2" fmla="val 47976"/>
              <a:gd name="adj3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都市計画基礎調査の対象市町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8" name=""/>
          <p:cNvSpPr/>
          <p:nvPr/>
        </p:nvSpPr>
        <p:spPr>
          <a:xfrm>
            <a:off x="5219640" y="1701720"/>
            <a:ext cx="1800360" cy="863640"/>
          </a:xfrm>
          <a:prstGeom prst="wedgeRoundRectCallout">
            <a:avLst>
              <a:gd name="adj1" fmla="val 62259"/>
              <a:gd name="adj2" fmla="val 45037"/>
              <a:gd name="adj3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都市計画基礎調査の対象外市町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653000"/>
            <a:ext cx="1584360" cy="1081080"/>
          </a:xfrm>
          <a:prstGeom prst="wedgeRoundRectCallout">
            <a:avLst>
              <a:gd name="adj1" fmla="val -76351"/>
              <a:gd name="adj2" fmla="val -6976"/>
              <a:gd name="adj3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9360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製品仕様書に基づくデータ仕様の統一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0" name=""/>
          <p:cNvSpPr/>
          <p:nvPr/>
        </p:nvSpPr>
        <p:spPr>
          <a:xfrm>
            <a:off x="2268360" y="4508640"/>
            <a:ext cx="1584360" cy="718920"/>
          </a:xfrm>
          <a:prstGeom prst="wedgeRoundRectCallout">
            <a:avLst>
              <a:gd name="adj1" fmla="val 66333"/>
              <a:gd name="adj2" fmla="val -41833"/>
              <a:gd name="adj3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9360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仕様に基づくデータの加工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780000" y="3068640"/>
            <a:ext cx="1800000" cy="8431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492360" y="2852640"/>
            <a:ext cx="172908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自治会館組合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939000" y="2085840"/>
            <a:ext cx="1800360" cy="8431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6829560" y="1908000"/>
            <a:ext cx="115092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市町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539640" y="1989000"/>
            <a:ext cx="1800360" cy="8431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826920" y="5504040"/>
            <a:ext cx="1873440" cy="898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97C7-43AA-4836-AFEA-6A1A560A8BCC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HGPｺﾞｼｯｸE"/>
              </a:rPr>
              <a:t>２－３．住所データの更新手法について</a:t>
            </a:r>
            <a:endParaRPr b="0" lang="en-US" sz="35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4080" y="836280"/>
            <a:ext cx="858672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ｺﾞｼｯｸE"/>
              </a:rPr>
              <a:t>更新計画（素案）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380" name=""/>
          <p:cNvSpPr/>
          <p:nvPr/>
        </p:nvSpPr>
        <p:spPr>
          <a:xfrm>
            <a:off x="4071960" y="3860640"/>
            <a:ext cx="1231920" cy="93672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住所データ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（県全域）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1" name=""/>
          <p:cNvSpPr/>
          <p:nvPr/>
        </p:nvSpPr>
        <p:spPr>
          <a:xfrm>
            <a:off x="1623960" y="2637000"/>
            <a:ext cx="1231920" cy="936360"/>
          </a:xfrm>
          <a:prstGeom prst="can">
            <a:avLst>
              <a:gd name="adj" fmla="val 25000"/>
            </a:avLst>
          </a:prstGeom>
          <a:solidFill>
            <a:srgbClr val="ffd1e8"/>
          </a:solidFill>
          <a:ln w="0">
            <a:noFill/>
          </a:ln>
          <a:effectLst>
            <a:outerShdw dist="17819" dir="2700000" blurRad="0" rotWithShape="0">
              <a:srgbClr val="98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地番データ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2" name=""/>
          <p:cNvSpPr/>
          <p:nvPr/>
        </p:nvSpPr>
        <p:spPr>
          <a:xfrm>
            <a:off x="2416320" y="5634000"/>
            <a:ext cx="1231920" cy="936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住居表示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住所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83" name=""/>
          <p:cNvCxnSpPr>
            <a:stCxn id="382" idx="4"/>
            <a:endCxn id="380" idx="3"/>
          </p:cNvCxnSpPr>
          <p:nvPr/>
        </p:nvCxnSpPr>
        <p:spPr>
          <a:xfrm flipV="1">
            <a:off x="3648240" y="4796640"/>
            <a:ext cx="1040400" cy="1305720"/>
          </a:xfrm>
          <a:prstGeom prst="bentConnector2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81" idx="3"/>
            <a:endCxn id="380" idx="2"/>
          </p:cNvCxnSpPr>
          <p:nvPr/>
        </p:nvCxnSpPr>
        <p:spPr>
          <a:xfrm flipH="1" rot="16200000">
            <a:off x="2777040" y="3034800"/>
            <a:ext cx="756360" cy="1832760"/>
          </a:xfrm>
          <a:prstGeom prst="bentConnector2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86" idx="3"/>
            <a:endCxn id="380" idx="4"/>
          </p:cNvCxnSpPr>
          <p:nvPr/>
        </p:nvCxnSpPr>
        <p:spPr>
          <a:xfrm rot="5400000">
            <a:off x="5769000" y="3262680"/>
            <a:ext cx="600840" cy="1532520"/>
          </a:xfrm>
          <a:prstGeom prst="bentConnector2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539640" y="5361120"/>
            <a:ext cx="1511280" cy="35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国土地理院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8" name=""/>
          <p:cNvSpPr/>
          <p:nvPr/>
        </p:nvSpPr>
        <p:spPr>
          <a:xfrm>
            <a:off x="468360" y="1773360"/>
            <a:ext cx="1150920" cy="35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市町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9" name=""/>
          <p:cNvSpPr/>
          <p:nvPr/>
        </p:nvSpPr>
        <p:spPr>
          <a:xfrm>
            <a:off x="5135400" y="1895400"/>
            <a:ext cx="1584360" cy="719280"/>
          </a:xfrm>
          <a:prstGeom prst="wedgeRoundRectCallout">
            <a:avLst>
              <a:gd name="adj1" fmla="val 63925"/>
              <a:gd name="adj2" fmla="val 44041"/>
              <a:gd name="adj3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住居表示地区を有する市町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6" name=""/>
          <p:cNvSpPr/>
          <p:nvPr/>
        </p:nvSpPr>
        <p:spPr>
          <a:xfrm>
            <a:off x="6219720" y="2792520"/>
            <a:ext cx="1231920" cy="936360"/>
          </a:xfrm>
          <a:prstGeom prst="can">
            <a:avLst>
              <a:gd name="adj" fmla="val 25000"/>
            </a:avLst>
          </a:prstGeom>
          <a:solidFill>
            <a:srgbClr val="ffd1e8"/>
          </a:solidFill>
          <a:ln w="0">
            <a:noFill/>
          </a:ln>
          <a:effectLst>
            <a:outerShdw dist="17819" dir="2700000" blurRad="0" rotWithShape="0">
              <a:srgbClr val="98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地番データ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0" name=""/>
          <p:cNvSpPr/>
          <p:nvPr/>
        </p:nvSpPr>
        <p:spPr>
          <a:xfrm>
            <a:off x="7439040" y="2903400"/>
            <a:ext cx="1584360" cy="863640"/>
          </a:xfrm>
          <a:prstGeom prst="parallelogram">
            <a:avLst>
              <a:gd name="adj" fmla="val 45863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住居表示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台帳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91" name=""/>
          <p:cNvCxnSpPr>
            <a:stCxn id="390" idx="4"/>
          </p:cNvCxnSpPr>
          <p:nvPr/>
        </p:nvCxnSpPr>
        <p:spPr>
          <a:xfrm rot="5400000">
            <a:off x="6393600" y="2795760"/>
            <a:ext cx="866160" cy="2808720"/>
          </a:xfrm>
          <a:prstGeom prst="bentConnector2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392" name=""/>
          <p:cNvCxnSpPr/>
          <p:nvPr/>
        </p:nvCxnSpPr>
        <p:spPr>
          <a:xfrm rot="5400000">
            <a:off x="3623400" y="4868640"/>
            <a:ext cx="1583640" cy="1440360"/>
          </a:xfrm>
          <a:prstGeom prst="bentConnector3">
            <a:avLst>
              <a:gd name="adj1" fmla="val 100477"/>
            </a:avLst>
          </a:prstGeom>
          <a:ln w="38160">
            <a:solidFill>
              <a:srgbClr val="993300"/>
            </a:solidFill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468360" y="3933720"/>
            <a:ext cx="1657440" cy="863640"/>
          </a:xfrm>
          <a:prstGeom prst="wedgeRoundRectCallout">
            <a:avLst>
              <a:gd name="adj1" fmla="val 46648"/>
              <a:gd name="adj2" fmla="val -75550"/>
              <a:gd name="adj3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各市町、年１回自治会館組合へ提供する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5994360"/>
            <a:ext cx="1800000" cy="863640"/>
          </a:xfrm>
          <a:prstGeom prst="wedgeRoundRectCallout">
            <a:avLst>
              <a:gd name="adj1" fmla="val -70370"/>
              <a:gd name="adj2" fmla="val -16726"/>
              <a:gd name="adj3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9360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住居表示台帳の提供は、国土地理院と調整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1628640"/>
            <a:ext cx="8713800" cy="360072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6" name=""/>
          <p:cNvSpPr/>
          <p:nvPr/>
        </p:nvSpPr>
        <p:spPr>
          <a:xfrm>
            <a:off x="5508720" y="4941720"/>
            <a:ext cx="1801800" cy="719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三重県住所データ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更新ガイドライン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7" name=""/>
          <p:cNvSpPr/>
          <p:nvPr/>
        </p:nvSpPr>
        <p:spPr>
          <a:xfrm>
            <a:off x="7559640" y="4869000"/>
            <a:ext cx="1584360" cy="865080"/>
          </a:xfrm>
          <a:prstGeom prst="wedgeRoundRectCallout">
            <a:avLst>
              <a:gd name="adj1" fmla="val -71342"/>
              <a:gd name="adj2" fmla="val 3759"/>
              <a:gd name="adj3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9360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住所データの更新ルールを規定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829480" y="2476440"/>
            <a:ext cx="1800000" cy="843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541840" y="2260440"/>
            <a:ext cx="172908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自治会館組合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861840" y="2990880"/>
            <a:ext cx="1800360" cy="84276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23C4-9F35-4BBE-B9C7-CB91DE9C6B54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HGPｺﾞｼｯｸE"/>
              </a:rPr>
              <a:t>２－３．住所データの利活用手法について</a:t>
            </a:r>
            <a:endParaRPr b="0" lang="en-US" sz="35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4080" y="836640"/>
            <a:ext cx="8586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ｺﾞｼｯｸE"/>
              </a:rPr>
              <a:t>利活用計画（素案）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601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住所データの利用は行政内利用を前提とする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04" name=""/>
          <p:cNvSpPr/>
          <p:nvPr/>
        </p:nvSpPr>
        <p:spPr>
          <a:xfrm>
            <a:off x="5254560" y="3843360"/>
            <a:ext cx="1231920" cy="93672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住所データ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（県全域）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5" name=""/>
          <p:cNvSpPr/>
          <p:nvPr/>
        </p:nvSpPr>
        <p:spPr>
          <a:xfrm>
            <a:off x="790560" y="2774880"/>
            <a:ext cx="115092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市町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406" name="Picture 123" descr=""/>
          <p:cNvPicPr/>
          <p:nvPr/>
        </p:nvPicPr>
        <p:blipFill>
          <a:blip r:embed="rId3"/>
          <a:stretch/>
        </p:blipFill>
        <p:spPr>
          <a:xfrm>
            <a:off x="6551640" y="3770280"/>
            <a:ext cx="1225440" cy="111132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122"/>
          <p:cNvSpPr/>
          <p:nvPr/>
        </p:nvSpPr>
        <p:spPr>
          <a:xfrm>
            <a:off x="4965840" y="3340080"/>
            <a:ext cx="3022560" cy="361800"/>
          </a:xfrm>
          <a:prstGeom prst="flowChartAlternateProcess">
            <a:avLst/>
          </a:prstGeom>
          <a:solidFill>
            <a:srgbClr val="287a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アドレスマッチングサービス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933480" y="5068800"/>
            <a:ext cx="1800360" cy="843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861840" y="4853160"/>
            <a:ext cx="1151280" cy="35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三重県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0" name="メモ 28"/>
          <p:cNvSpPr/>
          <p:nvPr/>
        </p:nvSpPr>
        <p:spPr>
          <a:xfrm>
            <a:off x="2446200" y="3495600"/>
            <a:ext cx="1295640" cy="781200"/>
          </a:xfrm>
          <a:prstGeom prst="foldedCorner">
            <a:avLst>
              <a:gd name="adj" fmla="val 16666"/>
            </a:avLst>
          </a:prstGeom>
          <a:solidFill>
            <a:srgbClr val="cc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施設リスト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・・・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・・・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1" name="Freeform 7"/>
          <p:cNvSpPr/>
          <p:nvPr/>
        </p:nvSpPr>
        <p:spPr>
          <a:xfrm rot="2824800">
            <a:off x="3885480" y="4131720"/>
            <a:ext cx="1009440" cy="44604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953" h="597">
                <a:moveTo>
                  <a:pt x="0" y="590"/>
                </a:moveTo>
                <a:cubicBezTo>
                  <a:pt x="170" y="593"/>
                  <a:pt x="340" y="597"/>
                  <a:pt x="499" y="499"/>
                </a:cubicBezTo>
                <a:cubicBezTo>
                  <a:pt x="658" y="401"/>
                  <a:pt x="805" y="200"/>
                  <a:pt x="953" y="0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2" name="Freeform 7"/>
          <p:cNvSpPr/>
          <p:nvPr/>
        </p:nvSpPr>
        <p:spPr>
          <a:xfrm rot="14536200">
            <a:off x="4029480" y="3338640"/>
            <a:ext cx="1009800" cy="44604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953" h="597">
                <a:moveTo>
                  <a:pt x="0" y="590"/>
                </a:moveTo>
                <a:cubicBezTo>
                  <a:pt x="170" y="593"/>
                  <a:pt x="340" y="597"/>
                  <a:pt x="499" y="499"/>
                </a:cubicBezTo>
                <a:cubicBezTo>
                  <a:pt x="658" y="401"/>
                  <a:pt x="805" y="200"/>
                  <a:pt x="953" y="0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3" name=""/>
          <p:cNvSpPr/>
          <p:nvPr/>
        </p:nvSpPr>
        <p:spPr>
          <a:xfrm>
            <a:off x="2517840" y="2558880"/>
            <a:ext cx="1079280" cy="86544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ＧＩＳデータ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4" name=""/>
          <p:cNvSpPr/>
          <p:nvPr/>
        </p:nvSpPr>
        <p:spPr>
          <a:xfrm>
            <a:off x="2589120" y="5211720"/>
            <a:ext cx="1231920" cy="93672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住所データ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（県全域）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15" name=""/>
          <p:cNvCxnSpPr>
            <a:stCxn id="404" idx="3"/>
            <a:endCxn id="414" idx="4"/>
          </p:cNvCxnSpPr>
          <p:nvPr/>
        </p:nvCxnSpPr>
        <p:spPr>
          <a:xfrm rot="5400000">
            <a:off x="4394880" y="4205160"/>
            <a:ext cx="900720" cy="2050200"/>
          </a:xfrm>
          <a:prstGeom prst="bentConnector2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416" name="AutoShape 122"/>
          <p:cNvSpPr/>
          <p:nvPr/>
        </p:nvSpPr>
        <p:spPr>
          <a:xfrm>
            <a:off x="4965840" y="4924440"/>
            <a:ext cx="3166920" cy="361800"/>
          </a:xfrm>
          <a:prstGeom prst="flowChartAlternateProcess">
            <a:avLst/>
          </a:prstGeom>
          <a:solidFill>
            <a:srgbClr val="287a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住所データ管理・提供サービス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7" name=""/>
          <p:cNvSpPr/>
          <p:nvPr/>
        </p:nvSpPr>
        <p:spPr>
          <a:xfrm>
            <a:off x="430200" y="2044800"/>
            <a:ext cx="8136000" cy="431964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8" name=""/>
          <p:cNvSpPr/>
          <p:nvPr/>
        </p:nvSpPr>
        <p:spPr>
          <a:xfrm>
            <a:off x="5110200" y="5861160"/>
            <a:ext cx="1801800" cy="718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三重県住所データ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利用ガイドライン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9" name=""/>
          <p:cNvSpPr/>
          <p:nvPr/>
        </p:nvSpPr>
        <p:spPr>
          <a:xfrm>
            <a:off x="7270920" y="5427720"/>
            <a:ext cx="1584000" cy="865080"/>
          </a:xfrm>
          <a:prstGeom prst="wedgeRoundRectCallout">
            <a:avLst>
              <a:gd name="adj1" fmla="val -76351"/>
              <a:gd name="adj2" fmla="val 30185"/>
              <a:gd name="adj3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9360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住所データの利用ルールを規定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7DEF-8FFB-4FDA-828A-564A6E01E6BB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HGPｺﾞｼｯｸE"/>
              </a:rPr>
              <a:t>２－４．意見交換</a:t>
            </a:r>
            <a:endParaRPr b="0" lang="en-US" sz="35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62000" y="1052640"/>
            <a:ext cx="8586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ｺﾞｼｯｸE"/>
              </a:rPr>
              <a:t>計画（素案）として提示させて頂いた内容について、ご質問・ご意見等があればお願い致します。</a:t>
            </a: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ｺﾞｼｯｸ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4106-C81E-4E1B-8A14-E446607DD125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ｺﾞｼｯｸE"/>
              </a:rPr>
              <a:t>３．その他</a:t>
            </a:r>
            <a:endParaRPr b="0" lang="en-US" sz="4400" spc="-1" strike="noStrike">
              <a:solidFill>
                <a:srgbClr val="000000"/>
              </a:solidFill>
              <a:latin typeface="HGPｺﾞｼｯｸ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スライド番号プレースホルダ 5"/>
          <p:cNvSpPr/>
          <p:nvPr/>
        </p:nvSpPr>
        <p:spPr>
          <a:xfrm>
            <a:off x="65530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7920-7568-4426-97DD-3B968D5C5302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080" y="77760"/>
            <a:ext cx="8810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第１回研究会のおさらい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5360" y="87912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議題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１．地理空間情報利活用研究会について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２．研究テーマの背景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３．本研究の概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住所データの整備・更新手法の検討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住所データの利活用手法の検討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結果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601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今年度の研究テーマとして、県域レベルの住所データの整備・更新手法及び、その利活用手法に関する検討を行うことを了承頂きました。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01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住所データに関する検討を行うための基本情報の収集を目的とした、アンケート調査を実施することを了承頂きました。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スライド番号プレースホルダ 3"/>
          <p:cNvSpPr/>
          <p:nvPr/>
        </p:nvSpPr>
        <p:spPr>
          <a:xfrm>
            <a:off x="65530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303C-BA2E-4CD7-A57A-50F9EB25D8E2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4080" y="77760"/>
            <a:ext cx="8810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３－１．都市計画ＷＧの検討状況について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28" name="Rectangle 55"/>
          <p:cNvSpPr/>
          <p:nvPr/>
        </p:nvSpPr>
        <p:spPr>
          <a:xfrm>
            <a:off x="324000" y="3573360"/>
            <a:ext cx="6335640" cy="2951280"/>
          </a:xfrm>
          <a:prstGeom prst="rect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UI Gothic"/>
              </a:rPr>
              <a:t>【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MS UI Gothic"/>
              </a:rPr>
              <a:t>都市計画主題データの共同更新の仕組み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UI Gothic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204840" y="954000"/>
            <a:ext cx="864072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都市計画主題データの共同更新実験の実施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現在、昨年度に作成した「都市計画主題データ更新ガイドライン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案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」に基づいた、都市計画主題データ共同更新の実証実験を実施中で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共同更新の実証実験では、定期的なレビューを行い、実際の更新作業における課題抽出や対応策を検討していま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6e962e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先月開催した第２回都市計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において、第１回中間レビューを実施しました。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430" name="Picture 36" descr=""/>
          <p:cNvPicPr/>
          <p:nvPr/>
        </p:nvPicPr>
        <p:blipFill>
          <a:blip r:embed="rId1"/>
          <a:stretch/>
        </p:blipFill>
        <p:spPr>
          <a:xfrm>
            <a:off x="4910040" y="4800600"/>
            <a:ext cx="1366920" cy="6397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7" descr=""/>
          <p:cNvPicPr/>
          <p:nvPr/>
        </p:nvPicPr>
        <p:blipFill>
          <a:blip r:embed="rId2"/>
          <a:stretch/>
        </p:blipFill>
        <p:spPr>
          <a:xfrm>
            <a:off x="1662120" y="4152960"/>
            <a:ext cx="1235160" cy="590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8" descr=""/>
          <p:cNvPicPr/>
          <p:nvPr/>
        </p:nvPicPr>
        <p:blipFill>
          <a:blip r:embed="rId3"/>
          <a:stretch/>
        </p:blipFill>
        <p:spPr>
          <a:xfrm>
            <a:off x="663480" y="4867200"/>
            <a:ext cx="1235160" cy="590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" descr=""/>
          <p:cNvPicPr/>
          <p:nvPr/>
        </p:nvPicPr>
        <p:blipFill>
          <a:blip r:embed="rId4"/>
          <a:stretch/>
        </p:blipFill>
        <p:spPr>
          <a:xfrm>
            <a:off x="1671480" y="5651640"/>
            <a:ext cx="1235160" cy="59040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40"/>
          <p:cNvSpPr/>
          <p:nvPr/>
        </p:nvSpPr>
        <p:spPr>
          <a:xfrm>
            <a:off x="4767120" y="5373720"/>
            <a:ext cx="863640" cy="723960"/>
          </a:xfrm>
          <a:prstGeom prst="can">
            <a:avLst>
              <a:gd name="adj" fmla="val 25000"/>
            </a:avLst>
          </a:prstGeom>
          <a:solidFill>
            <a:srgbClr val="ffbfb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UI Gothic"/>
              </a:rPr>
              <a:t>都市計画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UI Gothic"/>
              </a:rPr>
              <a:t>主題データ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UI Gothic"/>
              </a:rPr>
              <a:t>（県全域）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5" name="Line 41"/>
          <p:cNvSpPr/>
          <p:nvPr/>
        </p:nvSpPr>
        <p:spPr>
          <a:xfrm>
            <a:off x="3397320" y="4645080"/>
            <a:ext cx="12970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6" name="Line 42"/>
          <p:cNvSpPr/>
          <p:nvPr/>
        </p:nvSpPr>
        <p:spPr>
          <a:xfrm>
            <a:off x="2246400" y="52052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7" name="Line 43"/>
          <p:cNvSpPr/>
          <p:nvPr/>
        </p:nvSpPr>
        <p:spPr>
          <a:xfrm flipV="1">
            <a:off x="3254400" y="5349600"/>
            <a:ext cx="1440000" cy="53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8" name="AutoShape 44"/>
          <p:cNvSpPr/>
          <p:nvPr/>
        </p:nvSpPr>
        <p:spPr>
          <a:xfrm>
            <a:off x="3613320" y="5737320"/>
            <a:ext cx="938160" cy="504720"/>
          </a:xfrm>
          <a:prstGeom prst="leftArrow">
            <a:avLst>
              <a:gd name="adj1" fmla="val 50000"/>
              <a:gd name="adj2" fmla="val 464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9" name="Rectangle 45"/>
          <p:cNvSpPr/>
          <p:nvPr/>
        </p:nvSpPr>
        <p:spPr>
          <a:xfrm>
            <a:off x="4908600" y="458640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自治会館組合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0" name="Rectangle 46"/>
          <p:cNvSpPr/>
          <p:nvPr/>
        </p:nvSpPr>
        <p:spPr>
          <a:xfrm>
            <a:off x="1617840" y="4027320"/>
            <a:ext cx="72072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市町Ａ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1" name="Rectangle 47"/>
          <p:cNvSpPr/>
          <p:nvPr/>
        </p:nvSpPr>
        <p:spPr>
          <a:xfrm>
            <a:off x="611280" y="4724280"/>
            <a:ext cx="7207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市町Ｂ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2" name="Rectangle 48"/>
          <p:cNvSpPr/>
          <p:nvPr/>
        </p:nvSpPr>
        <p:spPr>
          <a:xfrm>
            <a:off x="1628640" y="5587920"/>
            <a:ext cx="7207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市町Ｃ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3" name="AutoShape 49"/>
          <p:cNvSpPr/>
          <p:nvPr/>
        </p:nvSpPr>
        <p:spPr>
          <a:xfrm>
            <a:off x="1668600" y="5192640"/>
            <a:ext cx="503280" cy="28908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MS UI Gothic"/>
              </a:rPr>
              <a:t>共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UI Gothic"/>
              </a:rPr>
              <a:t>DM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4" name="AutoShape 50"/>
          <p:cNvSpPr/>
          <p:nvPr/>
        </p:nvSpPr>
        <p:spPr>
          <a:xfrm>
            <a:off x="1668600" y="4941720"/>
            <a:ext cx="503280" cy="289080"/>
          </a:xfrm>
          <a:prstGeom prst="can">
            <a:avLst>
              <a:gd name="adj" fmla="val 25000"/>
            </a:avLst>
          </a:prstGeom>
          <a:solidFill>
            <a:srgbClr val="ffbfb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MS UI Gothic"/>
              </a:rPr>
              <a:t>更新情報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5" name="AutoShape 51"/>
          <p:cNvSpPr/>
          <p:nvPr/>
        </p:nvSpPr>
        <p:spPr>
          <a:xfrm>
            <a:off x="2747880" y="4471920"/>
            <a:ext cx="503280" cy="28908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MS UI Gothic"/>
              </a:rPr>
              <a:t>共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UI Gothic"/>
              </a:rPr>
              <a:t>DM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6" name="AutoShape 52"/>
          <p:cNvSpPr/>
          <p:nvPr/>
        </p:nvSpPr>
        <p:spPr>
          <a:xfrm>
            <a:off x="2747880" y="4221000"/>
            <a:ext cx="503280" cy="289080"/>
          </a:xfrm>
          <a:prstGeom prst="can">
            <a:avLst>
              <a:gd name="adj" fmla="val 25000"/>
            </a:avLst>
          </a:prstGeom>
          <a:solidFill>
            <a:srgbClr val="ffbfb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MS UI Gothic"/>
              </a:rPr>
              <a:t>更新情報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7" name="AutoShape 53"/>
          <p:cNvSpPr/>
          <p:nvPr/>
        </p:nvSpPr>
        <p:spPr>
          <a:xfrm>
            <a:off x="2819520" y="6093000"/>
            <a:ext cx="503280" cy="288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MS UI Gothic"/>
              </a:rPr>
              <a:t>共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UI Gothic"/>
              </a:rPr>
              <a:t>DM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8" name="AutoShape 54"/>
          <p:cNvSpPr/>
          <p:nvPr/>
        </p:nvSpPr>
        <p:spPr>
          <a:xfrm>
            <a:off x="2819520" y="5842080"/>
            <a:ext cx="503280" cy="288720"/>
          </a:xfrm>
          <a:prstGeom prst="can">
            <a:avLst>
              <a:gd name="adj" fmla="val 25000"/>
            </a:avLst>
          </a:prstGeom>
          <a:solidFill>
            <a:srgbClr val="ffbfb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MS UI Gothic"/>
              </a:rPr>
              <a:t>更新情報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9" name="AutoShape 56"/>
          <p:cNvSpPr/>
          <p:nvPr/>
        </p:nvSpPr>
        <p:spPr>
          <a:xfrm>
            <a:off x="6346800" y="3705120"/>
            <a:ext cx="1452600" cy="1092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MS UI Gothic"/>
              </a:rPr>
              <a:t>都市計画主題データの更新ガイドライン（案）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0" name="AutoShape 57"/>
          <p:cNvSpPr/>
          <p:nvPr/>
        </p:nvSpPr>
        <p:spPr>
          <a:xfrm>
            <a:off x="6443640" y="5373720"/>
            <a:ext cx="1944720" cy="792000"/>
          </a:xfrm>
          <a:prstGeom prst="wedgeRoundRectCallout">
            <a:avLst>
              <a:gd name="adj1" fmla="val -69509"/>
              <a:gd name="adj2" fmla="val -29958"/>
              <a:gd name="adj3" fmla="val 16667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共同更新実験は、昨年度の都市計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UI Gothic"/>
              </a:rPr>
              <a:t>W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の参加市町が対象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スライド番号プレースホルダ 3"/>
          <p:cNvSpPr/>
          <p:nvPr/>
        </p:nvSpPr>
        <p:spPr>
          <a:xfrm>
            <a:off x="65530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8B51-89E6-4AAB-A6DB-1E4AC81CD240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4080" y="77760"/>
            <a:ext cx="8810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３－１．都市計画ＷＧの検討状況について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128520" y="83664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②</a:t>
            </a:r>
            <a:r>
              <a:rPr b="0" lang="ja-JP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都市計画主題データの配信手法の検討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三重県全域における都市計画主題データ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配信の実現を目的として、現在、三重県が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ＧＩＳとして運用中の「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MieClickMap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」を利用した配信手法を検討中で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これまで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は、実際の配信にあたっての課題や、その対応方法について協議を実施していま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454" name="Group 69"/>
          <p:cNvGrpSpPr/>
          <p:nvPr/>
        </p:nvGrpSpPr>
        <p:grpSpPr>
          <a:xfrm>
            <a:off x="361800" y="3225960"/>
            <a:ext cx="8221680" cy="3381120"/>
            <a:chOff x="361800" y="3225960"/>
            <a:chExt cx="8221680" cy="3381120"/>
          </a:xfrm>
        </p:grpSpPr>
        <p:pic>
          <p:nvPicPr>
            <p:cNvPr id="455" name="Picture 2" descr=""/>
            <p:cNvPicPr/>
            <p:nvPr/>
          </p:nvPicPr>
          <p:blipFill>
            <a:blip r:embed="rId1"/>
            <a:stretch/>
          </p:blipFill>
          <p:spPr>
            <a:xfrm>
              <a:off x="2506680" y="3998880"/>
              <a:ext cx="14191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" descr=""/>
            <p:cNvPicPr/>
            <p:nvPr/>
          </p:nvPicPr>
          <p:blipFill>
            <a:blip r:embed="rId2"/>
            <a:stretch/>
          </p:blipFill>
          <p:spPr>
            <a:xfrm>
              <a:off x="2504880" y="4689360"/>
              <a:ext cx="14209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" descr=""/>
            <p:cNvPicPr/>
            <p:nvPr/>
          </p:nvPicPr>
          <p:blipFill>
            <a:blip r:embed="rId3"/>
            <a:stretch/>
          </p:blipFill>
          <p:spPr>
            <a:xfrm>
              <a:off x="2579760" y="5459400"/>
              <a:ext cx="1420560" cy="552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58" name="直線矢印コネクタ 78"/>
            <p:cNvCxnSpPr/>
            <p:nvPr/>
          </p:nvCxnSpPr>
          <p:spPr>
            <a:xfrm flipH="1" flipV="1">
              <a:off x="4144680" y="5773320"/>
              <a:ext cx="1674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459" name="直線矢印コネクタ 79"/>
            <p:cNvCxnSpPr/>
            <p:nvPr/>
          </p:nvCxnSpPr>
          <p:spPr>
            <a:xfrm flipH="1">
              <a:off x="4409280" y="5167800"/>
              <a:ext cx="154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460" name="直線矢印コネクタ 80"/>
            <p:cNvCxnSpPr/>
            <p:nvPr/>
          </p:nvCxnSpPr>
          <p:spPr>
            <a:xfrm flipH="1">
              <a:off x="4537800" y="4467240"/>
              <a:ext cx="128052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461" name="直線矢印コネクタ 87"/>
            <p:cNvCxnSpPr/>
            <p:nvPr/>
          </p:nvCxnSpPr>
          <p:spPr>
            <a:xfrm flipH="1" flipV="1">
              <a:off x="4539600" y="4549320"/>
              <a:ext cx="137844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462" name="直線矢印コネクタ 91"/>
            <p:cNvCxnSpPr/>
            <p:nvPr/>
          </p:nvCxnSpPr>
          <p:spPr>
            <a:xfrm flipH="1">
              <a:off x="4439520" y="4800600"/>
              <a:ext cx="142452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  <p:sp>
          <p:nvSpPr>
            <p:cNvPr id="463" name="フリーフォーム 15"/>
            <p:cNvSpPr/>
            <p:nvPr/>
          </p:nvSpPr>
          <p:spPr>
            <a:xfrm>
              <a:off x="5864040" y="4138560"/>
              <a:ext cx="817560" cy="446040"/>
            </a:xfrm>
            <a:custGeom>
              <a:avLst/>
              <a:gdLst/>
              <a:ahLst/>
              <a:rect l="l" t="t" r="r" b="b"/>
              <a:pathLst>
                <a:path w="1147763" h="1157288">
                  <a:moveTo>
                    <a:pt x="552450" y="0"/>
                  </a:moveTo>
                  <a:lnTo>
                    <a:pt x="0" y="404813"/>
                  </a:lnTo>
                  <a:lnTo>
                    <a:pt x="142875" y="404813"/>
                  </a:lnTo>
                  <a:lnTo>
                    <a:pt x="142875" y="1157288"/>
                  </a:lnTo>
                  <a:lnTo>
                    <a:pt x="1014413" y="1157288"/>
                  </a:lnTo>
                  <a:lnTo>
                    <a:pt x="1014413" y="400050"/>
                  </a:lnTo>
                  <a:lnTo>
                    <a:pt x="1147763" y="400050"/>
                  </a:lnTo>
                  <a:lnTo>
                    <a:pt x="55245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469aa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64" name="フリーフォーム 16"/>
            <p:cNvSpPr/>
            <p:nvPr/>
          </p:nvSpPr>
          <p:spPr>
            <a:xfrm>
              <a:off x="5918040" y="4641840"/>
              <a:ext cx="817560" cy="446040"/>
            </a:xfrm>
            <a:custGeom>
              <a:avLst/>
              <a:gdLst/>
              <a:ahLst/>
              <a:rect l="l" t="t" r="r" b="b"/>
              <a:pathLst>
                <a:path w="1147763" h="1157288">
                  <a:moveTo>
                    <a:pt x="552450" y="0"/>
                  </a:moveTo>
                  <a:lnTo>
                    <a:pt x="0" y="404813"/>
                  </a:lnTo>
                  <a:lnTo>
                    <a:pt x="142875" y="404813"/>
                  </a:lnTo>
                  <a:lnTo>
                    <a:pt x="142875" y="1157288"/>
                  </a:lnTo>
                  <a:lnTo>
                    <a:pt x="1014413" y="1157288"/>
                  </a:lnTo>
                  <a:lnTo>
                    <a:pt x="1014413" y="400050"/>
                  </a:lnTo>
                  <a:lnTo>
                    <a:pt x="1147763" y="400050"/>
                  </a:lnTo>
                  <a:lnTo>
                    <a:pt x="55245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469aa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65" name="フリーフォーム 17"/>
            <p:cNvSpPr/>
            <p:nvPr/>
          </p:nvSpPr>
          <p:spPr>
            <a:xfrm>
              <a:off x="6014880" y="5340240"/>
              <a:ext cx="817560" cy="443160"/>
            </a:xfrm>
            <a:custGeom>
              <a:avLst/>
              <a:gdLst/>
              <a:ahLst/>
              <a:rect l="l" t="t" r="r" b="b"/>
              <a:pathLst>
                <a:path w="1147763" h="1157288">
                  <a:moveTo>
                    <a:pt x="552450" y="0"/>
                  </a:moveTo>
                  <a:lnTo>
                    <a:pt x="0" y="404813"/>
                  </a:lnTo>
                  <a:lnTo>
                    <a:pt x="142875" y="404813"/>
                  </a:lnTo>
                  <a:lnTo>
                    <a:pt x="142875" y="1157288"/>
                  </a:lnTo>
                  <a:lnTo>
                    <a:pt x="1014413" y="1157288"/>
                  </a:lnTo>
                  <a:lnTo>
                    <a:pt x="1014413" y="400050"/>
                  </a:lnTo>
                  <a:lnTo>
                    <a:pt x="1147763" y="400050"/>
                  </a:lnTo>
                  <a:lnTo>
                    <a:pt x="55245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469aa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66" name="フリーフォーム 18"/>
            <p:cNvSpPr/>
            <p:nvPr/>
          </p:nvSpPr>
          <p:spPr>
            <a:xfrm>
              <a:off x="5818320" y="5862600"/>
              <a:ext cx="817560" cy="442800"/>
            </a:xfrm>
            <a:custGeom>
              <a:avLst/>
              <a:gdLst/>
              <a:ahLst/>
              <a:rect l="l" t="t" r="r" b="b"/>
              <a:pathLst>
                <a:path w="1147763" h="1157288">
                  <a:moveTo>
                    <a:pt x="552450" y="0"/>
                  </a:moveTo>
                  <a:lnTo>
                    <a:pt x="0" y="404813"/>
                  </a:lnTo>
                  <a:lnTo>
                    <a:pt x="142875" y="404813"/>
                  </a:lnTo>
                  <a:lnTo>
                    <a:pt x="142875" y="1157288"/>
                  </a:lnTo>
                  <a:lnTo>
                    <a:pt x="1014413" y="1157288"/>
                  </a:lnTo>
                  <a:lnTo>
                    <a:pt x="1014413" y="400050"/>
                  </a:lnTo>
                  <a:lnTo>
                    <a:pt x="1147763" y="400050"/>
                  </a:lnTo>
                  <a:lnTo>
                    <a:pt x="55245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469aa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467" name="Picture 2" descr=""/>
            <p:cNvPicPr/>
            <p:nvPr/>
          </p:nvPicPr>
          <p:blipFill>
            <a:blip r:embed="rId4"/>
            <a:stretch/>
          </p:blipFill>
          <p:spPr>
            <a:xfrm>
              <a:off x="2577960" y="6056280"/>
              <a:ext cx="1422360" cy="550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68" name="直線矢印コネクタ 78"/>
            <p:cNvCxnSpPr/>
            <p:nvPr/>
          </p:nvCxnSpPr>
          <p:spPr>
            <a:xfrm flipH="1">
              <a:off x="4242600" y="5688000"/>
              <a:ext cx="1772280" cy="57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469" name="直線矢印コネクタ 90"/>
            <p:cNvCxnSpPr/>
            <p:nvPr/>
          </p:nvCxnSpPr>
          <p:spPr>
            <a:xfrm flipH="1">
              <a:off x="5029920" y="4989240"/>
              <a:ext cx="888120" cy="95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470" name="直線矢印コネクタ 87"/>
            <p:cNvCxnSpPr/>
            <p:nvPr/>
          </p:nvCxnSpPr>
          <p:spPr>
            <a:xfrm flipH="1" flipV="1">
              <a:off x="4439520" y="5164920"/>
              <a:ext cx="1478520" cy="43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  <p:sp>
          <p:nvSpPr>
            <p:cNvPr id="471" name="正方形/長方形 23"/>
            <p:cNvSpPr/>
            <p:nvPr/>
          </p:nvSpPr>
          <p:spPr>
            <a:xfrm>
              <a:off x="2165400" y="3225960"/>
              <a:ext cx="5254560" cy="50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＜目指す姿＞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全市町の都市計画情報を</a:t>
              </a:r>
              <a:r>
                <a:rPr b="1" lang="en-US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Web</a:t>
              </a:r>
              <a:r>
                <a:rPr b="1" lang="ja-JP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配信で住民へ提供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72" name="正方形/長方形 63"/>
            <p:cNvSpPr/>
            <p:nvPr/>
          </p:nvSpPr>
          <p:spPr>
            <a:xfrm>
              <a:off x="3717720" y="4616280"/>
              <a:ext cx="58896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ffffff"/>
                  </a:solidFill>
                  <a:latin typeface="Arial"/>
                  <a:ea typeface="MS UI Gothic"/>
                </a:rPr>
                <a:t>共有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UI Gothic"/>
                </a:rPr>
                <a:t>DM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73" name="正方形/長方形 67"/>
            <p:cNvSpPr/>
            <p:nvPr/>
          </p:nvSpPr>
          <p:spPr>
            <a:xfrm>
              <a:off x="3836880" y="4403880"/>
              <a:ext cx="3938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ffffff"/>
                  </a:solidFill>
                  <a:latin typeface="Arial"/>
                  <a:ea typeface="MS UI Gothic"/>
                </a:rPr>
                <a:t>主題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cxnSp>
          <p:nvCxnSpPr>
            <p:cNvPr id="474" name="直線矢印コネクタ 80"/>
            <p:cNvCxnSpPr/>
            <p:nvPr/>
          </p:nvCxnSpPr>
          <p:spPr>
            <a:xfrm flipH="1" flipV="1">
              <a:off x="4561560" y="4544640"/>
              <a:ext cx="125676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  <p:sp>
          <p:nvSpPr>
            <p:cNvPr id="475" name="テキスト ボックス 97"/>
            <p:cNvSpPr/>
            <p:nvPr/>
          </p:nvSpPr>
          <p:spPr>
            <a:xfrm>
              <a:off x="4487760" y="6257880"/>
              <a:ext cx="1266840" cy="3070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共同配信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76" name="AutoShape 61"/>
            <p:cNvSpPr/>
            <p:nvPr/>
          </p:nvSpPr>
          <p:spPr>
            <a:xfrm>
              <a:off x="361800" y="5575320"/>
              <a:ext cx="2087640" cy="936720"/>
            </a:xfrm>
            <a:prstGeom prst="wedgeRoundRectCallout">
              <a:avLst>
                <a:gd name="adj1" fmla="val 68629"/>
                <a:gd name="adj2" fmla="val 6439"/>
                <a:gd name="adj3" fmla="val 16667"/>
              </a:avLst>
            </a:pr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5c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現在未配信の市町は、</a:t>
              </a:r>
              <a:r>
                <a:rPr b="0" lang="en-US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MieClickMaps</a:t>
              </a:r>
              <a:r>
                <a:rPr b="0" lang="ja-JP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を利用した共同配信を目指す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77" name="角丸四角形吹き出し 56"/>
            <p:cNvSpPr/>
            <p:nvPr/>
          </p:nvSpPr>
          <p:spPr>
            <a:xfrm>
              <a:off x="361800" y="3919680"/>
              <a:ext cx="1873440" cy="1466640"/>
            </a:xfrm>
            <a:prstGeom prst="wedgeRoundRectCallout">
              <a:avLst>
                <a:gd name="adj1" fmla="val 70675"/>
                <a:gd name="adj2" fmla="val -8657"/>
                <a:gd name="adj3" fmla="val 16667"/>
              </a:avLst>
            </a:pr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5c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既に</a:t>
              </a:r>
              <a:r>
                <a:rPr b="0" lang="en-US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GIS</a:t>
              </a:r>
              <a:r>
                <a:rPr b="0" lang="ja-JP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で</a:t>
              </a:r>
              <a:r>
                <a:rPr b="0" lang="en-US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Web</a:t>
              </a:r>
              <a:r>
                <a:rPr b="0" lang="ja-JP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配信している市町はそのままサービスを継続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（四日市市、鈴鹿市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いなべ市、など）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78" name="AutoShape 59"/>
            <p:cNvSpPr/>
            <p:nvPr/>
          </p:nvSpPr>
          <p:spPr>
            <a:xfrm>
              <a:off x="6999120" y="4221000"/>
              <a:ext cx="1584360" cy="1440000"/>
            </a:xfrm>
            <a:prstGeom prst="wedgeRoundRectCallout">
              <a:avLst>
                <a:gd name="adj1" fmla="val -68435"/>
                <a:gd name="adj2" fmla="val 30597"/>
                <a:gd name="adj3" fmla="val 16667"/>
              </a:avLst>
            </a:prstGeom>
            <a:solidFill>
              <a:srgbClr val="ffcc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住民は、三重県全域の都市計画情報がインターネットを通して閲覧可能となる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79" name="AutoShape 63"/>
            <p:cNvSpPr/>
            <p:nvPr/>
          </p:nvSpPr>
          <p:spPr>
            <a:xfrm>
              <a:off x="3830760" y="5013360"/>
              <a:ext cx="502920" cy="28872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共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80" name="AutoShape 64"/>
            <p:cNvSpPr/>
            <p:nvPr/>
          </p:nvSpPr>
          <p:spPr>
            <a:xfrm>
              <a:off x="3830760" y="4762440"/>
              <a:ext cx="502920" cy="289080"/>
            </a:xfrm>
            <a:prstGeom prst="can">
              <a:avLst>
                <a:gd name="adj" fmla="val 25000"/>
              </a:avLst>
            </a:prstGeom>
            <a:solidFill>
              <a:srgbClr val="ffbfb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都市計画</a:t>
              </a:r>
              <a:endParaRPr b="0" lang="en-US" sz="10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81" name="AutoShape 65"/>
            <p:cNvSpPr/>
            <p:nvPr/>
          </p:nvSpPr>
          <p:spPr>
            <a:xfrm>
              <a:off x="3825720" y="4327560"/>
              <a:ext cx="503280" cy="28872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共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82" name="AutoShape 66"/>
            <p:cNvSpPr/>
            <p:nvPr/>
          </p:nvSpPr>
          <p:spPr>
            <a:xfrm>
              <a:off x="3825720" y="4076640"/>
              <a:ext cx="503280" cy="289080"/>
            </a:xfrm>
            <a:prstGeom prst="can">
              <a:avLst>
                <a:gd name="adj" fmla="val 25000"/>
              </a:avLst>
            </a:prstGeom>
            <a:solidFill>
              <a:srgbClr val="ffbfb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都市計画</a:t>
              </a:r>
              <a:endParaRPr b="0" lang="en-US" sz="10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83" name="AutoShape 67"/>
            <p:cNvSpPr/>
            <p:nvPr/>
          </p:nvSpPr>
          <p:spPr>
            <a:xfrm>
              <a:off x="4838760" y="5911920"/>
              <a:ext cx="503280" cy="28872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共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84" name="AutoShape 68"/>
            <p:cNvSpPr/>
            <p:nvPr/>
          </p:nvSpPr>
          <p:spPr>
            <a:xfrm>
              <a:off x="4838760" y="5661000"/>
              <a:ext cx="503280" cy="289080"/>
            </a:xfrm>
            <a:prstGeom prst="can">
              <a:avLst>
                <a:gd name="adj" fmla="val 25000"/>
              </a:avLst>
            </a:prstGeom>
            <a:solidFill>
              <a:srgbClr val="ffbfb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都市計画</a:t>
              </a:r>
              <a:endParaRPr b="0" lang="en-US" sz="10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CDD4-3911-48D9-AC4A-62A79454B9E9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３－２．安心・安全</a:t>
            </a: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WG</a:t>
            </a: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の検討状況について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487" name="Rectangle 32"/>
          <p:cNvSpPr/>
          <p:nvPr/>
        </p:nvSpPr>
        <p:spPr>
          <a:xfrm>
            <a:off x="250920" y="981000"/>
            <a:ext cx="864072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避難所データの共同更新実験の実施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昨年度に作成した「避難所データ更新・運用ガイドライン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案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」に基づいた、避難所データ共同更新の実証実験を実施中で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共同更新の実証実験では、定期的なレビューを行い、実際の更新作業における課題抽出や対応策を検討していま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8" name="Rectangle 73"/>
          <p:cNvSpPr/>
          <p:nvPr/>
        </p:nvSpPr>
        <p:spPr>
          <a:xfrm>
            <a:off x="336600" y="3433680"/>
            <a:ext cx="8496360" cy="2879640"/>
          </a:xfrm>
          <a:prstGeom prst="rect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UI Gothic"/>
              </a:rPr>
              <a:t>【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MS UI Gothic"/>
              </a:rPr>
              <a:t>避難所データの共同更新、配信の仕組み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UI Gothic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489" name="Group 54"/>
          <p:cNvGrpSpPr/>
          <p:nvPr/>
        </p:nvGrpSpPr>
        <p:grpSpPr>
          <a:xfrm>
            <a:off x="5819040" y="5155560"/>
            <a:ext cx="1239840" cy="764640"/>
            <a:chOff x="5819040" y="5155560"/>
            <a:chExt cx="1239840" cy="764640"/>
          </a:xfrm>
        </p:grpSpPr>
        <p:sp>
          <p:nvSpPr>
            <p:cNvPr id="490" name="Oval 55"/>
            <p:cNvSpPr/>
            <p:nvPr/>
          </p:nvSpPr>
          <p:spPr>
            <a:xfrm rot="20768400">
              <a:off x="5862240" y="5286240"/>
              <a:ext cx="1152720" cy="50328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1" name="Line 56"/>
            <p:cNvSpPr/>
            <p:nvPr/>
          </p:nvSpPr>
          <p:spPr>
            <a:xfrm flipH="1">
              <a:off x="6030360" y="5298480"/>
              <a:ext cx="893160" cy="4928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2" name="Line 57"/>
            <p:cNvSpPr/>
            <p:nvPr/>
          </p:nvSpPr>
          <p:spPr>
            <a:xfrm>
              <a:off x="6140880" y="5376240"/>
              <a:ext cx="622080" cy="291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493" name="AutoShape 34"/>
          <p:cNvSpPr/>
          <p:nvPr/>
        </p:nvSpPr>
        <p:spPr>
          <a:xfrm>
            <a:off x="2536920" y="4524480"/>
            <a:ext cx="503280" cy="288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MS UI Gothic"/>
              </a:rPr>
              <a:t>共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UI Gothic"/>
              </a:rPr>
              <a:t>DM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494" name="Picture 35" descr=""/>
          <p:cNvPicPr/>
          <p:nvPr/>
        </p:nvPicPr>
        <p:blipFill>
          <a:blip r:embed="rId1"/>
          <a:stretch/>
        </p:blipFill>
        <p:spPr>
          <a:xfrm>
            <a:off x="3416400" y="4637160"/>
            <a:ext cx="1366560" cy="639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6" descr=""/>
          <p:cNvPicPr/>
          <p:nvPr/>
        </p:nvPicPr>
        <p:blipFill>
          <a:blip r:embed="rId2"/>
          <a:stretch/>
        </p:blipFill>
        <p:spPr>
          <a:xfrm>
            <a:off x="1376280" y="4062240"/>
            <a:ext cx="1235160" cy="5907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7" descr=""/>
          <p:cNvPicPr/>
          <p:nvPr/>
        </p:nvPicPr>
        <p:blipFill>
          <a:blip r:embed="rId3"/>
          <a:stretch/>
        </p:blipFill>
        <p:spPr>
          <a:xfrm>
            <a:off x="378000" y="4776840"/>
            <a:ext cx="1234800" cy="590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8" descr=""/>
          <p:cNvPicPr/>
          <p:nvPr/>
        </p:nvPicPr>
        <p:blipFill>
          <a:blip r:embed="rId4"/>
          <a:stretch/>
        </p:blipFill>
        <p:spPr>
          <a:xfrm>
            <a:off x="1386000" y="5560920"/>
            <a:ext cx="1234800" cy="590760"/>
          </a:xfrm>
          <a:prstGeom prst="rect">
            <a:avLst/>
          </a:prstGeom>
          <a:ln w="0">
            <a:noFill/>
          </a:ln>
        </p:spPr>
      </p:pic>
      <p:sp>
        <p:nvSpPr>
          <p:cNvPr id="498" name="AutoShape 39"/>
          <p:cNvSpPr/>
          <p:nvPr/>
        </p:nvSpPr>
        <p:spPr>
          <a:xfrm>
            <a:off x="2536920" y="4273560"/>
            <a:ext cx="503280" cy="289080"/>
          </a:xfrm>
          <a:prstGeom prst="can">
            <a:avLst>
              <a:gd name="adj" fmla="val 25000"/>
            </a:avLst>
          </a:prstGeom>
          <a:solidFill>
            <a:srgbClr val="ffbfb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MS UI Gothic"/>
              </a:rPr>
              <a:t>避難所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9" name="AutoShape 40"/>
          <p:cNvSpPr/>
          <p:nvPr/>
        </p:nvSpPr>
        <p:spPr>
          <a:xfrm>
            <a:off x="3414600" y="5143680"/>
            <a:ext cx="792360" cy="574560"/>
          </a:xfrm>
          <a:prstGeom prst="can">
            <a:avLst>
              <a:gd name="adj" fmla="val 25000"/>
            </a:avLst>
          </a:prstGeom>
          <a:solidFill>
            <a:srgbClr val="ffbfb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UI Gothic"/>
              </a:rPr>
              <a:t>避難所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UI Gothic"/>
              </a:rPr>
              <a:t>（県全域）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0" name="Line 41"/>
          <p:cNvSpPr/>
          <p:nvPr/>
        </p:nvSpPr>
        <p:spPr>
          <a:xfrm>
            <a:off x="3111480" y="4554360"/>
            <a:ext cx="2300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1" name="Line 42"/>
          <p:cNvSpPr/>
          <p:nvPr/>
        </p:nvSpPr>
        <p:spPr>
          <a:xfrm>
            <a:off x="2003400" y="5072040"/>
            <a:ext cx="1193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2" name="Line 43"/>
          <p:cNvSpPr/>
          <p:nvPr/>
        </p:nvSpPr>
        <p:spPr>
          <a:xfrm flipV="1">
            <a:off x="2968560" y="5574960"/>
            <a:ext cx="301680" cy="214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3" name="Rectangle 44"/>
          <p:cNvSpPr/>
          <p:nvPr/>
        </p:nvSpPr>
        <p:spPr>
          <a:xfrm>
            <a:off x="3414600" y="4422600"/>
            <a:ext cx="115272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自治会館組合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4" name="Rectangle 45"/>
          <p:cNvSpPr/>
          <p:nvPr/>
        </p:nvSpPr>
        <p:spPr>
          <a:xfrm>
            <a:off x="1332000" y="3936960"/>
            <a:ext cx="7207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市町Ａ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5" name="Rectangle 46"/>
          <p:cNvSpPr/>
          <p:nvPr/>
        </p:nvSpPr>
        <p:spPr>
          <a:xfrm>
            <a:off x="325440" y="4633920"/>
            <a:ext cx="7207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市町Ｂ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6" name="Rectangle 47"/>
          <p:cNvSpPr/>
          <p:nvPr/>
        </p:nvSpPr>
        <p:spPr>
          <a:xfrm>
            <a:off x="1343160" y="5497560"/>
            <a:ext cx="7207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市町Ｃ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507" name="Picture 49" descr=""/>
          <p:cNvPicPr/>
          <p:nvPr/>
        </p:nvPicPr>
        <p:blipFill>
          <a:blip r:embed="rId5"/>
          <a:stretch/>
        </p:blipFill>
        <p:spPr>
          <a:xfrm>
            <a:off x="5273640" y="4562640"/>
            <a:ext cx="1440000" cy="68868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50"/>
          <p:cNvSpPr/>
          <p:nvPr/>
        </p:nvSpPr>
        <p:spPr>
          <a:xfrm>
            <a:off x="5214960" y="4432320"/>
            <a:ext cx="7207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三重県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9" name="Line 51"/>
          <p:cNvSpPr/>
          <p:nvPr/>
        </p:nvSpPr>
        <p:spPr>
          <a:xfrm>
            <a:off x="4422600" y="5430960"/>
            <a:ext cx="6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0" name="AutoShape 52"/>
          <p:cNvSpPr/>
          <p:nvPr/>
        </p:nvSpPr>
        <p:spPr>
          <a:xfrm>
            <a:off x="5357880" y="5143680"/>
            <a:ext cx="792000" cy="574560"/>
          </a:xfrm>
          <a:prstGeom prst="can">
            <a:avLst>
              <a:gd name="adj" fmla="val 25000"/>
            </a:avLst>
          </a:prstGeom>
          <a:solidFill>
            <a:srgbClr val="ffbfb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UI Gothic"/>
              </a:rPr>
              <a:t>避難所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UI Gothic"/>
              </a:rPr>
              <a:t>（県全域）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511" name="Group 53"/>
          <p:cNvGrpSpPr/>
          <p:nvPr/>
        </p:nvGrpSpPr>
        <p:grpSpPr>
          <a:xfrm>
            <a:off x="7373880" y="4280040"/>
            <a:ext cx="1314360" cy="723600"/>
            <a:chOff x="7373880" y="4280040"/>
            <a:chExt cx="1314360" cy="723600"/>
          </a:xfrm>
        </p:grpSpPr>
        <p:pic>
          <p:nvPicPr>
            <p:cNvPr id="512" name="Picture 54" descr="MC900079128[1]"/>
            <p:cNvPicPr/>
            <p:nvPr/>
          </p:nvPicPr>
          <p:blipFill>
            <a:blip r:embed="rId6"/>
            <a:stretch/>
          </p:blipFill>
          <p:spPr>
            <a:xfrm>
              <a:off x="7373880" y="4280040"/>
              <a:ext cx="7923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55" descr="MC900079125[1]"/>
            <p:cNvPicPr/>
            <p:nvPr/>
          </p:nvPicPr>
          <p:blipFill>
            <a:blip r:embed="rId7"/>
            <a:stretch/>
          </p:blipFill>
          <p:spPr>
            <a:xfrm>
              <a:off x="8023320" y="4578480"/>
              <a:ext cx="6649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56" descr="MC900079139[1]"/>
            <p:cNvPicPr/>
            <p:nvPr/>
          </p:nvPicPr>
          <p:blipFill>
            <a:blip r:embed="rId8"/>
            <a:stretch/>
          </p:blipFill>
          <p:spPr>
            <a:xfrm>
              <a:off x="7446960" y="4541760"/>
              <a:ext cx="792000" cy="4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57"/>
          <p:cNvGrpSpPr/>
          <p:nvPr/>
        </p:nvGrpSpPr>
        <p:grpSpPr>
          <a:xfrm>
            <a:off x="7446960" y="5214960"/>
            <a:ext cx="1314360" cy="723600"/>
            <a:chOff x="7446960" y="5214960"/>
            <a:chExt cx="1314360" cy="723600"/>
          </a:xfrm>
        </p:grpSpPr>
        <p:pic>
          <p:nvPicPr>
            <p:cNvPr id="516" name="Picture 58" descr="MC900079128[1]"/>
            <p:cNvPicPr/>
            <p:nvPr/>
          </p:nvPicPr>
          <p:blipFill>
            <a:blip r:embed="rId9"/>
            <a:stretch/>
          </p:blipFill>
          <p:spPr>
            <a:xfrm>
              <a:off x="7446960" y="5214960"/>
              <a:ext cx="7923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59" descr="MC900079125[1]"/>
            <p:cNvPicPr/>
            <p:nvPr/>
          </p:nvPicPr>
          <p:blipFill>
            <a:blip r:embed="rId10"/>
            <a:stretch/>
          </p:blipFill>
          <p:spPr>
            <a:xfrm>
              <a:off x="8096400" y="5513400"/>
              <a:ext cx="6649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60" descr="MC900079139[1]"/>
            <p:cNvPicPr/>
            <p:nvPr/>
          </p:nvPicPr>
          <p:blipFill>
            <a:blip r:embed="rId11"/>
            <a:stretch/>
          </p:blipFill>
          <p:spPr>
            <a:xfrm>
              <a:off x="7520040" y="5476680"/>
              <a:ext cx="792000" cy="46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AutoShape 63"/>
          <p:cNvSpPr/>
          <p:nvPr/>
        </p:nvSpPr>
        <p:spPr>
          <a:xfrm>
            <a:off x="1398600" y="5100480"/>
            <a:ext cx="503280" cy="28908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MS UI Gothic"/>
              </a:rPr>
              <a:t>共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UI Gothic"/>
              </a:rPr>
              <a:t>DM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0" name="AutoShape 64"/>
          <p:cNvSpPr/>
          <p:nvPr/>
        </p:nvSpPr>
        <p:spPr>
          <a:xfrm>
            <a:off x="1398600" y="4849920"/>
            <a:ext cx="503280" cy="288720"/>
          </a:xfrm>
          <a:prstGeom prst="can">
            <a:avLst>
              <a:gd name="adj" fmla="val 25000"/>
            </a:avLst>
          </a:prstGeom>
          <a:solidFill>
            <a:srgbClr val="ffbfb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MS UI Gothic"/>
              </a:rPr>
              <a:t>避難所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1" name="AutoShape 65"/>
          <p:cNvSpPr/>
          <p:nvPr/>
        </p:nvSpPr>
        <p:spPr>
          <a:xfrm>
            <a:off x="2406600" y="6000840"/>
            <a:ext cx="503280" cy="288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MS UI Gothic"/>
              </a:rPr>
              <a:t>共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UI Gothic"/>
              </a:rPr>
              <a:t>DM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2" name="AutoShape 66"/>
          <p:cNvSpPr/>
          <p:nvPr/>
        </p:nvSpPr>
        <p:spPr>
          <a:xfrm>
            <a:off x="2406600" y="5749920"/>
            <a:ext cx="503280" cy="289080"/>
          </a:xfrm>
          <a:prstGeom prst="can">
            <a:avLst>
              <a:gd name="adj" fmla="val 25000"/>
            </a:avLst>
          </a:prstGeom>
          <a:solidFill>
            <a:srgbClr val="ffbfb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MS UI Gothic"/>
              </a:rPr>
              <a:t>避難所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3" name="AutoShape 74"/>
          <p:cNvSpPr/>
          <p:nvPr/>
        </p:nvSpPr>
        <p:spPr>
          <a:xfrm>
            <a:off x="6765840" y="4584600"/>
            <a:ext cx="793800" cy="1152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MS UI Gothic"/>
              </a:rPr>
              <a:t>配信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4" name="AutoShape 76"/>
          <p:cNvSpPr/>
          <p:nvPr/>
        </p:nvSpPr>
        <p:spPr>
          <a:xfrm>
            <a:off x="7032600" y="3238560"/>
            <a:ext cx="1596960" cy="934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MS UI Gothic"/>
              </a:rPr>
              <a:t>避難所データの更新・運用ガイドライン（案）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5" name="AutoShape 77"/>
          <p:cNvSpPr/>
          <p:nvPr/>
        </p:nvSpPr>
        <p:spPr>
          <a:xfrm>
            <a:off x="4572000" y="2997360"/>
            <a:ext cx="2016000" cy="792000"/>
          </a:xfrm>
          <a:prstGeom prst="wedgeRoundRectCallout">
            <a:avLst>
              <a:gd name="adj1" fmla="val -70550"/>
              <a:gd name="adj2" fmla="val 65430"/>
              <a:gd name="adj3" fmla="val 16667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共同更新、配信実験は、昨年度の安心・安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UI Gothic"/>
              </a:rPr>
              <a:t>W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の参加市町が対象。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90AC-7284-4104-BB45-21547BC59906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３－２．安心・安全</a:t>
            </a: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WG</a:t>
            </a: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の検討状況について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200160" y="930240"/>
            <a:ext cx="864072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②</a:t>
            </a:r>
            <a:r>
              <a:rPr b="0" lang="ja-JP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防災分野における共有</a:t>
            </a: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M</a:t>
            </a:r>
            <a:r>
              <a:rPr b="0" lang="ja-JP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利活用の検討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先の東日本大震災や、台風１２号における地図情報の利用状況等の調査を行い、防災分野における共有ＤＭの効果的な利活用手法を調査、検討していま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先日、台風１２号により被害を受けた、紀宝町、熊野市へヒアリングを実施していま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4041720" y="3441600"/>
            <a:ext cx="4897440" cy="30304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5127480" y="3718080"/>
            <a:ext cx="1414440" cy="792000"/>
          </a:xfrm>
          <a:prstGeom prst="ellipse">
            <a:avLst/>
          </a:prstGeom>
          <a:gradFill rotWithShape="0">
            <a:gsLst>
              <a:gs pos="0">
                <a:srgbClr val="e6fdcb"/>
              </a:gs>
              <a:gs pos="50000">
                <a:srgbClr val="ffffff"/>
              </a:gs>
              <a:gs pos="100000">
                <a:srgbClr val="e6fd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997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被害状況の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把握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1" name=""/>
          <p:cNvSpPr/>
          <p:nvPr/>
        </p:nvSpPr>
        <p:spPr>
          <a:xfrm>
            <a:off x="5703840" y="4653000"/>
            <a:ext cx="1414440" cy="792000"/>
          </a:xfrm>
          <a:prstGeom prst="ellipse">
            <a:avLst/>
          </a:prstGeom>
          <a:gradFill rotWithShape="0">
            <a:gsLst>
              <a:gs pos="0">
                <a:srgbClr val="e6fdcb"/>
              </a:gs>
              <a:gs pos="50000">
                <a:srgbClr val="ffffff"/>
              </a:gs>
              <a:gs pos="100000">
                <a:srgbClr val="e6fd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997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申請手続き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の補助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2" name=""/>
          <p:cNvSpPr/>
          <p:nvPr/>
        </p:nvSpPr>
        <p:spPr>
          <a:xfrm>
            <a:off x="5272200" y="5589720"/>
            <a:ext cx="1414440" cy="792000"/>
          </a:xfrm>
          <a:prstGeom prst="ellipse">
            <a:avLst/>
          </a:prstGeom>
          <a:gradFill rotWithShape="0">
            <a:gsLst>
              <a:gs pos="0">
                <a:srgbClr val="e6fdcb"/>
              </a:gs>
              <a:gs pos="50000">
                <a:srgbClr val="ffffff"/>
              </a:gs>
              <a:gs pos="100000">
                <a:srgbClr val="e6fd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997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復旧計画の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立案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3" name=""/>
          <p:cNvSpPr/>
          <p:nvPr/>
        </p:nvSpPr>
        <p:spPr>
          <a:xfrm>
            <a:off x="7188120" y="3809880"/>
            <a:ext cx="1285920" cy="792360"/>
          </a:xfrm>
          <a:prstGeom prst="ellipse">
            <a:avLst/>
          </a:prstGeom>
          <a:gradFill rotWithShape="0">
            <a:gsLst>
              <a:gs pos="0">
                <a:srgbClr val="e6fdcb"/>
              </a:gs>
              <a:gs pos="50000">
                <a:srgbClr val="ffffff"/>
              </a:gs>
              <a:gs pos="100000">
                <a:srgbClr val="e6fd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997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避難状況の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確認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4" name=""/>
          <p:cNvSpPr/>
          <p:nvPr/>
        </p:nvSpPr>
        <p:spPr>
          <a:xfrm>
            <a:off x="7201080" y="5302080"/>
            <a:ext cx="1285560" cy="792360"/>
          </a:xfrm>
          <a:prstGeom prst="ellipse">
            <a:avLst/>
          </a:prstGeom>
          <a:gradFill rotWithShape="0">
            <a:gsLst>
              <a:gs pos="0">
                <a:srgbClr val="e6fdcb"/>
              </a:gs>
              <a:gs pos="50000">
                <a:srgbClr val="ffffff"/>
              </a:gs>
              <a:gs pos="100000">
                <a:srgbClr val="e6fd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997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関係機関の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情報共有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154080" y="3238560"/>
            <a:ext cx="4680000" cy="294624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735120" y="3666960"/>
            <a:ext cx="1414440" cy="792360"/>
          </a:xfrm>
          <a:prstGeom prst="ellipse">
            <a:avLst/>
          </a:prstGeom>
          <a:gradFill rotWithShape="0">
            <a:gsLst>
              <a:gs pos="0">
                <a:srgbClr val="fdaa99"/>
              </a:gs>
              <a:gs pos="50000">
                <a:srgbClr val="ffffff"/>
              </a:gs>
              <a:gs pos="100000">
                <a:srgbClr val="fdaa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65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危険区域の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把握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7" name=""/>
          <p:cNvSpPr/>
          <p:nvPr/>
        </p:nvSpPr>
        <p:spPr>
          <a:xfrm>
            <a:off x="3247920" y="3595680"/>
            <a:ext cx="1351080" cy="792000"/>
          </a:xfrm>
          <a:prstGeom prst="ellipse">
            <a:avLst/>
          </a:prstGeom>
          <a:gradFill rotWithShape="0">
            <a:gsLst>
              <a:gs pos="0">
                <a:srgbClr val="fdaa99"/>
              </a:gs>
              <a:gs pos="50000">
                <a:srgbClr val="ffffff"/>
              </a:gs>
              <a:gs pos="100000">
                <a:srgbClr val="fdaa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65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災害予測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8" name=""/>
          <p:cNvSpPr/>
          <p:nvPr/>
        </p:nvSpPr>
        <p:spPr>
          <a:xfrm>
            <a:off x="527040" y="5396040"/>
            <a:ext cx="1477800" cy="792000"/>
          </a:xfrm>
          <a:prstGeom prst="ellipse">
            <a:avLst/>
          </a:prstGeom>
          <a:gradFill rotWithShape="0">
            <a:gsLst>
              <a:gs pos="0">
                <a:srgbClr val="fdaa99"/>
              </a:gs>
              <a:gs pos="50000">
                <a:srgbClr val="ffffff"/>
              </a:gs>
              <a:gs pos="100000">
                <a:srgbClr val="fdaa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65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防災マップの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作成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9" name=""/>
          <p:cNvSpPr/>
          <p:nvPr/>
        </p:nvSpPr>
        <p:spPr>
          <a:xfrm>
            <a:off x="2176560" y="4532400"/>
            <a:ext cx="1414440" cy="792000"/>
          </a:xfrm>
          <a:prstGeom prst="ellipse">
            <a:avLst/>
          </a:prstGeom>
          <a:gradFill rotWithShape="0">
            <a:gsLst>
              <a:gs pos="0">
                <a:srgbClr val="fdaa99"/>
              </a:gs>
              <a:gs pos="50000">
                <a:srgbClr val="ffffff"/>
              </a:gs>
              <a:gs pos="100000">
                <a:srgbClr val="fdaa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65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防災計画の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策定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0" name=""/>
          <p:cNvSpPr/>
          <p:nvPr/>
        </p:nvSpPr>
        <p:spPr>
          <a:xfrm>
            <a:off x="3327480" y="5467320"/>
            <a:ext cx="1414440" cy="792360"/>
          </a:xfrm>
          <a:prstGeom prst="ellipse">
            <a:avLst/>
          </a:prstGeom>
          <a:gradFill rotWithShape="0">
            <a:gsLst>
              <a:gs pos="0">
                <a:srgbClr val="fdaa99"/>
              </a:gs>
              <a:gs pos="50000">
                <a:srgbClr val="ffffff"/>
              </a:gs>
              <a:gs pos="100000">
                <a:srgbClr val="fdaa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65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防災情報の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周知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D168-0A3E-4571-A9F6-4E62E5D2DBFD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３－３．今後の開催スケジュール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33280" y="907560"/>
            <a:ext cx="858672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研究会開催スケジュール（予定）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395280" y="1557360"/>
          <a:ext cx="8424720" cy="4773600"/>
        </p:xfrm>
        <a:graphic>
          <a:graphicData uri="http://schemas.openxmlformats.org/drawingml/2006/table">
            <a:tbl>
              <a:tblPr/>
              <a:tblGrid>
                <a:gridCol w="1150920"/>
                <a:gridCol w="1513080"/>
                <a:gridCol w="5760720"/>
              </a:tblGrid>
              <a:tr h="50328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時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dcb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開催回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dcb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検討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dcb"/>
                    </a:solidFill>
                  </a:tcPr>
                </a:tc>
              </a:tr>
              <a:tr h="85392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７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第１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平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年度地理空間情報利活用研究会の進め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5428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１０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第２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現状調査結果の報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住所データに関する基本方針につい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5392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１１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第３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住所データの整備・更新手法検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１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第４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住所データの更新手法検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住所データの利活用手法検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２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第５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住所データの整備・更新ガイドライン（案）のとりまと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D4E3-8D6E-481C-BB6D-4BECC43589C5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参考</a:t>
            </a: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①</a:t>
            </a: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：住所データとは？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50920" y="841320"/>
            <a:ext cx="8642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住所や地名など私たちが普段使ってい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PｺﾞｼｯｸE"/>
              </a:rPr>
              <a:t>“</a:t>
            </a:r>
            <a:r>
              <a:rPr b="0" lang="ja-JP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場所の名前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PｺﾞｼｯｸE"/>
              </a:rPr>
              <a:t>”</a:t>
            </a:r>
            <a:r>
              <a:rPr b="0" lang="ja-JP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と、地図上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PｺﾞｼｯｸE"/>
              </a:rPr>
              <a:t>“</a:t>
            </a:r>
            <a:r>
              <a:rPr b="0" lang="ja-JP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座標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PｺﾞｼｯｸE"/>
              </a:rPr>
              <a:t>”</a:t>
            </a:r>
            <a:r>
              <a:rPr b="0" lang="ja-JP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を関連付けるためのデータのことを</a:t>
            </a:r>
            <a:r>
              <a:rPr b="0" lang="ja-JP" sz="2800" spc="-1" strike="noStrike">
                <a:solidFill>
                  <a:srgbClr val="ff0000"/>
                </a:solidFill>
                <a:latin typeface="HGPｺﾞｼｯｸE"/>
                <a:ea typeface="HGPｺﾞｼｯｸE"/>
              </a:rPr>
              <a:t>「地名辞典」（＝本研究会では住所データという）</a:t>
            </a:r>
            <a:r>
              <a:rPr b="0" lang="ja-JP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と呼びます。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984240" y="2674800"/>
            <a:ext cx="7056360" cy="4146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5867280" y="5805360"/>
            <a:ext cx="2951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地名辞典整備の手引きと活用事例集」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財団法人全国地域情報化推進協会）より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2637000"/>
            <a:ext cx="2665440" cy="165564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5" name=""/>
          <p:cNvSpPr/>
          <p:nvPr/>
        </p:nvSpPr>
        <p:spPr>
          <a:xfrm>
            <a:off x="6961320" y="2387520"/>
            <a:ext cx="1511280" cy="3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360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住所データ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11F6-2F75-408F-9BB3-78D6590A071D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参考</a:t>
            </a: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②</a:t>
            </a: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：住所データの整備・更新手法の検討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836640"/>
            <a:ext cx="8964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検討内容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三重県の実情をふまえ、整備コスト及び品質等の複数の観点から、県域レベルの住所データの効果的な整備・更新手法を検討しま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整備・更新手法の検討にあたっては、市町関係者と十分な協議・調整を行いま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33440" y="5138640"/>
            <a:ext cx="11239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国土計画局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577800" y="5354640"/>
            <a:ext cx="1235160" cy="590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1536840" y="6078600"/>
            <a:ext cx="1234800" cy="5904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7"/>
          <p:cNvSpPr/>
          <p:nvPr/>
        </p:nvSpPr>
        <p:spPr>
          <a:xfrm>
            <a:off x="4118040" y="4795920"/>
            <a:ext cx="1224000" cy="8269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共有</a:t>
            </a:r>
            <a:r>
              <a:rPr b="0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DM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4118040" y="4092480"/>
            <a:ext cx="1224000" cy="8272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住所データ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3"/>
          <a:stretch/>
        </p:blipFill>
        <p:spPr>
          <a:xfrm>
            <a:off x="687240" y="3854520"/>
            <a:ext cx="1368720" cy="641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"/>
          <p:cNvSpPr/>
          <p:nvPr/>
        </p:nvSpPr>
        <p:spPr>
          <a:xfrm>
            <a:off x="569880" y="3711600"/>
            <a:ext cx="11527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民間企業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4"/>
          <a:stretch/>
        </p:blipFill>
        <p:spPr>
          <a:xfrm>
            <a:off x="7178760" y="3892680"/>
            <a:ext cx="1235160" cy="590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/>
          <p:cNvPicPr/>
          <p:nvPr/>
        </p:nvPicPr>
        <p:blipFill>
          <a:blip r:embed="rId5"/>
          <a:stretch/>
        </p:blipFill>
        <p:spPr>
          <a:xfrm>
            <a:off x="7729560" y="4886280"/>
            <a:ext cx="1235160" cy="590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7134120" y="3767040"/>
            <a:ext cx="7207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市町Ａ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77000" y="4743360"/>
            <a:ext cx="7207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市町Ｂ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20" name="Picture 15" descr=""/>
          <p:cNvPicPr/>
          <p:nvPr/>
        </p:nvPicPr>
        <p:blipFill>
          <a:blip r:embed="rId6"/>
          <a:stretch/>
        </p:blipFill>
        <p:spPr>
          <a:xfrm>
            <a:off x="7254720" y="5772240"/>
            <a:ext cx="1235160" cy="590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6"/>
          <p:cNvSpPr/>
          <p:nvPr/>
        </p:nvSpPr>
        <p:spPr>
          <a:xfrm>
            <a:off x="7210440" y="5646600"/>
            <a:ext cx="72072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市町Ｃ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1320840" y="5975280"/>
            <a:ext cx="11239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国土地理院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1971720" y="3965400"/>
            <a:ext cx="731880" cy="576360"/>
          </a:xfrm>
          <a:prstGeom prst="can">
            <a:avLst>
              <a:gd name="adj" fmla="val 25000"/>
            </a:avLst>
          </a:prstGeom>
          <a:solidFill>
            <a:srgbClr val="ffbfb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S UI Gothic"/>
                <a:ea typeface="MS UI Gothic"/>
              </a:rPr>
              <a:t>住所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6443640" y="3965400"/>
            <a:ext cx="731880" cy="57636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地番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AutoShape 20"/>
          <p:cNvSpPr/>
          <p:nvPr/>
        </p:nvSpPr>
        <p:spPr>
          <a:xfrm>
            <a:off x="6978600" y="4973760"/>
            <a:ext cx="731880" cy="57600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S UI Gothic"/>
                <a:ea typeface="MS UI Gothic"/>
              </a:rPr>
              <a:t>住居表示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6" name="AutoShape 21"/>
          <p:cNvSpPr/>
          <p:nvPr/>
        </p:nvSpPr>
        <p:spPr>
          <a:xfrm>
            <a:off x="6516720" y="5969160"/>
            <a:ext cx="731880" cy="57600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地番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1763640" y="5261040"/>
            <a:ext cx="719280" cy="5778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S UI Gothic"/>
                <a:ea typeface="MS UI Gothic"/>
              </a:rPr>
              <a:t>位置参照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S UI Gothic"/>
                <a:ea typeface="MS UI Gothic"/>
              </a:rPr>
              <a:t>情報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5508360" y="4757760"/>
            <a:ext cx="934920" cy="12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Line 24"/>
          <p:cNvSpPr/>
          <p:nvPr/>
        </p:nvSpPr>
        <p:spPr>
          <a:xfrm flipH="1" flipV="1">
            <a:off x="5579640" y="4541760"/>
            <a:ext cx="129708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0" name="Line 25"/>
          <p:cNvSpPr/>
          <p:nvPr/>
        </p:nvSpPr>
        <p:spPr>
          <a:xfrm flipH="1">
            <a:off x="5579640" y="4254480"/>
            <a:ext cx="79236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Line 26"/>
          <p:cNvSpPr/>
          <p:nvPr/>
        </p:nvSpPr>
        <p:spPr>
          <a:xfrm>
            <a:off x="2843280" y="4254480"/>
            <a:ext cx="93672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2627280" y="4684680"/>
            <a:ext cx="122544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Line 28"/>
          <p:cNvSpPr/>
          <p:nvPr/>
        </p:nvSpPr>
        <p:spPr>
          <a:xfrm flipV="1">
            <a:off x="3203640" y="4755960"/>
            <a:ext cx="720720" cy="1153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4" name="AutoShape 29"/>
          <p:cNvSpPr/>
          <p:nvPr/>
        </p:nvSpPr>
        <p:spPr>
          <a:xfrm>
            <a:off x="1042920" y="3281400"/>
            <a:ext cx="1800360" cy="358560"/>
          </a:xfrm>
          <a:prstGeom prst="roundRect">
            <a:avLst>
              <a:gd name="adj" fmla="val 16667"/>
            </a:avLst>
          </a:prstGeom>
          <a:solidFill>
            <a:srgbClr val="fff3f9"/>
          </a:solidFill>
          <a:ln w="9360">
            <a:solidFill>
              <a:srgbClr val="000000"/>
            </a:solidFill>
            <a:miter/>
          </a:ln>
          <a:effectLst>
            <a:outerShdw dist="85328" dir="1593903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民間企業からの調達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5" name="AutoShape 30"/>
          <p:cNvSpPr/>
          <p:nvPr/>
        </p:nvSpPr>
        <p:spPr>
          <a:xfrm>
            <a:off x="1042920" y="4713120"/>
            <a:ext cx="1774800" cy="358920"/>
          </a:xfrm>
          <a:prstGeom prst="roundRect">
            <a:avLst>
              <a:gd name="adj" fmla="val 16667"/>
            </a:avLst>
          </a:prstGeom>
          <a:solidFill>
            <a:srgbClr val="fff3f9"/>
          </a:solidFill>
          <a:ln w="9360">
            <a:solidFill>
              <a:srgbClr val="000000"/>
            </a:solidFill>
            <a:miter/>
          </a:ln>
          <a:effectLst>
            <a:outerShdw dist="85328" dir="1593903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既存データの活用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6445080" y="3294000"/>
            <a:ext cx="2087640" cy="358920"/>
          </a:xfrm>
          <a:prstGeom prst="roundRect">
            <a:avLst>
              <a:gd name="adj" fmla="val 16667"/>
            </a:avLst>
          </a:prstGeom>
          <a:solidFill>
            <a:srgbClr val="fff3f9"/>
          </a:solidFill>
          <a:ln w="9360">
            <a:solidFill>
              <a:srgbClr val="000000"/>
            </a:solidFill>
            <a:miter/>
          </a:ln>
          <a:effectLst>
            <a:outerShdw dist="85328" dir="1593903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UI Gothic"/>
              </a:rPr>
              <a:t>行政情報の持ち寄り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7" name="AutoShape 32"/>
          <p:cNvSpPr/>
          <p:nvPr/>
        </p:nvSpPr>
        <p:spPr>
          <a:xfrm>
            <a:off x="2627280" y="5981760"/>
            <a:ext cx="719280" cy="5778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S UI Gothic"/>
                <a:ea typeface="MS UI Gothic"/>
              </a:rPr>
              <a:t>住居表示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S UI Gothic"/>
                <a:ea typeface="MS UI Gothic"/>
              </a:rPr>
              <a:t>住所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8" name="Text Box 33"/>
          <p:cNvSpPr/>
          <p:nvPr/>
        </p:nvSpPr>
        <p:spPr>
          <a:xfrm>
            <a:off x="271440" y="2801880"/>
            <a:ext cx="36021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UI Gothic"/>
              </a:rPr>
              <a:t>【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S UI Gothic"/>
              </a:rPr>
              <a:t>想定される整備・更新手法の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UI Gothic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DF8B-B09F-42D2-BA98-5CC4C8772049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参考</a:t>
            </a: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③</a:t>
            </a: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：住所データの利活用手法の検討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880560"/>
            <a:ext cx="871380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検討内容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共有デジタル地図と住所データを組合せて有効に利活用するための方法（例えば、住所データを利用したアドレスマッチングサービスなど）を、調査検討しま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ff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住所データの利用は、行政内のみでの利用を前提としま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682560" y="4010040"/>
            <a:ext cx="1224000" cy="64764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共有</a:t>
            </a:r>
            <a:r>
              <a:rPr b="0" lang="en-US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DM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682560" y="3433680"/>
            <a:ext cx="1224000" cy="663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MS UI Gothic"/>
                <a:ea typeface="MS UI Gothic"/>
              </a:rPr>
              <a:t>福祉施設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 flipH="1">
            <a:off x="732960" y="4737240"/>
            <a:ext cx="1800360" cy="153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1763640" y="5719680"/>
          <a:ext cx="1795320" cy="943200"/>
        </p:xfrm>
        <a:graphic>
          <a:graphicData uri="http://schemas.openxmlformats.org/drawingml/2006/table">
            <a:tbl>
              <a:tblPr/>
              <a:tblGrid>
                <a:gridCol w="770040"/>
                <a:gridCol w="1025280"/>
              </a:tblGrid>
              <a:tr h="188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住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86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○○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小学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○○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丁目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○○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公民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▲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丁目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・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・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・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・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6" name="Group 28"/>
          <p:cNvGrpSpPr/>
          <p:nvPr/>
        </p:nvGrpSpPr>
        <p:grpSpPr>
          <a:xfrm>
            <a:off x="1620720" y="4103640"/>
            <a:ext cx="2232000" cy="554040"/>
            <a:chOff x="1620720" y="4103640"/>
            <a:chExt cx="2232000" cy="554040"/>
          </a:xfrm>
        </p:grpSpPr>
        <p:sp>
          <p:nvSpPr>
            <p:cNvPr id="147" name="AutoShape 29"/>
            <p:cNvSpPr/>
            <p:nvPr/>
          </p:nvSpPr>
          <p:spPr>
            <a:xfrm>
              <a:off x="1620720" y="4103640"/>
              <a:ext cx="223200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8" name="Freeform 30"/>
            <p:cNvSpPr/>
            <p:nvPr/>
          </p:nvSpPr>
          <p:spPr>
            <a:xfrm>
              <a:off x="1630440" y="4113720"/>
              <a:ext cx="2212560" cy="533160"/>
            </a:xfrm>
            <a:custGeom>
              <a:avLst/>
              <a:gdLst>
                <a:gd name="textAreaLeft" fmla="*/ 0 w 2212560"/>
                <a:gd name="textAreaRight" fmla="*/ 2212920 w 2212560"/>
                <a:gd name="textAreaTop" fmla="*/ 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w="5441" h="1360">
                  <a:moveTo>
                    <a:pt x="0" y="1360"/>
                  </a:moveTo>
                  <a:lnTo>
                    <a:pt x="4081" y="1360"/>
                  </a:lnTo>
                  <a:lnTo>
                    <a:pt x="5441" y="0"/>
                  </a:lnTo>
                  <a:lnTo>
                    <a:pt x="1360" y="0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9" name="Freeform 31"/>
            <p:cNvSpPr/>
            <p:nvPr/>
          </p:nvSpPr>
          <p:spPr>
            <a:xfrm>
              <a:off x="1630440" y="4113720"/>
              <a:ext cx="2212560" cy="533160"/>
            </a:xfrm>
            <a:custGeom>
              <a:avLst/>
              <a:gdLst>
                <a:gd name="textAreaLeft" fmla="*/ 0 w 2212560"/>
                <a:gd name="textAreaRight" fmla="*/ 2212920 w 2212560"/>
                <a:gd name="textAreaTop" fmla="*/ 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w="5441" h="1360">
                  <a:moveTo>
                    <a:pt x="0" y="1360"/>
                  </a:moveTo>
                  <a:lnTo>
                    <a:pt x="4081" y="1360"/>
                  </a:lnTo>
                  <a:lnTo>
                    <a:pt x="5441" y="0"/>
                  </a:lnTo>
                  <a:lnTo>
                    <a:pt x="1360" y="0"/>
                  </a:lnTo>
                  <a:lnTo>
                    <a:pt x="0" y="1360"/>
                  </a:lnTo>
                  <a:close/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0" name="Freeform 32"/>
            <p:cNvSpPr/>
            <p:nvPr/>
          </p:nvSpPr>
          <p:spPr>
            <a:xfrm>
              <a:off x="2035080" y="4422600"/>
              <a:ext cx="170280" cy="6120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19" h="158">
                  <a:moveTo>
                    <a:pt x="0" y="10"/>
                  </a:moveTo>
                  <a:lnTo>
                    <a:pt x="49" y="158"/>
                  </a:lnTo>
                  <a:lnTo>
                    <a:pt x="389" y="124"/>
                  </a:lnTo>
                  <a:lnTo>
                    <a:pt x="419" y="0"/>
                  </a:lnTo>
                  <a:lnTo>
                    <a:pt x="268" y="1"/>
                  </a:lnTo>
                  <a:lnTo>
                    <a:pt x="11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1" name="Freeform 33"/>
            <p:cNvSpPr/>
            <p:nvPr/>
          </p:nvSpPr>
          <p:spPr>
            <a:xfrm>
              <a:off x="2883600" y="4113720"/>
              <a:ext cx="405720" cy="533160"/>
            </a:xfrm>
            <a:custGeom>
              <a:avLst/>
              <a:gdLst>
                <a:gd name="textAreaLeft" fmla="*/ 0 w 405720"/>
                <a:gd name="textAreaRight" fmla="*/ 406080 w 405720"/>
                <a:gd name="textAreaTop" fmla="*/ 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w="998" h="1360">
                  <a:moveTo>
                    <a:pt x="862" y="0"/>
                  </a:moveTo>
                  <a:lnTo>
                    <a:pt x="431" y="419"/>
                  </a:lnTo>
                  <a:lnTo>
                    <a:pt x="182" y="816"/>
                  </a:lnTo>
                  <a:lnTo>
                    <a:pt x="0" y="1360"/>
                  </a:lnTo>
                  <a:lnTo>
                    <a:pt x="272" y="1360"/>
                  </a:lnTo>
                  <a:lnTo>
                    <a:pt x="363" y="816"/>
                  </a:lnTo>
                  <a:lnTo>
                    <a:pt x="609" y="405"/>
                  </a:lnTo>
                  <a:lnTo>
                    <a:pt x="998" y="0"/>
                  </a:lnTo>
                  <a:lnTo>
                    <a:pt x="86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2" name="Freeform 34"/>
            <p:cNvSpPr/>
            <p:nvPr/>
          </p:nvSpPr>
          <p:spPr>
            <a:xfrm>
              <a:off x="2883600" y="4113720"/>
              <a:ext cx="405720" cy="533160"/>
            </a:xfrm>
            <a:custGeom>
              <a:avLst/>
              <a:gdLst>
                <a:gd name="textAreaLeft" fmla="*/ 0 w 405720"/>
                <a:gd name="textAreaRight" fmla="*/ 406080 w 405720"/>
                <a:gd name="textAreaTop" fmla="*/ 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w="998" h="1360">
                  <a:moveTo>
                    <a:pt x="862" y="0"/>
                  </a:moveTo>
                  <a:lnTo>
                    <a:pt x="431" y="419"/>
                  </a:lnTo>
                  <a:lnTo>
                    <a:pt x="182" y="816"/>
                  </a:lnTo>
                  <a:lnTo>
                    <a:pt x="0" y="1360"/>
                  </a:lnTo>
                  <a:lnTo>
                    <a:pt x="272" y="1360"/>
                  </a:lnTo>
                  <a:lnTo>
                    <a:pt x="363" y="816"/>
                  </a:lnTo>
                  <a:lnTo>
                    <a:pt x="609" y="405"/>
                  </a:lnTo>
                  <a:lnTo>
                    <a:pt x="998" y="0"/>
                  </a:lnTo>
                  <a:lnTo>
                    <a:pt x="862" y="0"/>
                  </a:lnTo>
                  <a:close/>
                </a:path>
              </a:pathLst>
            </a:custGeom>
            <a:noFill/>
            <a:ln w="324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3" name="Freeform 35"/>
            <p:cNvSpPr/>
            <p:nvPr/>
          </p:nvSpPr>
          <p:spPr>
            <a:xfrm>
              <a:off x="2256840" y="4113720"/>
              <a:ext cx="903960" cy="533160"/>
            </a:xfrm>
            <a:custGeom>
              <a:avLst/>
              <a:gdLst>
                <a:gd name="textAreaLeft" fmla="*/ 0 w 903960"/>
                <a:gd name="textAreaRight" fmla="*/ 904320 w 903960"/>
                <a:gd name="textAreaTop" fmla="*/ 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w="2222" h="1360">
                  <a:moveTo>
                    <a:pt x="2086" y="0"/>
                  </a:moveTo>
                  <a:lnTo>
                    <a:pt x="1633" y="453"/>
                  </a:lnTo>
                  <a:lnTo>
                    <a:pt x="1179" y="725"/>
                  </a:lnTo>
                  <a:lnTo>
                    <a:pt x="545" y="997"/>
                  </a:lnTo>
                  <a:lnTo>
                    <a:pt x="0" y="1360"/>
                  </a:lnTo>
                  <a:lnTo>
                    <a:pt x="182" y="1360"/>
                  </a:lnTo>
                  <a:lnTo>
                    <a:pt x="726" y="997"/>
                  </a:lnTo>
                  <a:lnTo>
                    <a:pt x="1361" y="725"/>
                  </a:lnTo>
                  <a:lnTo>
                    <a:pt x="1814" y="453"/>
                  </a:lnTo>
                  <a:lnTo>
                    <a:pt x="2222" y="0"/>
                  </a:lnTo>
                  <a:lnTo>
                    <a:pt x="208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4" name="Freeform 36"/>
            <p:cNvSpPr/>
            <p:nvPr/>
          </p:nvSpPr>
          <p:spPr>
            <a:xfrm>
              <a:off x="2256840" y="4113720"/>
              <a:ext cx="903960" cy="533160"/>
            </a:xfrm>
            <a:custGeom>
              <a:avLst/>
              <a:gdLst>
                <a:gd name="textAreaLeft" fmla="*/ 0 w 903960"/>
                <a:gd name="textAreaRight" fmla="*/ 904320 w 903960"/>
                <a:gd name="textAreaTop" fmla="*/ 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w="2222" h="1360">
                  <a:moveTo>
                    <a:pt x="2086" y="0"/>
                  </a:moveTo>
                  <a:lnTo>
                    <a:pt x="1633" y="453"/>
                  </a:lnTo>
                  <a:lnTo>
                    <a:pt x="1179" y="725"/>
                  </a:lnTo>
                  <a:lnTo>
                    <a:pt x="545" y="997"/>
                  </a:lnTo>
                  <a:lnTo>
                    <a:pt x="0" y="1360"/>
                  </a:lnTo>
                  <a:lnTo>
                    <a:pt x="182" y="1360"/>
                  </a:lnTo>
                  <a:lnTo>
                    <a:pt x="726" y="997"/>
                  </a:lnTo>
                  <a:lnTo>
                    <a:pt x="1361" y="725"/>
                  </a:lnTo>
                  <a:lnTo>
                    <a:pt x="1814" y="453"/>
                  </a:lnTo>
                  <a:lnTo>
                    <a:pt x="2222" y="0"/>
                  </a:lnTo>
                  <a:lnTo>
                    <a:pt x="2086" y="0"/>
                  </a:lnTo>
                  <a:close/>
                </a:path>
              </a:pathLst>
            </a:cu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1926720" y="4256280"/>
              <a:ext cx="1029960" cy="106200"/>
            </a:xfrm>
            <a:custGeom>
              <a:avLst/>
              <a:gdLst>
                <a:gd name="textAreaLeft" fmla="*/ 0 w 1029960"/>
                <a:gd name="textAreaRight" fmla="*/ 1030320 w 1029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536" h="272">
                  <a:moveTo>
                    <a:pt x="2536" y="0"/>
                  </a:moveTo>
                  <a:lnTo>
                    <a:pt x="1175" y="181"/>
                  </a:lnTo>
                  <a:lnTo>
                    <a:pt x="87" y="181"/>
                  </a:lnTo>
                  <a:lnTo>
                    <a:pt x="0" y="267"/>
                  </a:lnTo>
                  <a:lnTo>
                    <a:pt x="1175" y="272"/>
                  </a:lnTo>
                  <a:lnTo>
                    <a:pt x="2464" y="71"/>
                  </a:lnTo>
                  <a:lnTo>
                    <a:pt x="253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6" name="Freeform 38"/>
            <p:cNvSpPr/>
            <p:nvPr/>
          </p:nvSpPr>
          <p:spPr>
            <a:xfrm>
              <a:off x="1926720" y="4256280"/>
              <a:ext cx="1029960" cy="106200"/>
            </a:xfrm>
            <a:custGeom>
              <a:avLst/>
              <a:gdLst>
                <a:gd name="textAreaLeft" fmla="*/ 0 w 1029960"/>
                <a:gd name="textAreaRight" fmla="*/ 1030320 w 1029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536" h="272">
                  <a:moveTo>
                    <a:pt x="2536" y="0"/>
                  </a:moveTo>
                  <a:lnTo>
                    <a:pt x="1175" y="181"/>
                  </a:lnTo>
                  <a:lnTo>
                    <a:pt x="87" y="181"/>
                  </a:lnTo>
                  <a:lnTo>
                    <a:pt x="0" y="267"/>
                  </a:lnTo>
                  <a:lnTo>
                    <a:pt x="1175" y="272"/>
                  </a:lnTo>
                  <a:lnTo>
                    <a:pt x="2464" y="71"/>
                  </a:lnTo>
                  <a:lnTo>
                    <a:pt x="2536" y="0"/>
                  </a:lnTo>
                  <a:close/>
                </a:path>
              </a:pathLst>
            </a:cu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7" name="Freeform 39"/>
            <p:cNvSpPr/>
            <p:nvPr/>
          </p:nvSpPr>
          <p:spPr>
            <a:xfrm>
              <a:off x="3002760" y="4113720"/>
              <a:ext cx="655560" cy="16884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1611" h="429">
                  <a:moveTo>
                    <a:pt x="59" y="364"/>
                  </a:moveTo>
                  <a:lnTo>
                    <a:pt x="885" y="272"/>
                  </a:lnTo>
                  <a:lnTo>
                    <a:pt x="1520" y="0"/>
                  </a:lnTo>
                  <a:lnTo>
                    <a:pt x="1611" y="0"/>
                  </a:lnTo>
                  <a:lnTo>
                    <a:pt x="885" y="363"/>
                  </a:lnTo>
                  <a:lnTo>
                    <a:pt x="0" y="429"/>
                  </a:lnTo>
                  <a:lnTo>
                    <a:pt x="59" y="36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8" name="Freeform 40"/>
            <p:cNvSpPr/>
            <p:nvPr/>
          </p:nvSpPr>
          <p:spPr>
            <a:xfrm>
              <a:off x="3002760" y="4113720"/>
              <a:ext cx="655560" cy="16884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1611" h="429">
                  <a:moveTo>
                    <a:pt x="59" y="364"/>
                  </a:moveTo>
                  <a:lnTo>
                    <a:pt x="885" y="272"/>
                  </a:lnTo>
                  <a:lnTo>
                    <a:pt x="1520" y="0"/>
                  </a:lnTo>
                  <a:lnTo>
                    <a:pt x="1611" y="0"/>
                  </a:lnTo>
                  <a:lnTo>
                    <a:pt x="885" y="363"/>
                  </a:lnTo>
                  <a:lnTo>
                    <a:pt x="0" y="429"/>
                  </a:lnTo>
                  <a:lnTo>
                    <a:pt x="59" y="364"/>
                  </a:lnTo>
                  <a:close/>
                </a:path>
              </a:pathLst>
            </a:cu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9" name="Freeform 41"/>
            <p:cNvSpPr/>
            <p:nvPr/>
          </p:nvSpPr>
          <p:spPr>
            <a:xfrm>
              <a:off x="1778040" y="4472640"/>
              <a:ext cx="792000" cy="320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949" h="81">
                  <a:moveTo>
                    <a:pt x="1949" y="0"/>
                  </a:moveTo>
                  <a:lnTo>
                    <a:pt x="1110" y="0"/>
                  </a:lnTo>
                  <a:lnTo>
                    <a:pt x="0" y="81"/>
                  </a:lnTo>
                </a:path>
              </a:pathLst>
            </a:custGeom>
            <a:noFill/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 flipH="1">
              <a:off x="2256840" y="4362840"/>
              <a:ext cx="138240" cy="109800"/>
            </a:xfrm>
            <a:prstGeom prst="line">
              <a:avLst/>
            </a:prstGeom>
            <a:ln w="158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61" name="Line 43"/>
            <p:cNvSpPr/>
            <p:nvPr/>
          </p:nvSpPr>
          <p:spPr>
            <a:xfrm flipH="1">
              <a:off x="2035800" y="4479480"/>
              <a:ext cx="87480" cy="167400"/>
            </a:xfrm>
            <a:prstGeom prst="line">
              <a:avLst/>
            </a:prstGeom>
            <a:ln w="158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62" name="Line 44"/>
            <p:cNvSpPr/>
            <p:nvPr/>
          </p:nvSpPr>
          <p:spPr>
            <a:xfrm>
              <a:off x="2080440" y="4561560"/>
              <a:ext cx="307080" cy="0"/>
            </a:xfrm>
            <a:prstGeom prst="line">
              <a:avLst/>
            </a:prstGeom>
            <a:ln w="158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63" name="Freeform 45"/>
            <p:cNvSpPr/>
            <p:nvPr/>
          </p:nvSpPr>
          <p:spPr>
            <a:xfrm>
              <a:off x="2219760" y="4138200"/>
              <a:ext cx="860400" cy="19764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2116" h="505">
                  <a:moveTo>
                    <a:pt x="0" y="505"/>
                  </a:moveTo>
                  <a:lnTo>
                    <a:pt x="663" y="221"/>
                  </a:lnTo>
                  <a:lnTo>
                    <a:pt x="1326" y="32"/>
                  </a:lnTo>
                  <a:lnTo>
                    <a:pt x="2116" y="0"/>
                  </a:lnTo>
                </a:path>
              </a:pathLst>
            </a:custGeom>
            <a:noFill/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64" name="Line 46"/>
            <p:cNvSpPr/>
            <p:nvPr/>
          </p:nvSpPr>
          <p:spPr>
            <a:xfrm flipH="1">
              <a:off x="2724840" y="4149720"/>
              <a:ext cx="42120" cy="136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65" name="Line 47"/>
            <p:cNvSpPr/>
            <p:nvPr/>
          </p:nvSpPr>
          <p:spPr>
            <a:xfrm flipH="1" flipV="1">
              <a:off x="2105640" y="4188600"/>
              <a:ext cx="329760" cy="579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66" name="Freeform 48"/>
            <p:cNvSpPr/>
            <p:nvPr/>
          </p:nvSpPr>
          <p:spPr>
            <a:xfrm>
              <a:off x="2570400" y="4486320"/>
              <a:ext cx="807840" cy="7416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988" h="190">
                  <a:moveTo>
                    <a:pt x="0" y="0"/>
                  </a:moveTo>
                  <a:lnTo>
                    <a:pt x="1200" y="0"/>
                  </a:lnTo>
                  <a:lnTo>
                    <a:pt x="1988" y="190"/>
                  </a:lnTo>
                </a:path>
              </a:pathLst>
            </a:custGeom>
            <a:noFill/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67" name="Line 49"/>
            <p:cNvSpPr/>
            <p:nvPr/>
          </p:nvSpPr>
          <p:spPr>
            <a:xfrm flipH="1">
              <a:off x="2699640" y="4486320"/>
              <a:ext cx="183240" cy="160560"/>
            </a:xfrm>
            <a:prstGeom prst="line">
              <a:avLst/>
            </a:prstGeom>
            <a:ln w="158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68" name="Freeform 50"/>
            <p:cNvSpPr/>
            <p:nvPr/>
          </p:nvSpPr>
          <p:spPr>
            <a:xfrm>
              <a:off x="2452680" y="4518720"/>
              <a:ext cx="746640" cy="4824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836" h="128">
                  <a:moveTo>
                    <a:pt x="0" y="128"/>
                  </a:moveTo>
                  <a:lnTo>
                    <a:pt x="1332" y="128"/>
                  </a:lnTo>
                  <a:lnTo>
                    <a:pt x="1836" y="0"/>
                  </a:lnTo>
                </a:path>
              </a:pathLst>
            </a:custGeom>
            <a:noFill/>
            <a:ln w="158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69" name="Line 51"/>
            <p:cNvSpPr/>
            <p:nvPr/>
          </p:nvSpPr>
          <p:spPr>
            <a:xfrm>
              <a:off x="3168000" y="4269960"/>
              <a:ext cx="26280" cy="246240"/>
            </a:xfrm>
            <a:prstGeom prst="line">
              <a:avLst/>
            </a:prstGeom>
            <a:ln w="158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70" name="Line 52"/>
            <p:cNvSpPr/>
            <p:nvPr/>
          </p:nvSpPr>
          <p:spPr>
            <a:xfrm>
              <a:off x="3326760" y="4113720"/>
              <a:ext cx="80280" cy="88920"/>
            </a:xfrm>
            <a:prstGeom prst="line">
              <a:avLst/>
            </a:prstGeom>
            <a:ln w="158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71" name="Line 53"/>
            <p:cNvSpPr/>
            <p:nvPr/>
          </p:nvSpPr>
          <p:spPr>
            <a:xfrm>
              <a:off x="3425040" y="4226040"/>
              <a:ext cx="142920" cy="152640"/>
            </a:xfrm>
            <a:prstGeom prst="line">
              <a:avLst/>
            </a:prstGeom>
            <a:ln w="158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72" name="Freeform 54"/>
            <p:cNvSpPr/>
            <p:nvPr/>
          </p:nvSpPr>
          <p:spPr>
            <a:xfrm>
              <a:off x="1822320" y="4435200"/>
              <a:ext cx="1589760" cy="99360"/>
            </a:xfrm>
            <a:custGeom>
              <a:avLst/>
              <a:gdLst>
                <a:gd name="textAreaLeft" fmla="*/ 0 w 1589760"/>
                <a:gd name="textAreaRight" fmla="*/ 1590120 w 15897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910" h="255">
                  <a:moveTo>
                    <a:pt x="0" y="55"/>
                  </a:moveTo>
                  <a:lnTo>
                    <a:pt x="85" y="43"/>
                  </a:lnTo>
                  <a:lnTo>
                    <a:pt x="153" y="36"/>
                  </a:lnTo>
                  <a:lnTo>
                    <a:pt x="155" y="60"/>
                  </a:lnTo>
                  <a:lnTo>
                    <a:pt x="88" y="67"/>
                  </a:lnTo>
                  <a:lnTo>
                    <a:pt x="3" y="79"/>
                  </a:lnTo>
                  <a:lnTo>
                    <a:pt x="0" y="55"/>
                  </a:lnTo>
                  <a:close/>
                  <a:moveTo>
                    <a:pt x="229" y="27"/>
                  </a:moveTo>
                  <a:lnTo>
                    <a:pt x="249" y="26"/>
                  </a:lnTo>
                  <a:lnTo>
                    <a:pt x="251" y="50"/>
                  </a:lnTo>
                  <a:lnTo>
                    <a:pt x="232" y="51"/>
                  </a:lnTo>
                  <a:lnTo>
                    <a:pt x="229" y="27"/>
                  </a:lnTo>
                  <a:close/>
                  <a:moveTo>
                    <a:pt x="326" y="19"/>
                  </a:moveTo>
                  <a:lnTo>
                    <a:pt x="346" y="17"/>
                  </a:lnTo>
                  <a:lnTo>
                    <a:pt x="435" y="12"/>
                  </a:lnTo>
                  <a:lnTo>
                    <a:pt x="479" y="10"/>
                  </a:lnTo>
                  <a:lnTo>
                    <a:pt x="480" y="33"/>
                  </a:lnTo>
                  <a:lnTo>
                    <a:pt x="435" y="36"/>
                  </a:lnTo>
                  <a:lnTo>
                    <a:pt x="436" y="36"/>
                  </a:lnTo>
                  <a:lnTo>
                    <a:pt x="347" y="41"/>
                  </a:lnTo>
                  <a:lnTo>
                    <a:pt x="327" y="43"/>
                  </a:lnTo>
                  <a:lnTo>
                    <a:pt x="326" y="19"/>
                  </a:lnTo>
                  <a:close/>
                  <a:moveTo>
                    <a:pt x="556" y="6"/>
                  </a:moveTo>
                  <a:lnTo>
                    <a:pt x="575" y="6"/>
                  </a:lnTo>
                  <a:lnTo>
                    <a:pt x="576" y="30"/>
                  </a:lnTo>
                  <a:lnTo>
                    <a:pt x="557" y="30"/>
                  </a:lnTo>
                  <a:lnTo>
                    <a:pt x="556" y="6"/>
                  </a:lnTo>
                  <a:close/>
                  <a:moveTo>
                    <a:pt x="652" y="3"/>
                  </a:moveTo>
                  <a:lnTo>
                    <a:pt x="700" y="2"/>
                  </a:lnTo>
                  <a:lnTo>
                    <a:pt x="805" y="2"/>
                  </a:lnTo>
                  <a:lnTo>
                    <a:pt x="806" y="26"/>
                  </a:lnTo>
                  <a:lnTo>
                    <a:pt x="701" y="26"/>
                  </a:lnTo>
                  <a:lnTo>
                    <a:pt x="652" y="27"/>
                  </a:lnTo>
                  <a:lnTo>
                    <a:pt x="652" y="3"/>
                  </a:lnTo>
                  <a:close/>
                  <a:moveTo>
                    <a:pt x="882" y="0"/>
                  </a:moveTo>
                  <a:lnTo>
                    <a:pt x="902" y="0"/>
                  </a:lnTo>
                  <a:lnTo>
                    <a:pt x="902" y="24"/>
                  </a:lnTo>
                  <a:lnTo>
                    <a:pt x="882" y="24"/>
                  </a:lnTo>
                  <a:lnTo>
                    <a:pt x="882" y="0"/>
                  </a:lnTo>
                  <a:close/>
                  <a:moveTo>
                    <a:pt x="979" y="0"/>
                  </a:moveTo>
                  <a:lnTo>
                    <a:pt x="1057" y="2"/>
                  </a:lnTo>
                  <a:lnTo>
                    <a:pt x="1132" y="2"/>
                  </a:lnTo>
                  <a:lnTo>
                    <a:pt x="1132" y="26"/>
                  </a:lnTo>
                  <a:lnTo>
                    <a:pt x="1057" y="26"/>
                  </a:lnTo>
                  <a:lnTo>
                    <a:pt x="979" y="24"/>
                  </a:lnTo>
                  <a:lnTo>
                    <a:pt x="979" y="0"/>
                  </a:lnTo>
                  <a:close/>
                  <a:moveTo>
                    <a:pt x="1209" y="3"/>
                  </a:moveTo>
                  <a:lnTo>
                    <a:pt x="1228" y="3"/>
                  </a:lnTo>
                  <a:lnTo>
                    <a:pt x="1228" y="27"/>
                  </a:lnTo>
                  <a:lnTo>
                    <a:pt x="1209" y="27"/>
                  </a:lnTo>
                  <a:lnTo>
                    <a:pt x="1209" y="3"/>
                  </a:lnTo>
                  <a:close/>
                  <a:moveTo>
                    <a:pt x="1305" y="4"/>
                  </a:moveTo>
                  <a:lnTo>
                    <a:pt x="1411" y="6"/>
                  </a:lnTo>
                  <a:lnTo>
                    <a:pt x="1458" y="7"/>
                  </a:lnTo>
                  <a:lnTo>
                    <a:pt x="1458" y="31"/>
                  </a:lnTo>
                  <a:lnTo>
                    <a:pt x="1411" y="30"/>
                  </a:lnTo>
                  <a:lnTo>
                    <a:pt x="1305" y="29"/>
                  </a:lnTo>
                  <a:lnTo>
                    <a:pt x="1305" y="4"/>
                  </a:lnTo>
                  <a:close/>
                  <a:moveTo>
                    <a:pt x="1535" y="7"/>
                  </a:moveTo>
                  <a:lnTo>
                    <a:pt x="1547" y="7"/>
                  </a:lnTo>
                  <a:lnTo>
                    <a:pt x="1555" y="7"/>
                  </a:lnTo>
                  <a:lnTo>
                    <a:pt x="1555" y="31"/>
                  </a:lnTo>
                  <a:lnTo>
                    <a:pt x="1547" y="31"/>
                  </a:lnTo>
                  <a:lnTo>
                    <a:pt x="1535" y="31"/>
                  </a:lnTo>
                  <a:lnTo>
                    <a:pt x="1535" y="7"/>
                  </a:lnTo>
                  <a:close/>
                  <a:moveTo>
                    <a:pt x="1632" y="9"/>
                  </a:moveTo>
                  <a:lnTo>
                    <a:pt x="1683" y="9"/>
                  </a:lnTo>
                  <a:lnTo>
                    <a:pt x="1785" y="10"/>
                  </a:lnTo>
                  <a:lnTo>
                    <a:pt x="1785" y="34"/>
                  </a:lnTo>
                  <a:lnTo>
                    <a:pt x="1683" y="33"/>
                  </a:lnTo>
                  <a:lnTo>
                    <a:pt x="1632" y="33"/>
                  </a:lnTo>
                  <a:lnTo>
                    <a:pt x="1632" y="9"/>
                  </a:lnTo>
                  <a:close/>
                  <a:moveTo>
                    <a:pt x="1862" y="10"/>
                  </a:moveTo>
                  <a:lnTo>
                    <a:pt x="1881" y="10"/>
                  </a:lnTo>
                  <a:lnTo>
                    <a:pt x="1881" y="34"/>
                  </a:lnTo>
                  <a:lnTo>
                    <a:pt x="1862" y="34"/>
                  </a:lnTo>
                  <a:lnTo>
                    <a:pt x="1862" y="10"/>
                  </a:lnTo>
                  <a:close/>
                  <a:moveTo>
                    <a:pt x="1957" y="10"/>
                  </a:moveTo>
                  <a:lnTo>
                    <a:pt x="2088" y="10"/>
                  </a:lnTo>
                  <a:lnTo>
                    <a:pt x="2111" y="10"/>
                  </a:lnTo>
                  <a:lnTo>
                    <a:pt x="2111" y="34"/>
                  </a:lnTo>
                  <a:lnTo>
                    <a:pt x="2088" y="34"/>
                  </a:lnTo>
                  <a:lnTo>
                    <a:pt x="1957" y="34"/>
                  </a:lnTo>
                  <a:lnTo>
                    <a:pt x="1957" y="10"/>
                  </a:lnTo>
                  <a:close/>
                  <a:moveTo>
                    <a:pt x="2188" y="10"/>
                  </a:moveTo>
                  <a:lnTo>
                    <a:pt x="2207" y="10"/>
                  </a:lnTo>
                  <a:lnTo>
                    <a:pt x="2207" y="34"/>
                  </a:lnTo>
                  <a:lnTo>
                    <a:pt x="2188" y="34"/>
                  </a:lnTo>
                  <a:lnTo>
                    <a:pt x="2188" y="10"/>
                  </a:lnTo>
                  <a:close/>
                  <a:moveTo>
                    <a:pt x="2283" y="9"/>
                  </a:moveTo>
                  <a:lnTo>
                    <a:pt x="2294" y="9"/>
                  </a:lnTo>
                  <a:lnTo>
                    <a:pt x="2363" y="9"/>
                  </a:lnTo>
                  <a:lnTo>
                    <a:pt x="2433" y="7"/>
                  </a:lnTo>
                  <a:lnTo>
                    <a:pt x="2438" y="7"/>
                  </a:lnTo>
                  <a:lnTo>
                    <a:pt x="2438" y="31"/>
                  </a:lnTo>
                  <a:lnTo>
                    <a:pt x="2433" y="31"/>
                  </a:lnTo>
                  <a:lnTo>
                    <a:pt x="2364" y="33"/>
                  </a:lnTo>
                  <a:lnTo>
                    <a:pt x="2294" y="33"/>
                  </a:lnTo>
                  <a:lnTo>
                    <a:pt x="2283" y="33"/>
                  </a:lnTo>
                  <a:lnTo>
                    <a:pt x="2283" y="9"/>
                  </a:lnTo>
                  <a:close/>
                  <a:moveTo>
                    <a:pt x="2514" y="6"/>
                  </a:moveTo>
                  <a:lnTo>
                    <a:pt x="2533" y="6"/>
                  </a:lnTo>
                  <a:lnTo>
                    <a:pt x="2534" y="30"/>
                  </a:lnTo>
                  <a:lnTo>
                    <a:pt x="2515" y="30"/>
                  </a:lnTo>
                  <a:lnTo>
                    <a:pt x="2514" y="6"/>
                  </a:lnTo>
                  <a:close/>
                  <a:moveTo>
                    <a:pt x="2610" y="4"/>
                  </a:moveTo>
                  <a:lnTo>
                    <a:pt x="2702" y="3"/>
                  </a:lnTo>
                  <a:lnTo>
                    <a:pt x="2764" y="2"/>
                  </a:lnTo>
                  <a:lnTo>
                    <a:pt x="2764" y="26"/>
                  </a:lnTo>
                  <a:lnTo>
                    <a:pt x="2702" y="27"/>
                  </a:lnTo>
                  <a:lnTo>
                    <a:pt x="2610" y="29"/>
                  </a:lnTo>
                  <a:lnTo>
                    <a:pt x="2610" y="4"/>
                  </a:lnTo>
                  <a:close/>
                  <a:moveTo>
                    <a:pt x="2840" y="2"/>
                  </a:moveTo>
                  <a:lnTo>
                    <a:pt x="2859" y="2"/>
                  </a:lnTo>
                  <a:lnTo>
                    <a:pt x="2859" y="26"/>
                  </a:lnTo>
                  <a:lnTo>
                    <a:pt x="2840" y="26"/>
                  </a:lnTo>
                  <a:lnTo>
                    <a:pt x="2840" y="2"/>
                  </a:lnTo>
                  <a:close/>
                  <a:moveTo>
                    <a:pt x="2936" y="2"/>
                  </a:moveTo>
                  <a:lnTo>
                    <a:pt x="3000" y="3"/>
                  </a:lnTo>
                  <a:lnTo>
                    <a:pt x="3091" y="6"/>
                  </a:lnTo>
                  <a:lnTo>
                    <a:pt x="3089" y="30"/>
                  </a:lnTo>
                  <a:lnTo>
                    <a:pt x="2999" y="27"/>
                  </a:lnTo>
                  <a:lnTo>
                    <a:pt x="2936" y="26"/>
                  </a:lnTo>
                  <a:lnTo>
                    <a:pt x="2936" y="2"/>
                  </a:lnTo>
                  <a:close/>
                  <a:moveTo>
                    <a:pt x="3168" y="10"/>
                  </a:moveTo>
                  <a:lnTo>
                    <a:pt x="3186" y="10"/>
                  </a:lnTo>
                  <a:lnTo>
                    <a:pt x="3186" y="34"/>
                  </a:lnTo>
                  <a:lnTo>
                    <a:pt x="3167" y="34"/>
                  </a:lnTo>
                  <a:lnTo>
                    <a:pt x="3168" y="10"/>
                  </a:lnTo>
                  <a:close/>
                  <a:moveTo>
                    <a:pt x="3263" y="17"/>
                  </a:moveTo>
                  <a:lnTo>
                    <a:pt x="3287" y="19"/>
                  </a:lnTo>
                  <a:lnTo>
                    <a:pt x="3378" y="30"/>
                  </a:lnTo>
                  <a:lnTo>
                    <a:pt x="3417" y="37"/>
                  </a:lnTo>
                  <a:lnTo>
                    <a:pt x="3414" y="61"/>
                  </a:lnTo>
                  <a:lnTo>
                    <a:pt x="3376" y="54"/>
                  </a:lnTo>
                  <a:lnTo>
                    <a:pt x="3286" y="43"/>
                  </a:lnTo>
                  <a:lnTo>
                    <a:pt x="3262" y="41"/>
                  </a:lnTo>
                  <a:lnTo>
                    <a:pt x="3263" y="17"/>
                  </a:lnTo>
                  <a:close/>
                  <a:moveTo>
                    <a:pt x="3493" y="51"/>
                  </a:moveTo>
                  <a:lnTo>
                    <a:pt x="3512" y="55"/>
                  </a:lnTo>
                  <a:lnTo>
                    <a:pt x="3509" y="78"/>
                  </a:lnTo>
                  <a:lnTo>
                    <a:pt x="3490" y="74"/>
                  </a:lnTo>
                  <a:lnTo>
                    <a:pt x="3493" y="51"/>
                  </a:lnTo>
                  <a:close/>
                  <a:moveTo>
                    <a:pt x="3587" y="74"/>
                  </a:moveTo>
                  <a:lnTo>
                    <a:pt x="3634" y="87"/>
                  </a:lnTo>
                  <a:lnTo>
                    <a:pt x="3672" y="101"/>
                  </a:lnTo>
                  <a:lnTo>
                    <a:pt x="3710" y="115"/>
                  </a:lnTo>
                  <a:lnTo>
                    <a:pt x="3736" y="128"/>
                  </a:lnTo>
                  <a:lnTo>
                    <a:pt x="3730" y="150"/>
                  </a:lnTo>
                  <a:lnTo>
                    <a:pt x="3704" y="138"/>
                  </a:lnTo>
                  <a:lnTo>
                    <a:pt x="3704" y="139"/>
                  </a:lnTo>
                  <a:lnTo>
                    <a:pt x="3666" y="123"/>
                  </a:lnTo>
                  <a:lnTo>
                    <a:pt x="3628" y="111"/>
                  </a:lnTo>
                  <a:lnTo>
                    <a:pt x="3629" y="111"/>
                  </a:lnTo>
                  <a:lnTo>
                    <a:pt x="3584" y="98"/>
                  </a:lnTo>
                  <a:lnTo>
                    <a:pt x="3587" y="74"/>
                  </a:lnTo>
                  <a:close/>
                  <a:moveTo>
                    <a:pt x="3808" y="163"/>
                  </a:moveTo>
                  <a:lnTo>
                    <a:pt x="3816" y="169"/>
                  </a:lnTo>
                  <a:lnTo>
                    <a:pt x="3825" y="174"/>
                  </a:lnTo>
                  <a:lnTo>
                    <a:pt x="3817" y="196"/>
                  </a:lnTo>
                  <a:lnTo>
                    <a:pt x="3808" y="190"/>
                  </a:lnTo>
                  <a:lnTo>
                    <a:pt x="3800" y="186"/>
                  </a:lnTo>
                  <a:lnTo>
                    <a:pt x="3808" y="163"/>
                  </a:lnTo>
                  <a:close/>
                  <a:moveTo>
                    <a:pt x="3893" y="221"/>
                  </a:moveTo>
                  <a:lnTo>
                    <a:pt x="3910" y="234"/>
                  </a:lnTo>
                  <a:lnTo>
                    <a:pt x="3900" y="255"/>
                  </a:lnTo>
                  <a:lnTo>
                    <a:pt x="3883" y="242"/>
                  </a:lnTo>
                  <a:lnTo>
                    <a:pt x="3893" y="221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73" name="Rectangle 55"/>
            <p:cNvSpPr/>
            <p:nvPr/>
          </p:nvSpPr>
          <p:spPr>
            <a:xfrm>
              <a:off x="2080440" y="4422600"/>
              <a:ext cx="83880" cy="11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74" name="Rectangle 56"/>
            <p:cNvSpPr/>
            <p:nvPr/>
          </p:nvSpPr>
          <p:spPr>
            <a:xfrm>
              <a:off x="2080440" y="4422600"/>
              <a:ext cx="83880" cy="115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75" name="Rectangle 57"/>
            <p:cNvSpPr/>
            <p:nvPr/>
          </p:nvSpPr>
          <p:spPr>
            <a:xfrm>
              <a:off x="2080440" y="4449240"/>
              <a:ext cx="83880" cy="11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76" name="Rectangle 58"/>
            <p:cNvSpPr/>
            <p:nvPr/>
          </p:nvSpPr>
          <p:spPr>
            <a:xfrm>
              <a:off x="2080440" y="4449240"/>
              <a:ext cx="83880" cy="115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77" name="Freeform 59"/>
            <p:cNvSpPr/>
            <p:nvPr/>
          </p:nvSpPr>
          <p:spPr>
            <a:xfrm>
              <a:off x="2028960" y="4496760"/>
              <a:ext cx="69120" cy="439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43920"/>
                <a:gd name="textAreaBottom" fmla="*/ 43920 h 43920"/>
              </a:gdLst>
              <a:ahLst/>
              <a:rect l="textAreaLeft" t="textAreaTop" r="textAreaRight" b="textAreaBottom"/>
              <a:pathLst>
                <a:path w="173" h="109">
                  <a:moveTo>
                    <a:pt x="109" y="109"/>
                  </a:moveTo>
                  <a:lnTo>
                    <a:pt x="0" y="109"/>
                  </a:lnTo>
                  <a:lnTo>
                    <a:pt x="4" y="18"/>
                  </a:lnTo>
                  <a:lnTo>
                    <a:pt x="64" y="18"/>
                  </a:lnTo>
                  <a:lnTo>
                    <a:pt x="173" y="0"/>
                  </a:lnTo>
                  <a:lnTo>
                    <a:pt x="109" y="109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78" name="Freeform 60"/>
            <p:cNvSpPr/>
            <p:nvPr/>
          </p:nvSpPr>
          <p:spPr>
            <a:xfrm>
              <a:off x="2009520" y="4550040"/>
              <a:ext cx="63360" cy="356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54" h="90">
                  <a:moveTo>
                    <a:pt x="45" y="0"/>
                  </a:moveTo>
                  <a:lnTo>
                    <a:pt x="154" y="0"/>
                  </a:lnTo>
                  <a:lnTo>
                    <a:pt x="109" y="90"/>
                  </a:lnTo>
                  <a:lnTo>
                    <a:pt x="0" y="9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79" name="Freeform 61"/>
            <p:cNvSpPr/>
            <p:nvPr/>
          </p:nvSpPr>
          <p:spPr>
            <a:xfrm>
              <a:off x="1985760" y="4593960"/>
              <a:ext cx="63360" cy="345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4" h="90">
                  <a:moveTo>
                    <a:pt x="45" y="0"/>
                  </a:moveTo>
                  <a:lnTo>
                    <a:pt x="154" y="0"/>
                  </a:lnTo>
                  <a:lnTo>
                    <a:pt x="109" y="90"/>
                  </a:lnTo>
                  <a:lnTo>
                    <a:pt x="0" y="9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0" name="Freeform 62"/>
            <p:cNvSpPr/>
            <p:nvPr/>
          </p:nvSpPr>
          <p:spPr>
            <a:xfrm>
              <a:off x="1943280" y="4502520"/>
              <a:ext cx="62280" cy="381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4" h="95">
                  <a:moveTo>
                    <a:pt x="154" y="4"/>
                  </a:moveTo>
                  <a:lnTo>
                    <a:pt x="154" y="95"/>
                  </a:lnTo>
                  <a:lnTo>
                    <a:pt x="0" y="95"/>
                  </a:lnTo>
                  <a:lnTo>
                    <a:pt x="0" y="28"/>
                  </a:lnTo>
                  <a:lnTo>
                    <a:pt x="90" y="27"/>
                  </a:lnTo>
                  <a:lnTo>
                    <a:pt x="90" y="0"/>
                  </a:lnTo>
                  <a:lnTo>
                    <a:pt x="154" y="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1" name="Freeform 63"/>
            <p:cNvSpPr/>
            <p:nvPr/>
          </p:nvSpPr>
          <p:spPr>
            <a:xfrm>
              <a:off x="1899000" y="4558320"/>
              <a:ext cx="99360" cy="7056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45" h="181">
                  <a:moveTo>
                    <a:pt x="91" y="0"/>
                  </a:moveTo>
                  <a:lnTo>
                    <a:pt x="245" y="0"/>
                  </a:lnTo>
                  <a:lnTo>
                    <a:pt x="154" y="181"/>
                  </a:lnTo>
                  <a:lnTo>
                    <a:pt x="0" y="181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2" name="Freeform 64"/>
            <p:cNvSpPr/>
            <p:nvPr/>
          </p:nvSpPr>
          <p:spPr>
            <a:xfrm>
              <a:off x="1851120" y="4510800"/>
              <a:ext cx="74160" cy="392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81" h="101">
                  <a:moveTo>
                    <a:pt x="181" y="0"/>
                  </a:moveTo>
                  <a:lnTo>
                    <a:pt x="181" y="101"/>
                  </a:lnTo>
                  <a:lnTo>
                    <a:pt x="0" y="101"/>
                  </a:lnTo>
                  <a:lnTo>
                    <a:pt x="18" y="10"/>
                  </a:lnTo>
                  <a:lnTo>
                    <a:pt x="63" y="1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3" name="Freeform 65"/>
            <p:cNvSpPr/>
            <p:nvPr/>
          </p:nvSpPr>
          <p:spPr>
            <a:xfrm>
              <a:off x="2115360" y="4493520"/>
              <a:ext cx="62280" cy="356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55" h="90">
                  <a:moveTo>
                    <a:pt x="46" y="0"/>
                  </a:moveTo>
                  <a:lnTo>
                    <a:pt x="155" y="0"/>
                  </a:lnTo>
                  <a:lnTo>
                    <a:pt x="109" y="90"/>
                  </a:lnTo>
                  <a:lnTo>
                    <a:pt x="0" y="9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4" name="Freeform 66"/>
            <p:cNvSpPr/>
            <p:nvPr/>
          </p:nvSpPr>
          <p:spPr>
            <a:xfrm>
              <a:off x="2176560" y="4487400"/>
              <a:ext cx="62280" cy="345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4" h="90">
                  <a:moveTo>
                    <a:pt x="45" y="0"/>
                  </a:moveTo>
                  <a:lnTo>
                    <a:pt x="154" y="0"/>
                  </a:lnTo>
                  <a:lnTo>
                    <a:pt x="109" y="90"/>
                  </a:lnTo>
                  <a:lnTo>
                    <a:pt x="0" y="9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5" name="Freeform 67"/>
            <p:cNvSpPr/>
            <p:nvPr/>
          </p:nvSpPr>
          <p:spPr>
            <a:xfrm>
              <a:off x="2073240" y="4575600"/>
              <a:ext cx="62280" cy="356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54" h="91">
                  <a:moveTo>
                    <a:pt x="45" y="0"/>
                  </a:moveTo>
                  <a:lnTo>
                    <a:pt x="154" y="0"/>
                  </a:lnTo>
                  <a:lnTo>
                    <a:pt x="109" y="91"/>
                  </a:lnTo>
                  <a:lnTo>
                    <a:pt x="0" y="9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6" name="Freeform 68"/>
            <p:cNvSpPr/>
            <p:nvPr/>
          </p:nvSpPr>
          <p:spPr>
            <a:xfrm>
              <a:off x="2152440" y="4574520"/>
              <a:ext cx="62280" cy="367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54" h="95">
                  <a:moveTo>
                    <a:pt x="0" y="91"/>
                  </a:moveTo>
                  <a:lnTo>
                    <a:pt x="0" y="0"/>
                  </a:lnTo>
                  <a:lnTo>
                    <a:pt x="154" y="0"/>
                  </a:lnTo>
                  <a:lnTo>
                    <a:pt x="154" y="67"/>
                  </a:lnTo>
                  <a:lnTo>
                    <a:pt x="64" y="68"/>
                  </a:lnTo>
                  <a:lnTo>
                    <a:pt x="64" y="9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7" name="Freeform 69"/>
            <p:cNvSpPr/>
            <p:nvPr/>
          </p:nvSpPr>
          <p:spPr>
            <a:xfrm>
              <a:off x="2219760" y="4573080"/>
              <a:ext cx="74160" cy="392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81" h="100">
                  <a:moveTo>
                    <a:pt x="0" y="100"/>
                  </a:moveTo>
                  <a:lnTo>
                    <a:pt x="0" y="0"/>
                  </a:lnTo>
                  <a:lnTo>
                    <a:pt x="181" y="0"/>
                  </a:lnTo>
                  <a:lnTo>
                    <a:pt x="163" y="90"/>
                  </a:lnTo>
                  <a:lnTo>
                    <a:pt x="118" y="9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8" name="Freeform 70"/>
            <p:cNvSpPr/>
            <p:nvPr/>
          </p:nvSpPr>
          <p:spPr>
            <a:xfrm>
              <a:off x="2238840" y="4487400"/>
              <a:ext cx="117360" cy="345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90" h="90">
                  <a:moveTo>
                    <a:pt x="44" y="0"/>
                  </a:moveTo>
                  <a:lnTo>
                    <a:pt x="290" y="0"/>
                  </a:lnTo>
                  <a:lnTo>
                    <a:pt x="273" y="90"/>
                  </a:lnTo>
                  <a:lnTo>
                    <a:pt x="0" y="9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2238840" y="4532760"/>
              <a:ext cx="103320" cy="205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0" name="Rectangle 72"/>
            <p:cNvSpPr/>
            <p:nvPr/>
          </p:nvSpPr>
          <p:spPr>
            <a:xfrm>
              <a:off x="2174040" y="4529160"/>
              <a:ext cx="45720" cy="205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1" name="Rectangle 73"/>
            <p:cNvSpPr/>
            <p:nvPr/>
          </p:nvSpPr>
          <p:spPr>
            <a:xfrm>
              <a:off x="2367360" y="4487400"/>
              <a:ext cx="55080" cy="18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2" name="Freeform 74"/>
            <p:cNvSpPr/>
            <p:nvPr/>
          </p:nvSpPr>
          <p:spPr>
            <a:xfrm>
              <a:off x="2349360" y="4515480"/>
              <a:ext cx="62280" cy="345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4" h="91">
                  <a:moveTo>
                    <a:pt x="46" y="0"/>
                  </a:moveTo>
                  <a:lnTo>
                    <a:pt x="154" y="0"/>
                  </a:lnTo>
                  <a:lnTo>
                    <a:pt x="109" y="91"/>
                  </a:lnTo>
                  <a:lnTo>
                    <a:pt x="0" y="9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3" name="Freeform 75"/>
            <p:cNvSpPr/>
            <p:nvPr/>
          </p:nvSpPr>
          <p:spPr>
            <a:xfrm>
              <a:off x="2534400" y="4496760"/>
              <a:ext cx="91080" cy="356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26" h="90">
                  <a:moveTo>
                    <a:pt x="118" y="0"/>
                  </a:moveTo>
                  <a:lnTo>
                    <a:pt x="226" y="0"/>
                  </a:lnTo>
                  <a:lnTo>
                    <a:pt x="181" y="90"/>
                  </a:lnTo>
                  <a:lnTo>
                    <a:pt x="0" y="8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4" name="Freeform 76"/>
            <p:cNvSpPr/>
            <p:nvPr/>
          </p:nvSpPr>
          <p:spPr>
            <a:xfrm>
              <a:off x="2495880" y="4536000"/>
              <a:ext cx="93600" cy="252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27" h="64">
                  <a:moveTo>
                    <a:pt x="67" y="0"/>
                  </a:moveTo>
                  <a:lnTo>
                    <a:pt x="227" y="0"/>
                  </a:lnTo>
                  <a:lnTo>
                    <a:pt x="160" y="64"/>
                  </a:lnTo>
                  <a:lnTo>
                    <a:pt x="0" y="64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5" name="Rectangle 77"/>
            <p:cNvSpPr/>
            <p:nvPr/>
          </p:nvSpPr>
          <p:spPr>
            <a:xfrm>
              <a:off x="2631600" y="4499280"/>
              <a:ext cx="102960" cy="288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6" name="Rectangle 78"/>
            <p:cNvSpPr/>
            <p:nvPr/>
          </p:nvSpPr>
          <p:spPr>
            <a:xfrm>
              <a:off x="2743200" y="4501440"/>
              <a:ext cx="47880" cy="205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7" name="Rectangle 79"/>
            <p:cNvSpPr/>
            <p:nvPr/>
          </p:nvSpPr>
          <p:spPr>
            <a:xfrm>
              <a:off x="2680920" y="4540680"/>
              <a:ext cx="102960" cy="18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8" name="Rectangle 80"/>
            <p:cNvSpPr/>
            <p:nvPr/>
          </p:nvSpPr>
          <p:spPr>
            <a:xfrm>
              <a:off x="2970360" y="4157640"/>
              <a:ext cx="47880" cy="277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9" name="Rectangle 81"/>
            <p:cNvSpPr/>
            <p:nvPr/>
          </p:nvSpPr>
          <p:spPr>
            <a:xfrm>
              <a:off x="2908800" y="4157640"/>
              <a:ext cx="47880" cy="277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00" name="Freeform 82"/>
            <p:cNvSpPr/>
            <p:nvPr/>
          </p:nvSpPr>
          <p:spPr>
            <a:xfrm>
              <a:off x="2931840" y="4193640"/>
              <a:ext cx="82440" cy="298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04" h="77">
                  <a:moveTo>
                    <a:pt x="64" y="4"/>
                  </a:moveTo>
                  <a:lnTo>
                    <a:pt x="204" y="0"/>
                  </a:lnTo>
                  <a:lnTo>
                    <a:pt x="109" y="77"/>
                  </a:lnTo>
                  <a:lnTo>
                    <a:pt x="0" y="77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01" name="Freeform 83"/>
            <p:cNvSpPr/>
            <p:nvPr/>
          </p:nvSpPr>
          <p:spPr>
            <a:xfrm>
              <a:off x="2907720" y="4229280"/>
              <a:ext cx="62280" cy="172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54" h="45">
                  <a:moveTo>
                    <a:pt x="45" y="0"/>
                  </a:moveTo>
                  <a:lnTo>
                    <a:pt x="154" y="0"/>
                  </a:lnTo>
                  <a:lnTo>
                    <a:pt x="109" y="45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02" name="Rectangle 84"/>
            <p:cNvSpPr/>
            <p:nvPr/>
          </p:nvSpPr>
          <p:spPr>
            <a:xfrm>
              <a:off x="2853720" y="4157640"/>
              <a:ext cx="47880" cy="450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03" name="Rectangle 85"/>
            <p:cNvSpPr/>
            <p:nvPr/>
          </p:nvSpPr>
          <p:spPr>
            <a:xfrm>
              <a:off x="2804400" y="4307040"/>
              <a:ext cx="47880" cy="194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04" name="Freeform 86"/>
            <p:cNvSpPr/>
            <p:nvPr/>
          </p:nvSpPr>
          <p:spPr>
            <a:xfrm>
              <a:off x="2719080" y="4326840"/>
              <a:ext cx="72000" cy="565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79" h="144">
                  <a:moveTo>
                    <a:pt x="0" y="82"/>
                  </a:moveTo>
                  <a:lnTo>
                    <a:pt x="37" y="144"/>
                  </a:lnTo>
                  <a:lnTo>
                    <a:pt x="179" y="62"/>
                  </a:lnTo>
                  <a:lnTo>
                    <a:pt x="143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05" name="Freeform 87"/>
            <p:cNvSpPr/>
            <p:nvPr/>
          </p:nvSpPr>
          <p:spPr>
            <a:xfrm>
              <a:off x="2662920" y="4381200"/>
              <a:ext cx="58680" cy="40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44" h="103">
                  <a:moveTo>
                    <a:pt x="0" y="72"/>
                  </a:moveTo>
                  <a:lnTo>
                    <a:pt x="18" y="103"/>
                  </a:lnTo>
                  <a:lnTo>
                    <a:pt x="144" y="30"/>
                  </a:lnTo>
                  <a:lnTo>
                    <a:pt x="126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06" name="Freeform 88"/>
            <p:cNvSpPr/>
            <p:nvPr/>
          </p:nvSpPr>
          <p:spPr>
            <a:xfrm>
              <a:off x="2689200" y="4322160"/>
              <a:ext cx="58680" cy="40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44" h="105">
                  <a:moveTo>
                    <a:pt x="0" y="74"/>
                  </a:moveTo>
                  <a:lnTo>
                    <a:pt x="17" y="105"/>
                  </a:lnTo>
                  <a:lnTo>
                    <a:pt x="144" y="31"/>
                  </a:lnTo>
                  <a:lnTo>
                    <a:pt x="126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07" name="Freeform 89"/>
            <p:cNvSpPr/>
            <p:nvPr/>
          </p:nvSpPr>
          <p:spPr>
            <a:xfrm>
              <a:off x="2633760" y="4362840"/>
              <a:ext cx="58680" cy="40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44" h="103">
                  <a:moveTo>
                    <a:pt x="0" y="72"/>
                  </a:moveTo>
                  <a:lnTo>
                    <a:pt x="17" y="103"/>
                  </a:lnTo>
                  <a:lnTo>
                    <a:pt x="144" y="29"/>
                  </a:lnTo>
                  <a:lnTo>
                    <a:pt x="125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08" name="Freeform 90"/>
            <p:cNvSpPr/>
            <p:nvPr/>
          </p:nvSpPr>
          <p:spPr>
            <a:xfrm>
              <a:off x="2625480" y="433944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44" h="105">
                  <a:moveTo>
                    <a:pt x="0" y="74"/>
                  </a:moveTo>
                  <a:lnTo>
                    <a:pt x="19" y="105"/>
                  </a:lnTo>
                  <a:lnTo>
                    <a:pt x="144" y="31"/>
                  </a:lnTo>
                  <a:lnTo>
                    <a:pt x="126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3305160" y="4267800"/>
              <a:ext cx="47880" cy="277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0" name="Rectangle 92"/>
            <p:cNvSpPr/>
            <p:nvPr/>
          </p:nvSpPr>
          <p:spPr>
            <a:xfrm>
              <a:off x="3243960" y="4273560"/>
              <a:ext cx="47880" cy="288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1" name="Rectangle 93"/>
            <p:cNvSpPr/>
            <p:nvPr/>
          </p:nvSpPr>
          <p:spPr>
            <a:xfrm>
              <a:off x="3188520" y="4281480"/>
              <a:ext cx="47880" cy="450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2" name="Freeform 94"/>
            <p:cNvSpPr/>
            <p:nvPr/>
          </p:nvSpPr>
          <p:spPr>
            <a:xfrm>
              <a:off x="3234240" y="4375440"/>
              <a:ext cx="57600" cy="403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44" h="105">
                  <a:moveTo>
                    <a:pt x="0" y="73"/>
                  </a:moveTo>
                  <a:lnTo>
                    <a:pt x="18" y="105"/>
                  </a:lnTo>
                  <a:lnTo>
                    <a:pt x="144" y="31"/>
                  </a:lnTo>
                  <a:lnTo>
                    <a:pt x="12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3" name="Freeform 95"/>
            <p:cNvSpPr/>
            <p:nvPr/>
          </p:nvSpPr>
          <p:spPr>
            <a:xfrm>
              <a:off x="3271680" y="4309560"/>
              <a:ext cx="58680" cy="40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44" h="103">
                  <a:moveTo>
                    <a:pt x="0" y="72"/>
                  </a:moveTo>
                  <a:lnTo>
                    <a:pt x="19" y="103"/>
                  </a:lnTo>
                  <a:lnTo>
                    <a:pt x="144" y="29"/>
                  </a:lnTo>
                  <a:lnTo>
                    <a:pt x="126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4" name="Freeform 96"/>
            <p:cNvSpPr/>
            <p:nvPr/>
          </p:nvSpPr>
          <p:spPr>
            <a:xfrm>
              <a:off x="3205440" y="435708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44" h="104">
                  <a:moveTo>
                    <a:pt x="0" y="73"/>
                  </a:moveTo>
                  <a:lnTo>
                    <a:pt x="17" y="104"/>
                  </a:lnTo>
                  <a:lnTo>
                    <a:pt x="144" y="31"/>
                  </a:lnTo>
                  <a:lnTo>
                    <a:pt x="12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5" name="Freeform 97"/>
            <p:cNvSpPr/>
            <p:nvPr/>
          </p:nvSpPr>
          <p:spPr>
            <a:xfrm>
              <a:off x="3197160" y="4334760"/>
              <a:ext cx="58680" cy="40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144" h="104">
                  <a:moveTo>
                    <a:pt x="0" y="74"/>
                  </a:moveTo>
                  <a:lnTo>
                    <a:pt x="18" y="104"/>
                  </a:lnTo>
                  <a:lnTo>
                    <a:pt x="144" y="32"/>
                  </a:lnTo>
                  <a:lnTo>
                    <a:pt x="126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6" name="Rectangle 98"/>
            <p:cNvSpPr/>
            <p:nvPr/>
          </p:nvSpPr>
          <p:spPr>
            <a:xfrm>
              <a:off x="3210480" y="4199400"/>
              <a:ext cx="47880" cy="288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7" name="Freeform 99"/>
            <p:cNvSpPr/>
            <p:nvPr/>
          </p:nvSpPr>
          <p:spPr>
            <a:xfrm>
              <a:off x="3296520" y="432684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44" h="103">
                  <a:moveTo>
                    <a:pt x="0" y="72"/>
                  </a:moveTo>
                  <a:lnTo>
                    <a:pt x="17" y="103"/>
                  </a:lnTo>
                  <a:lnTo>
                    <a:pt x="144" y="30"/>
                  </a:lnTo>
                  <a:lnTo>
                    <a:pt x="126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8" name="Freeform 100"/>
            <p:cNvSpPr/>
            <p:nvPr/>
          </p:nvSpPr>
          <p:spPr>
            <a:xfrm>
              <a:off x="3315960" y="4345200"/>
              <a:ext cx="58680" cy="40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144" h="104">
                  <a:moveTo>
                    <a:pt x="0" y="73"/>
                  </a:moveTo>
                  <a:lnTo>
                    <a:pt x="17" y="104"/>
                  </a:lnTo>
                  <a:lnTo>
                    <a:pt x="144" y="30"/>
                  </a:lnTo>
                  <a:lnTo>
                    <a:pt x="12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9" name="Rectangle 101"/>
            <p:cNvSpPr/>
            <p:nvPr/>
          </p:nvSpPr>
          <p:spPr>
            <a:xfrm>
              <a:off x="3271680" y="4199400"/>
              <a:ext cx="35640" cy="205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0" name="Rectangle 102"/>
            <p:cNvSpPr/>
            <p:nvPr/>
          </p:nvSpPr>
          <p:spPr>
            <a:xfrm>
              <a:off x="3320640" y="4203000"/>
              <a:ext cx="24120" cy="13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1" name="Rectangle 103"/>
            <p:cNvSpPr/>
            <p:nvPr/>
          </p:nvSpPr>
          <p:spPr>
            <a:xfrm>
              <a:off x="3135600" y="4276800"/>
              <a:ext cx="25200" cy="151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2" name="Freeform 104"/>
            <p:cNvSpPr/>
            <p:nvPr/>
          </p:nvSpPr>
          <p:spPr>
            <a:xfrm>
              <a:off x="3123720" y="4362840"/>
              <a:ext cx="45720" cy="691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13" h="177">
                  <a:moveTo>
                    <a:pt x="43" y="177"/>
                  </a:moveTo>
                  <a:lnTo>
                    <a:pt x="113" y="158"/>
                  </a:lnTo>
                  <a:lnTo>
                    <a:pt x="70" y="0"/>
                  </a:lnTo>
                  <a:lnTo>
                    <a:pt x="0" y="18"/>
                  </a:lnTo>
                  <a:lnTo>
                    <a:pt x="43" y="177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3" name="Rectangle 105"/>
            <p:cNvSpPr/>
            <p:nvPr/>
          </p:nvSpPr>
          <p:spPr>
            <a:xfrm>
              <a:off x="2119680" y="4332600"/>
              <a:ext cx="26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○○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駅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3344760" y="4264200"/>
              <a:ext cx="24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△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町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5" name="Rectangle 107"/>
            <p:cNvSpPr/>
            <p:nvPr/>
          </p:nvSpPr>
          <p:spPr>
            <a:xfrm>
              <a:off x="2426040" y="4192560"/>
              <a:ext cx="20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×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町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6" name="Rectangle 108"/>
            <p:cNvSpPr/>
            <p:nvPr/>
          </p:nvSpPr>
          <p:spPr>
            <a:xfrm>
              <a:off x="2929320" y="43347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＊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7" name="Rectangle 109"/>
            <p:cNvSpPr/>
            <p:nvPr/>
          </p:nvSpPr>
          <p:spPr>
            <a:xfrm>
              <a:off x="2983680" y="43347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＊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8" name="Rectangle 110"/>
            <p:cNvSpPr/>
            <p:nvPr/>
          </p:nvSpPr>
          <p:spPr>
            <a:xfrm>
              <a:off x="2993040" y="4334760"/>
              <a:ext cx="13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  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川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9" name="Freeform 111"/>
            <p:cNvSpPr/>
            <p:nvPr/>
          </p:nvSpPr>
          <p:spPr>
            <a:xfrm>
              <a:off x="2936520" y="4111560"/>
              <a:ext cx="318240" cy="53784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537840"/>
                <a:gd name="textAreaBottom" fmla="*/ 537840 h 537840"/>
              </a:gdLst>
              <a:ahLst/>
              <a:rect l="textAreaLeft" t="textAreaTop" r="textAreaRight" b="textAreaBottom"/>
              <a:pathLst>
                <a:path w="782" h="1374">
                  <a:moveTo>
                    <a:pt x="779" y="13"/>
                  </a:moveTo>
                  <a:lnTo>
                    <a:pt x="717" y="75"/>
                  </a:lnTo>
                  <a:lnTo>
                    <a:pt x="715" y="77"/>
                  </a:lnTo>
                  <a:lnTo>
                    <a:pt x="713" y="77"/>
                  </a:lnTo>
                  <a:lnTo>
                    <a:pt x="710" y="77"/>
                  </a:lnTo>
                  <a:lnTo>
                    <a:pt x="709" y="75"/>
                  </a:lnTo>
                  <a:lnTo>
                    <a:pt x="708" y="72"/>
                  </a:lnTo>
                  <a:lnTo>
                    <a:pt x="708" y="70"/>
                  </a:lnTo>
                  <a:lnTo>
                    <a:pt x="708" y="67"/>
                  </a:lnTo>
                  <a:lnTo>
                    <a:pt x="710" y="64"/>
                  </a:lnTo>
                  <a:lnTo>
                    <a:pt x="773" y="2"/>
                  </a:lnTo>
                  <a:lnTo>
                    <a:pt x="775" y="0"/>
                  </a:lnTo>
                  <a:lnTo>
                    <a:pt x="777" y="0"/>
                  </a:lnTo>
                  <a:lnTo>
                    <a:pt x="778" y="0"/>
                  </a:lnTo>
                  <a:lnTo>
                    <a:pt x="781" y="2"/>
                  </a:lnTo>
                  <a:lnTo>
                    <a:pt x="782" y="4"/>
                  </a:lnTo>
                  <a:lnTo>
                    <a:pt x="782" y="7"/>
                  </a:lnTo>
                  <a:lnTo>
                    <a:pt x="782" y="10"/>
                  </a:lnTo>
                  <a:lnTo>
                    <a:pt x="779" y="13"/>
                  </a:lnTo>
                  <a:close/>
                  <a:moveTo>
                    <a:pt x="673" y="121"/>
                  </a:moveTo>
                  <a:lnTo>
                    <a:pt x="672" y="121"/>
                  </a:lnTo>
                  <a:lnTo>
                    <a:pt x="671" y="122"/>
                  </a:lnTo>
                  <a:lnTo>
                    <a:pt x="668" y="122"/>
                  </a:lnTo>
                  <a:lnTo>
                    <a:pt x="666" y="122"/>
                  </a:lnTo>
                  <a:lnTo>
                    <a:pt x="664" y="121"/>
                  </a:lnTo>
                  <a:lnTo>
                    <a:pt x="663" y="118"/>
                  </a:lnTo>
                  <a:lnTo>
                    <a:pt x="663" y="115"/>
                  </a:lnTo>
                  <a:lnTo>
                    <a:pt x="664" y="112"/>
                  </a:lnTo>
                  <a:lnTo>
                    <a:pt x="665" y="109"/>
                  </a:lnTo>
                  <a:lnTo>
                    <a:pt x="667" y="108"/>
                  </a:lnTo>
                  <a:lnTo>
                    <a:pt x="670" y="108"/>
                  </a:lnTo>
                  <a:lnTo>
                    <a:pt x="672" y="109"/>
                  </a:lnTo>
                  <a:lnTo>
                    <a:pt x="673" y="111"/>
                  </a:lnTo>
                  <a:lnTo>
                    <a:pt x="674" y="114"/>
                  </a:lnTo>
                  <a:lnTo>
                    <a:pt x="674" y="116"/>
                  </a:lnTo>
                  <a:lnTo>
                    <a:pt x="674" y="119"/>
                  </a:lnTo>
                  <a:lnTo>
                    <a:pt x="673" y="121"/>
                  </a:lnTo>
                  <a:close/>
                  <a:moveTo>
                    <a:pt x="628" y="166"/>
                  </a:moveTo>
                  <a:lnTo>
                    <a:pt x="565" y="230"/>
                  </a:lnTo>
                  <a:lnTo>
                    <a:pt x="563" y="231"/>
                  </a:lnTo>
                  <a:lnTo>
                    <a:pt x="561" y="231"/>
                  </a:lnTo>
                  <a:lnTo>
                    <a:pt x="558" y="231"/>
                  </a:lnTo>
                  <a:lnTo>
                    <a:pt x="557" y="228"/>
                  </a:lnTo>
                  <a:lnTo>
                    <a:pt x="556" y="225"/>
                  </a:lnTo>
                  <a:lnTo>
                    <a:pt x="556" y="224"/>
                  </a:lnTo>
                  <a:lnTo>
                    <a:pt x="556" y="221"/>
                  </a:lnTo>
                  <a:lnTo>
                    <a:pt x="557" y="218"/>
                  </a:lnTo>
                  <a:lnTo>
                    <a:pt x="621" y="155"/>
                  </a:lnTo>
                  <a:lnTo>
                    <a:pt x="622" y="153"/>
                  </a:lnTo>
                  <a:lnTo>
                    <a:pt x="624" y="153"/>
                  </a:lnTo>
                  <a:lnTo>
                    <a:pt x="626" y="155"/>
                  </a:lnTo>
                  <a:lnTo>
                    <a:pt x="629" y="156"/>
                  </a:lnTo>
                  <a:lnTo>
                    <a:pt x="630" y="159"/>
                  </a:lnTo>
                  <a:lnTo>
                    <a:pt x="630" y="162"/>
                  </a:lnTo>
                  <a:lnTo>
                    <a:pt x="629" y="164"/>
                  </a:lnTo>
                  <a:lnTo>
                    <a:pt x="628" y="166"/>
                  </a:lnTo>
                  <a:close/>
                  <a:moveTo>
                    <a:pt x="520" y="275"/>
                  </a:moveTo>
                  <a:lnTo>
                    <a:pt x="520" y="275"/>
                  </a:lnTo>
                  <a:lnTo>
                    <a:pt x="518" y="276"/>
                  </a:lnTo>
                  <a:lnTo>
                    <a:pt x="516" y="276"/>
                  </a:lnTo>
                  <a:lnTo>
                    <a:pt x="514" y="275"/>
                  </a:lnTo>
                  <a:lnTo>
                    <a:pt x="512" y="274"/>
                  </a:lnTo>
                  <a:lnTo>
                    <a:pt x="511" y="271"/>
                  </a:lnTo>
                  <a:lnTo>
                    <a:pt x="511" y="268"/>
                  </a:lnTo>
                  <a:lnTo>
                    <a:pt x="512" y="266"/>
                  </a:lnTo>
                  <a:lnTo>
                    <a:pt x="513" y="264"/>
                  </a:lnTo>
                  <a:lnTo>
                    <a:pt x="515" y="262"/>
                  </a:lnTo>
                  <a:lnTo>
                    <a:pt x="518" y="262"/>
                  </a:lnTo>
                  <a:lnTo>
                    <a:pt x="519" y="264"/>
                  </a:lnTo>
                  <a:lnTo>
                    <a:pt x="521" y="265"/>
                  </a:lnTo>
                  <a:lnTo>
                    <a:pt x="522" y="268"/>
                  </a:lnTo>
                  <a:lnTo>
                    <a:pt x="522" y="271"/>
                  </a:lnTo>
                  <a:lnTo>
                    <a:pt x="522" y="272"/>
                  </a:lnTo>
                  <a:lnTo>
                    <a:pt x="520" y="275"/>
                  </a:lnTo>
                  <a:close/>
                  <a:moveTo>
                    <a:pt x="476" y="320"/>
                  </a:moveTo>
                  <a:lnTo>
                    <a:pt x="413" y="384"/>
                  </a:lnTo>
                  <a:lnTo>
                    <a:pt x="411" y="385"/>
                  </a:lnTo>
                  <a:lnTo>
                    <a:pt x="409" y="385"/>
                  </a:lnTo>
                  <a:lnTo>
                    <a:pt x="407" y="384"/>
                  </a:lnTo>
                  <a:lnTo>
                    <a:pt x="404" y="383"/>
                  </a:lnTo>
                  <a:lnTo>
                    <a:pt x="403" y="380"/>
                  </a:lnTo>
                  <a:lnTo>
                    <a:pt x="403" y="377"/>
                  </a:lnTo>
                  <a:lnTo>
                    <a:pt x="404" y="374"/>
                  </a:lnTo>
                  <a:lnTo>
                    <a:pt x="405" y="373"/>
                  </a:lnTo>
                  <a:lnTo>
                    <a:pt x="468" y="309"/>
                  </a:lnTo>
                  <a:lnTo>
                    <a:pt x="470" y="308"/>
                  </a:lnTo>
                  <a:lnTo>
                    <a:pt x="472" y="308"/>
                  </a:lnTo>
                  <a:lnTo>
                    <a:pt x="475" y="309"/>
                  </a:lnTo>
                  <a:lnTo>
                    <a:pt x="477" y="310"/>
                  </a:lnTo>
                  <a:lnTo>
                    <a:pt x="477" y="313"/>
                  </a:lnTo>
                  <a:lnTo>
                    <a:pt x="478" y="316"/>
                  </a:lnTo>
                  <a:lnTo>
                    <a:pt x="477" y="317"/>
                  </a:lnTo>
                  <a:lnTo>
                    <a:pt x="476" y="320"/>
                  </a:lnTo>
                  <a:close/>
                  <a:moveTo>
                    <a:pt x="370" y="428"/>
                  </a:moveTo>
                  <a:lnTo>
                    <a:pt x="370" y="428"/>
                  </a:lnTo>
                  <a:lnTo>
                    <a:pt x="368" y="431"/>
                  </a:lnTo>
                  <a:lnTo>
                    <a:pt x="366" y="431"/>
                  </a:lnTo>
                  <a:lnTo>
                    <a:pt x="363" y="431"/>
                  </a:lnTo>
                  <a:lnTo>
                    <a:pt x="362" y="431"/>
                  </a:lnTo>
                  <a:lnTo>
                    <a:pt x="360" y="428"/>
                  </a:lnTo>
                  <a:lnTo>
                    <a:pt x="359" y="425"/>
                  </a:lnTo>
                  <a:lnTo>
                    <a:pt x="359" y="422"/>
                  </a:lnTo>
                  <a:lnTo>
                    <a:pt x="360" y="419"/>
                  </a:lnTo>
                  <a:lnTo>
                    <a:pt x="362" y="418"/>
                  </a:lnTo>
                  <a:lnTo>
                    <a:pt x="365" y="417"/>
                  </a:lnTo>
                  <a:lnTo>
                    <a:pt x="367" y="417"/>
                  </a:lnTo>
                  <a:lnTo>
                    <a:pt x="368" y="418"/>
                  </a:lnTo>
                  <a:lnTo>
                    <a:pt x="370" y="421"/>
                  </a:lnTo>
                  <a:lnTo>
                    <a:pt x="370" y="422"/>
                  </a:lnTo>
                  <a:lnTo>
                    <a:pt x="370" y="425"/>
                  </a:lnTo>
                  <a:lnTo>
                    <a:pt x="370" y="428"/>
                  </a:lnTo>
                  <a:close/>
                  <a:moveTo>
                    <a:pt x="337" y="487"/>
                  </a:moveTo>
                  <a:lnTo>
                    <a:pt x="293" y="571"/>
                  </a:lnTo>
                  <a:lnTo>
                    <a:pt x="291" y="574"/>
                  </a:lnTo>
                  <a:lnTo>
                    <a:pt x="289" y="574"/>
                  </a:lnTo>
                  <a:lnTo>
                    <a:pt x="286" y="575"/>
                  </a:lnTo>
                  <a:lnTo>
                    <a:pt x="285" y="574"/>
                  </a:lnTo>
                  <a:lnTo>
                    <a:pt x="283" y="571"/>
                  </a:lnTo>
                  <a:lnTo>
                    <a:pt x="282" y="568"/>
                  </a:lnTo>
                  <a:lnTo>
                    <a:pt x="282" y="567"/>
                  </a:lnTo>
                  <a:lnTo>
                    <a:pt x="283" y="564"/>
                  </a:lnTo>
                  <a:lnTo>
                    <a:pt x="328" y="480"/>
                  </a:lnTo>
                  <a:lnTo>
                    <a:pt x="329" y="477"/>
                  </a:lnTo>
                  <a:lnTo>
                    <a:pt x="332" y="476"/>
                  </a:lnTo>
                  <a:lnTo>
                    <a:pt x="334" y="476"/>
                  </a:lnTo>
                  <a:lnTo>
                    <a:pt x="336" y="477"/>
                  </a:lnTo>
                  <a:lnTo>
                    <a:pt x="337" y="480"/>
                  </a:lnTo>
                  <a:lnTo>
                    <a:pt x="338" y="482"/>
                  </a:lnTo>
                  <a:lnTo>
                    <a:pt x="338" y="485"/>
                  </a:lnTo>
                  <a:lnTo>
                    <a:pt x="337" y="487"/>
                  </a:lnTo>
                  <a:close/>
                  <a:moveTo>
                    <a:pt x="260" y="632"/>
                  </a:moveTo>
                  <a:lnTo>
                    <a:pt x="260" y="632"/>
                  </a:lnTo>
                  <a:lnTo>
                    <a:pt x="259" y="633"/>
                  </a:lnTo>
                  <a:lnTo>
                    <a:pt x="257" y="635"/>
                  </a:lnTo>
                  <a:lnTo>
                    <a:pt x="255" y="635"/>
                  </a:lnTo>
                  <a:lnTo>
                    <a:pt x="252" y="633"/>
                  </a:lnTo>
                  <a:lnTo>
                    <a:pt x="251" y="630"/>
                  </a:lnTo>
                  <a:lnTo>
                    <a:pt x="250" y="629"/>
                  </a:lnTo>
                  <a:lnTo>
                    <a:pt x="250" y="626"/>
                  </a:lnTo>
                  <a:lnTo>
                    <a:pt x="251" y="623"/>
                  </a:lnTo>
                  <a:lnTo>
                    <a:pt x="252" y="620"/>
                  </a:lnTo>
                  <a:lnTo>
                    <a:pt x="255" y="620"/>
                  </a:lnTo>
                  <a:lnTo>
                    <a:pt x="257" y="620"/>
                  </a:lnTo>
                  <a:lnTo>
                    <a:pt x="259" y="622"/>
                  </a:lnTo>
                  <a:lnTo>
                    <a:pt x="260" y="623"/>
                  </a:lnTo>
                  <a:lnTo>
                    <a:pt x="261" y="626"/>
                  </a:lnTo>
                  <a:lnTo>
                    <a:pt x="261" y="629"/>
                  </a:lnTo>
                  <a:lnTo>
                    <a:pt x="260" y="632"/>
                  </a:lnTo>
                  <a:close/>
                  <a:moveTo>
                    <a:pt x="229" y="691"/>
                  </a:moveTo>
                  <a:lnTo>
                    <a:pt x="183" y="775"/>
                  </a:lnTo>
                  <a:lnTo>
                    <a:pt x="182" y="776"/>
                  </a:lnTo>
                  <a:lnTo>
                    <a:pt x="180" y="778"/>
                  </a:lnTo>
                  <a:lnTo>
                    <a:pt x="178" y="778"/>
                  </a:lnTo>
                  <a:lnTo>
                    <a:pt x="175" y="776"/>
                  </a:lnTo>
                  <a:lnTo>
                    <a:pt x="174" y="775"/>
                  </a:lnTo>
                  <a:lnTo>
                    <a:pt x="173" y="772"/>
                  </a:lnTo>
                  <a:lnTo>
                    <a:pt x="173" y="769"/>
                  </a:lnTo>
                  <a:lnTo>
                    <a:pt x="174" y="766"/>
                  </a:lnTo>
                  <a:lnTo>
                    <a:pt x="219" y="683"/>
                  </a:lnTo>
                  <a:lnTo>
                    <a:pt x="221" y="681"/>
                  </a:lnTo>
                  <a:lnTo>
                    <a:pt x="223" y="680"/>
                  </a:lnTo>
                  <a:lnTo>
                    <a:pt x="225" y="680"/>
                  </a:lnTo>
                  <a:lnTo>
                    <a:pt x="227" y="681"/>
                  </a:lnTo>
                  <a:lnTo>
                    <a:pt x="229" y="683"/>
                  </a:lnTo>
                  <a:lnTo>
                    <a:pt x="230" y="686"/>
                  </a:lnTo>
                  <a:lnTo>
                    <a:pt x="230" y="688"/>
                  </a:lnTo>
                  <a:lnTo>
                    <a:pt x="229" y="691"/>
                  </a:lnTo>
                  <a:close/>
                  <a:moveTo>
                    <a:pt x="151" y="834"/>
                  </a:moveTo>
                  <a:lnTo>
                    <a:pt x="151" y="834"/>
                  </a:lnTo>
                  <a:lnTo>
                    <a:pt x="149" y="836"/>
                  </a:lnTo>
                  <a:lnTo>
                    <a:pt x="148" y="837"/>
                  </a:lnTo>
                  <a:lnTo>
                    <a:pt x="146" y="837"/>
                  </a:lnTo>
                  <a:lnTo>
                    <a:pt x="144" y="836"/>
                  </a:lnTo>
                  <a:lnTo>
                    <a:pt x="141" y="834"/>
                  </a:lnTo>
                  <a:lnTo>
                    <a:pt x="141" y="831"/>
                  </a:lnTo>
                  <a:lnTo>
                    <a:pt x="141" y="829"/>
                  </a:lnTo>
                  <a:lnTo>
                    <a:pt x="142" y="826"/>
                  </a:lnTo>
                  <a:lnTo>
                    <a:pt x="144" y="824"/>
                  </a:lnTo>
                  <a:lnTo>
                    <a:pt x="146" y="823"/>
                  </a:lnTo>
                  <a:lnTo>
                    <a:pt x="148" y="823"/>
                  </a:lnTo>
                  <a:lnTo>
                    <a:pt x="150" y="824"/>
                  </a:lnTo>
                  <a:lnTo>
                    <a:pt x="151" y="826"/>
                  </a:lnTo>
                  <a:lnTo>
                    <a:pt x="153" y="829"/>
                  </a:lnTo>
                  <a:lnTo>
                    <a:pt x="153" y="831"/>
                  </a:lnTo>
                  <a:lnTo>
                    <a:pt x="151" y="834"/>
                  </a:lnTo>
                  <a:close/>
                  <a:moveTo>
                    <a:pt x="132" y="899"/>
                  </a:moveTo>
                  <a:lnTo>
                    <a:pt x="107" y="996"/>
                  </a:lnTo>
                  <a:lnTo>
                    <a:pt x="106" y="997"/>
                  </a:lnTo>
                  <a:lnTo>
                    <a:pt x="104" y="1000"/>
                  </a:lnTo>
                  <a:lnTo>
                    <a:pt x="103" y="1000"/>
                  </a:lnTo>
                  <a:lnTo>
                    <a:pt x="100" y="1000"/>
                  </a:lnTo>
                  <a:lnTo>
                    <a:pt x="98" y="999"/>
                  </a:lnTo>
                  <a:lnTo>
                    <a:pt x="97" y="996"/>
                  </a:lnTo>
                  <a:lnTo>
                    <a:pt x="96" y="993"/>
                  </a:lnTo>
                  <a:lnTo>
                    <a:pt x="96" y="990"/>
                  </a:lnTo>
                  <a:lnTo>
                    <a:pt x="121" y="895"/>
                  </a:lnTo>
                  <a:lnTo>
                    <a:pt x="122" y="892"/>
                  </a:lnTo>
                  <a:lnTo>
                    <a:pt x="124" y="891"/>
                  </a:lnTo>
                  <a:lnTo>
                    <a:pt x="127" y="889"/>
                  </a:lnTo>
                  <a:lnTo>
                    <a:pt x="129" y="891"/>
                  </a:lnTo>
                  <a:lnTo>
                    <a:pt x="130" y="892"/>
                  </a:lnTo>
                  <a:lnTo>
                    <a:pt x="132" y="894"/>
                  </a:lnTo>
                  <a:lnTo>
                    <a:pt x="132" y="897"/>
                  </a:lnTo>
                  <a:lnTo>
                    <a:pt x="132" y="899"/>
                  </a:lnTo>
                  <a:close/>
                  <a:moveTo>
                    <a:pt x="89" y="1064"/>
                  </a:moveTo>
                  <a:lnTo>
                    <a:pt x="89" y="1064"/>
                  </a:lnTo>
                  <a:lnTo>
                    <a:pt x="88" y="1066"/>
                  </a:lnTo>
                  <a:lnTo>
                    <a:pt x="87" y="1068"/>
                  </a:lnTo>
                  <a:lnTo>
                    <a:pt x="85" y="1068"/>
                  </a:lnTo>
                  <a:lnTo>
                    <a:pt x="82" y="1068"/>
                  </a:lnTo>
                  <a:lnTo>
                    <a:pt x="80" y="1066"/>
                  </a:lnTo>
                  <a:lnTo>
                    <a:pt x="79" y="1065"/>
                  </a:lnTo>
                  <a:lnTo>
                    <a:pt x="78" y="1062"/>
                  </a:lnTo>
                  <a:lnTo>
                    <a:pt x="79" y="1059"/>
                  </a:lnTo>
                  <a:lnTo>
                    <a:pt x="80" y="1057"/>
                  </a:lnTo>
                  <a:lnTo>
                    <a:pt x="81" y="1055"/>
                  </a:lnTo>
                  <a:lnTo>
                    <a:pt x="83" y="1054"/>
                  </a:lnTo>
                  <a:lnTo>
                    <a:pt x="86" y="1055"/>
                  </a:lnTo>
                  <a:lnTo>
                    <a:pt x="88" y="1057"/>
                  </a:lnTo>
                  <a:lnTo>
                    <a:pt x="89" y="1058"/>
                  </a:lnTo>
                  <a:lnTo>
                    <a:pt x="90" y="1061"/>
                  </a:lnTo>
                  <a:lnTo>
                    <a:pt x="89" y="1064"/>
                  </a:lnTo>
                  <a:close/>
                  <a:moveTo>
                    <a:pt x="72" y="1132"/>
                  </a:moveTo>
                  <a:lnTo>
                    <a:pt x="47" y="1228"/>
                  </a:lnTo>
                  <a:lnTo>
                    <a:pt x="46" y="1231"/>
                  </a:lnTo>
                  <a:lnTo>
                    <a:pt x="44" y="1232"/>
                  </a:lnTo>
                  <a:lnTo>
                    <a:pt x="43" y="1232"/>
                  </a:lnTo>
                  <a:lnTo>
                    <a:pt x="40" y="1232"/>
                  </a:lnTo>
                  <a:lnTo>
                    <a:pt x="38" y="1231"/>
                  </a:lnTo>
                  <a:lnTo>
                    <a:pt x="37" y="1229"/>
                  </a:lnTo>
                  <a:lnTo>
                    <a:pt x="36" y="1226"/>
                  </a:lnTo>
                  <a:lnTo>
                    <a:pt x="36" y="1224"/>
                  </a:lnTo>
                  <a:lnTo>
                    <a:pt x="61" y="1127"/>
                  </a:lnTo>
                  <a:lnTo>
                    <a:pt x="62" y="1125"/>
                  </a:lnTo>
                  <a:lnTo>
                    <a:pt x="64" y="1123"/>
                  </a:lnTo>
                  <a:lnTo>
                    <a:pt x="65" y="1123"/>
                  </a:lnTo>
                  <a:lnTo>
                    <a:pt x="69" y="1123"/>
                  </a:lnTo>
                  <a:lnTo>
                    <a:pt x="70" y="1125"/>
                  </a:lnTo>
                  <a:lnTo>
                    <a:pt x="71" y="1126"/>
                  </a:lnTo>
                  <a:lnTo>
                    <a:pt x="72" y="1129"/>
                  </a:lnTo>
                  <a:lnTo>
                    <a:pt x="72" y="1132"/>
                  </a:lnTo>
                  <a:close/>
                  <a:moveTo>
                    <a:pt x="29" y="1296"/>
                  </a:moveTo>
                  <a:lnTo>
                    <a:pt x="29" y="1296"/>
                  </a:lnTo>
                  <a:lnTo>
                    <a:pt x="28" y="1299"/>
                  </a:lnTo>
                  <a:lnTo>
                    <a:pt x="27" y="1300"/>
                  </a:lnTo>
                  <a:lnTo>
                    <a:pt x="24" y="1302"/>
                  </a:lnTo>
                  <a:lnTo>
                    <a:pt x="22" y="1302"/>
                  </a:lnTo>
                  <a:lnTo>
                    <a:pt x="20" y="1300"/>
                  </a:lnTo>
                  <a:lnTo>
                    <a:pt x="19" y="1297"/>
                  </a:lnTo>
                  <a:lnTo>
                    <a:pt x="18" y="1294"/>
                  </a:lnTo>
                  <a:lnTo>
                    <a:pt x="19" y="1292"/>
                  </a:lnTo>
                  <a:lnTo>
                    <a:pt x="20" y="1289"/>
                  </a:lnTo>
                  <a:lnTo>
                    <a:pt x="21" y="1287"/>
                  </a:lnTo>
                  <a:lnTo>
                    <a:pt x="23" y="1287"/>
                  </a:lnTo>
                  <a:lnTo>
                    <a:pt x="26" y="1287"/>
                  </a:lnTo>
                  <a:lnTo>
                    <a:pt x="28" y="1289"/>
                  </a:lnTo>
                  <a:lnTo>
                    <a:pt x="29" y="1290"/>
                  </a:lnTo>
                  <a:lnTo>
                    <a:pt x="30" y="1293"/>
                  </a:lnTo>
                  <a:lnTo>
                    <a:pt x="29" y="1296"/>
                  </a:lnTo>
                  <a:close/>
                  <a:moveTo>
                    <a:pt x="12" y="1365"/>
                  </a:moveTo>
                  <a:lnTo>
                    <a:pt x="11" y="1368"/>
                  </a:lnTo>
                  <a:lnTo>
                    <a:pt x="10" y="1371"/>
                  </a:lnTo>
                  <a:lnTo>
                    <a:pt x="7" y="1372"/>
                  </a:lnTo>
                  <a:lnTo>
                    <a:pt x="6" y="1374"/>
                  </a:lnTo>
                  <a:lnTo>
                    <a:pt x="4" y="1372"/>
                  </a:lnTo>
                  <a:lnTo>
                    <a:pt x="2" y="1371"/>
                  </a:lnTo>
                  <a:lnTo>
                    <a:pt x="1" y="1370"/>
                  </a:lnTo>
                  <a:lnTo>
                    <a:pt x="0" y="1367"/>
                  </a:lnTo>
                  <a:lnTo>
                    <a:pt x="0" y="1364"/>
                  </a:lnTo>
                  <a:lnTo>
                    <a:pt x="1" y="1361"/>
                  </a:lnTo>
                  <a:lnTo>
                    <a:pt x="2" y="1358"/>
                  </a:lnTo>
                  <a:lnTo>
                    <a:pt x="4" y="1357"/>
                  </a:lnTo>
                  <a:lnTo>
                    <a:pt x="5" y="1355"/>
                  </a:lnTo>
                  <a:lnTo>
                    <a:pt x="7" y="1355"/>
                  </a:lnTo>
                  <a:lnTo>
                    <a:pt x="10" y="1357"/>
                  </a:lnTo>
                  <a:lnTo>
                    <a:pt x="11" y="1360"/>
                  </a:lnTo>
                  <a:lnTo>
                    <a:pt x="12" y="1362"/>
                  </a:lnTo>
                  <a:lnTo>
                    <a:pt x="12" y="1365"/>
                  </a:lnTo>
                  <a:close/>
                </a:path>
              </a:pathLst>
            </a:cu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0" name="Freeform 112"/>
            <p:cNvSpPr/>
            <p:nvPr/>
          </p:nvSpPr>
          <p:spPr>
            <a:xfrm>
              <a:off x="1954440" y="4259520"/>
              <a:ext cx="1148760" cy="88920"/>
            </a:xfrm>
            <a:custGeom>
              <a:avLst/>
              <a:gdLst>
                <a:gd name="textAreaLeft" fmla="*/ 0 w 1148760"/>
                <a:gd name="textAreaRight" fmla="*/ 1149120 w 1148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824" h="227">
                  <a:moveTo>
                    <a:pt x="2818" y="14"/>
                  </a:moveTo>
                  <a:lnTo>
                    <a:pt x="2737" y="20"/>
                  </a:lnTo>
                  <a:lnTo>
                    <a:pt x="2735" y="19"/>
                  </a:lnTo>
                  <a:lnTo>
                    <a:pt x="2734" y="17"/>
                  </a:lnTo>
                  <a:lnTo>
                    <a:pt x="2733" y="16"/>
                  </a:lnTo>
                  <a:lnTo>
                    <a:pt x="2732" y="13"/>
                  </a:lnTo>
                  <a:lnTo>
                    <a:pt x="2732" y="10"/>
                  </a:lnTo>
                  <a:lnTo>
                    <a:pt x="2733" y="7"/>
                  </a:lnTo>
                  <a:lnTo>
                    <a:pt x="2735" y="6"/>
                  </a:lnTo>
                  <a:lnTo>
                    <a:pt x="2737" y="5"/>
                  </a:lnTo>
                  <a:lnTo>
                    <a:pt x="2818" y="0"/>
                  </a:lnTo>
                  <a:lnTo>
                    <a:pt x="2820" y="0"/>
                  </a:lnTo>
                  <a:lnTo>
                    <a:pt x="2823" y="2"/>
                  </a:lnTo>
                  <a:lnTo>
                    <a:pt x="2824" y="5"/>
                  </a:lnTo>
                  <a:lnTo>
                    <a:pt x="2824" y="7"/>
                  </a:lnTo>
                  <a:lnTo>
                    <a:pt x="2824" y="10"/>
                  </a:lnTo>
                  <a:lnTo>
                    <a:pt x="2823" y="12"/>
                  </a:lnTo>
                  <a:lnTo>
                    <a:pt x="2820" y="13"/>
                  </a:lnTo>
                  <a:lnTo>
                    <a:pt x="2818" y="14"/>
                  </a:lnTo>
                  <a:close/>
                  <a:moveTo>
                    <a:pt x="2681" y="23"/>
                  </a:moveTo>
                  <a:lnTo>
                    <a:pt x="2681" y="23"/>
                  </a:lnTo>
                  <a:lnTo>
                    <a:pt x="2679" y="23"/>
                  </a:lnTo>
                  <a:lnTo>
                    <a:pt x="2676" y="22"/>
                  </a:lnTo>
                  <a:lnTo>
                    <a:pt x="2675" y="19"/>
                  </a:lnTo>
                  <a:lnTo>
                    <a:pt x="2674" y="16"/>
                  </a:lnTo>
                  <a:lnTo>
                    <a:pt x="2675" y="13"/>
                  </a:lnTo>
                  <a:lnTo>
                    <a:pt x="2676" y="12"/>
                  </a:lnTo>
                  <a:lnTo>
                    <a:pt x="2677" y="9"/>
                  </a:lnTo>
                  <a:lnTo>
                    <a:pt x="2680" y="9"/>
                  </a:lnTo>
                  <a:lnTo>
                    <a:pt x="2682" y="9"/>
                  </a:lnTo>
                  <a:lnTo>
                    <a:pt x="2684" y="10"/>
                  </a:lnTo>
                  <a:lnTo>
                    <a:pt x="2685" y="13"/>
                  </a:lnTo>
                  <a:lnTo>
                    <a:pt x="2686" y="16"/>
                  </a:lnTo>
                  <a:lnTo>
                    <a:pt x="2685" y="19"/>
                  </a:lnTo>
                  <a:lnTo>
                    <a:pt x="2684" y="20"/>
                  </a:lnTo>
                  <a:lnTo>
                    <a:pt x="2683" y="23"/>
                  </a:lnTo>
                  <a:lnTo>
                    <a:pt x="2681" y="23"/>
                  </a:lnTo>
                  <a:close/>
                  <a:moveTo>
                    <a:pt x="2623" y="27"/>
                  </a:moveTo>
                  <a:lnTo>
                    <a:pt x="2543" y="31"/>
                  </a:lnTo>
                  <a:lnTo>
                    <a:pt x="2540" y="31"/>
                  </a:lnTo>
                  <a:lnTo>
                    <a:pt x="2538" y="30"/>
                  </a:lnTo>
                  <a:lnTo>
                    <a:pt x="2537" y="27"/>
                  </a:lnTo>
                  <a:lnTo>
                    <a:pt x="2537" y="24"/>
                  </a:lnTo>
                  <a:lnTo>
                    <a:pt x="2537" y="22"/>
                  </a:lnTo>
                  <a:lnTo>
                    <a:pt x="2538" y="20"/>
                  </a:lnTo>
                  <a:lnTo>
                    <a:pt x="2539" y="19"/>
                  </a:lnTo>
                  <a:lnTo>
                    <a:pt x="2541" y="17"/>
                  </a:lnTo>
                  <a:lnTo>
                    <a:pt x="2622" y="13"/>
                  </a:lnTo>
                  <a:lnTo>
                    <a:pt x="2624" y="13"/>
                  </a:lnTo>
                  <a:lnTo>
                    <a:pt x="2626" y="14"/>
                  </a:lnTo>
                  <a:lnTo>
                    <a:pt x="2628" y="16"/>
                  </a:lnTo>
                  <a:lnTo>
                    <a:pt x="2629" y="19"/>
                  </a:lnTo>
                  <a:lnTo>
                    <a:pt x="2628" y="22"/>
                  </a:lnTo>
                  <a:lnTo>
                    <a:pt x="2626" y="24"/>
                  </a:lnTo>
                  <a:lnTo>
                    <a:pt x="2625" y="26"/>
                  </a:lnTo>
                  <a:lnTo>
                    <a:pt x="2623" y="27"/>
                  </a:lnTo>
                  <a:close/>
                  <a:moveTo>
                    <a:pt x="2485" y="36"/>
                  </a:moveTo>
                  <a:lnTo>
                    <a:pt x="2485" y="36"/>
                  </a:lnTo>
                  <a:lnTo>
                    <a:pt x="2482" y="34"/>
                  </a:lnTo>
                  <a:lnTo>
                    <a:pt x="2480" y="33"/>
                  </a:lnTo>
                  <a:lnTo>
                    <a:pt x="2479" y="31"/>
                  </a:lnTo>
                  <a:lnTo>
                    <a:pt x="2479" y="29"/>
                  </a:lnTo>
                  <a:lnTo>
                    <a:pt x="2479" y="26"/>
                  </a:lnTo>
                  <a:lnTo>
                    <a:pt x="2480" y="23"/>
                  </a:lnTo>
                  <a:lnTo>
                    <a:pt x="2482" y="22"/>
                  </a:lnTo>
                  <a:lnTo>
                    <a:pt x="2485" y="22"/>
                  </a:lnTo>
                  <a:lnTo>
                    <a:pt x="2487" y="22"/>
                  </a:lnTo>
                  <a:lnTo>
                    <a:pt x="2488" y="23"/>
                  </a:lnTo>
                  <a:lnTo>
                    <a:pt x="2490" y="26"/>
                  </a:lnTo>
                  <a:lnTo>
                    <a:pt x="2490" y="29"/>
                  </a:lnTo>
                  <a:lnTo>
                    <a:pt x="2490" y="30"/>
                  </a:lnTo>
                  <a:lnTo>
                    <a:pt x="2489" y="33"/>
                  </a:lnTo>
                  <a:lnTo>
                    <a:pt x="2487" y="34"/>
                  </a:lnTo>
                  <a:lnTo>
                    <a:pt x="2485" y="36"/>
                  </a:lnTo>
                  <a:close/>
                  <a:moveTo>
                    <a:pt x="2427" y="39"/>
                  </a:moveTo>
                  <a:lnTo>
                    <a:pt x="2426" y="39"/>
                  </a:lnTo>
                  <a:lnTo>
                    <a:pt x="2348" y="50"/>
                  </a:lnTo>
                  <a:lnTo>
                    <a:pt x="2345" y="50"/>
                  </a:lnTo>
                  <a:lnTo>
                    <a:pt x="2343" y="48"/>
                  </a:lnTo>
                  <a:lnTo>
                    <a:pt x="2342" y="47"/>
                  </a:lnTo>
                  <a:lnTo>
                    <a:pt x="2341" y="44"/>
                  </a:lnTo>
                  <a:lnTo>
                    <a:pt x="2342" y="41"/>
                  </a:lnTo>
                  <a:lnTo>
                    <a:pt x="2343" y="39"/>
                  </a:lnTo>
                  <a:lnTo>
                    <a:pt x="2344" y="37"/>
                  </a:lnTo>
                  <a:lnTo>
                    <a:pt x="2346" y="36"/>
                  </a:lnTo>
                  <a:lnTo>
                    <a:pt x="2426" y="24"/>
                  </a:lnTo>
                  <a:lnTo>
                    <a:pt x="2427" y="24"/>
                  </a:lnTo>
                  <a:lnTo>
                    <a:pt x="2429" y="26"/>
                  </a:lnTo>
                  <a:lnTo>
                    <a:pt x="2431" y="27"/>
                  </a:lnTo>
                  <a:lnTo>
                    <a:pt x="2433" y="29"/>
                  </a:lnTo>
                  <a:lnTo>
                    <a:pt x="2433" y="31"/>
                  </a:lnTo>
                  <a:lnTo>
                    <a:pt x="2433" y="34"/>
                  </a:lnTo>
                  <a:lnTo>
                    <a:pt x="2431" y="37"/>
                  </a:lnTo>
                  <a:lnTo>
                    <a:pt x="2429" y="39"/>
                  </a:lnTo>
                  <a:lnTo>
                    <a:pt x="2427" y="39"/>
                  </a:lnTo>
                  <a:close/>
                  <a:moveTo>
                    <a:pt x="2291" y="58"/>
                  </a:moveTo>
                  <a:lnTo>
                    <a:pt x="2291" y="58"/>
                  </a:lnTo>
                  <a:lnTo>
                    <a:pt x="2289" y="58"/>
                  </a:lnTo>
                  <a:lnTo>
                    <a:pt x="2286" y="57"/>
                  </a:lnTo>
                  <a:lnTo>
                    <a:pt x="2285" y="56"/>
                  </a:lnTo>
                  <a:lnTo>
                    <a:pt x="2284" y="53"/>
                  </a:lnTo>
                  <a:lnTo>
                    <a:pt x="2284" y="50"/>
                  </a:lnTo>
                  <a:lnTo>
                    <a:pt x="2285" y="47"/>
                  </a:lnTo>
                  <a:lnTo>
                    <a:pt x="2286" y="46"/>
                  </a:lnTo>
                  <a:lnTo>
                    <a:pt x="2289" y="44"/>
                  </a:lnTo>
                  <a:lnTo>
                    <a:pt x="2291" y="44"/>
                  </a:lnTo>
                  <a:lnTo>
                    <a:pt x="2293" y="46"/>
                  </a:lnTo>
                  <a:lnTo>
                    <a:pt x="2294" y="48"/>
                  </a:lnTo>
                  <a:lnTo>
                    <a:pt x="2295" y="51"/>
                  </a:lnTo>
                  <a:lnTo>
                    <a:pt x="2295" y="54"/>
                  </a:lnTo>
                  <a:lnTo>
                    <a:pt x="2294" y="56"/>
                  </a:lnTo>
                  <a:lnTo>
                    <a:pt x="2293" y="58"/>
                  </a:lnTo>
                  <a:lnTo>
                    <a:pt x="2291" y="58"/>
                  </a:lnTo>
                  <a:close/>
                  <a:moveTo>
                    <a:pt x="2233" y="67"/>
                  </a:moveTo>
                  <a:lnTo>
                    <a:pt x="2154" y="78"/>
                  </a:lnTo>
                  <a:lnTo>
                    <a:pt x="2150" y="78"/>
                  </a:lnTo>
                  <a:lnTo>
                    <a:pt x="2149" y="77"/>
                  </a:lnTo>
                  <a:lnTo>
                    <a:pt x="2147" y="75"/>
                  </a:lnTo>
                  <a:lnTo>
                    <a:pt x="2147" y="73"/>
                  </a:lnTo>
                  <a:lnTo>
                    <a:pt x="2147" y="70"/>
                  </a:lnTo>
                  <a:lnTo>
                    <a:pt x="2148" y="67"/>
                  </a:lnTo>
                  <a:lnTo>
                    <a:pt x="2149" y="65"/>
                  </a:lnTo>
                  <a:lnTo>
                    <a:pt x="2151" y="64"/>
                  </a:lnTo>
                  <a:lnTo>
                    <a:pt x="2232" y="53"/>
                  </a:lnTo>
                  <a:lnTo>
                    <a:pt x="2234" y="53"/>
                  </a:lnTo>
                  <a:lnTo>
                    <a:pt x="2236" y="54"/>
                  </a:lnTo>
                  <a:lnTo>
                    <a:pt x="2238" y="56"/>
                  </a:lnTo>
                  <a:lnTo>
                    <a:pt x="2239" y="58"/>
                  </a:lnTo>
                  <a:lnTo>
                    <a:pt x="2238" y="61"/>
                  </a:lnTo>
                  <a:lnTo>
                    <a:pt x="2238" y="64"/>
                  </a:lnTo>
                  <a:lnTo>
                    <a:pt x="2235" y="65"/>
                  </a:lnTo>
                  <a:lnTo>
                    <a:pt x="2233" y="67"/>
                  </a:lnTo>
                  <a:close/>
                  <a:moveTo>
                    <a:pt x="2096" y="87"/>
                  </a:moveTo>
                  <a:lnTo>
                    <a:pt x="2096" y="87"/>
                  </a:lnTo>
                  <a:lnTo>
                    <a:pt x="2094" y="87"/>
                  </a:lnTo>
                  <a:lnTo>
                    <a:pt x="2091" y="85"/>
                  </a:lnTo>
                  <a:lnTo>
                    <a:pt x="2090" y="82"/>
                  </a:lnTo>
                  <a:lnTo>
                    <a:pt x="2089" y="81"/>
                  </a:lnTo>
                  <a:lnTo>
                    <a:pt x="2090" y="77"/>
                  </a:lnTo>
                  <a:lnTo>
                    <a:pt x="2090" y="75"/>
                  </a:lnTo>
                  <a:lnTo>
                    <a:pt x="2092" y="73"/>
                  </a:lnTo>
                  <a:lnTo>
                    <a:pt x="2095" y="73"/>
                  </a:lnTo>
                  <a:lnTo>
                    <a:pt x="2097" y="73"/>
                  </a:lnTo>
                  <a:lnTo>
                    <a:pt x="2099" y="74"/>
                  </a:lnTo>
                  <a:lnTo>
                    <a:pt x="2100" y="75"/>
                  </a:lnTo>
                  <a:lnTo>
                    <a:pt x="2102" y="78"/>
                  </a:lnTo>
                  <a:lnTo>
                    <a:pt x="2100" y="81"/>
                  </a:lnTo>
                  <a:lnTo>
                    <a:pt x="2099" y="84"/>
                  </a:lnTo>
                  <a:lnTo>
                    <a:pt x="2098" y="85"/>
                  </a:lnTo>
                  <a:lnTo>
                    <a:pt x="2096" y="87"/>
                  </a:lnTo>
                  <a:close/>
                  <a:moveTo>
                    <a:pt x="2039" y="95"/>
                  </a:moveTo>
                  <a:lnTo>
                    <a:pt x="1959" y="107"/>
                  </a:lnTo>
                  <a:lnTo>
                    <a:pt x="1956" y="107"/>
                  </a:lnTo>
                  <a:lnTo>
                    <a:pt x="1954" y="105"/>
                  </a:lnTo>
                  <a:lnTo>
                    <a:pt x="1953" y="102"/>
                  </a:lnTo>
                  <a:lnTo>
                    <a:pt x="1952" y="99"/>
                  </a:lnTo>
                  <a:lnTo>
                    <a:pt x="1952" y="97"/>
                  </a:lnTo>
                  <a:lnTo>
                    <a:pt x="1953" y="95"/>
                  </a:lnTo>
                  <a:lnTo>
                    <a:pt x="1955" y="92"/>
                  </a:lnTo>
                  <a:lnTo>
                    <a:pt x="1958" y="92"/>
                  </a:lnTo>
                  <a:lnTo>
                    <a:pt x="2037" y="81"/>
                  </a:lnTo>
                  <a:lnTo>
                    <a:pt x="2039" y="81"/>
                  </a:lnTo>
                  <a:lnTo>
                    <a:pt x="2041" y="82"/>
                  </a:lnTo>
                  <a:lnTo>
                    <a:pt x="2043" y="84"/>
                  </a:lnTo>
                  <a:lnTo>
                    <a:pt x="2044" y="87"/>
                  </a:lnTo>
                  <a:lnTo>
                    <a:pt x="2044" y="90"/>
                  </a:lnTo>
                  <a:lnTo>
                    <a:pt x="2043" y="92"/>
                  </a:lnTo>
                  <a:lnTo>
                    <a:pt x="2040" y="94"/>
                  </a:lnTo>
                  <a:lnTo>
                    <a:pt x="2039" y="95"/>
                  </a:lnTo>
                  <a:close/>
                  <a:moveTo>
                    <a:pt x="1901" y="115"/>
                  </a:moveTo>
                  <a:lnTo>
                    <a:pt x="1901" y="115"/>
                  </a:lnTo>
                  <a:lnTo>
                    <a:pt x="1899" y="115"/>
                  </a:lnTo>
                  <a:lnTo>
                    <a:pt x="1897" y="114"/>
                  </a:lnTo>
                  <a:lnTo>
                    <a:pt x="1895" y="111"/>
                  </a:lnTo>
                  <a:lnTo>
                    <a:pt x="1895" y="108"/>
                  </a:lnTo>
                  <a:lnTo>
                    <a:pt x="1895" y="105"/>
                  </a:lnTo>
                  <a:lnTo>
                    <a:pt x="1896" y="102"/>
                  </a:lnTo>
                  <a:lnTo>
                    <a:pt x="1897" y="101"/>
                  </a:lnTo>
                  <a:lnTo>
                    <a:pt x="1900" y="101"/>
                  </a:lnTo>
                  <a:lnTo>
                    <a:pt x="1902" y="101"/>
                  </a:lnTo>
                  <a:lnTo>
                    <a:pt x="1904" y="102"/>
                  </a:lnTo>
                  <a:lnTo>
                    <a:pt x="1905" y="104"/>
                  </a:lnTo>
                  <a:lnTo>
                    <a:pt x="1907" y="107"/>
                  </a:lnTo>
                  <a:lnTo>
                    <a:pt x="1907" y="109"/>
                  </a:lnTo>
                  <a:lnTo>
                    <a:pt x="1905" y="112"/>
                  </a:lnTo>
                  <a:lnTo>
                    <a:pt x="1903" y="114"/>
                  </a:lnTo>
                  <a:lnTo>
                    <a:pt x="1901" y="115"/>
                  </a:lnTo>
                  <a:close/>
                  <a:moveTo>
                    <a:pt x="1844" y="124"/>
                  </a:moveTo>
                  <a:lnTo>
                    <a:pt x="1764" y="135"/>
                  </a:lnTo>
                  <a:lnTo>
                    <a:pt x="1761" y="135"/>
                  </a:lnTo>
                  <a:lnTo>
                    <a:pt x="1760" y="133"/>
                  </a:lnTo>
                  <a:lnTo>
                    <a:pt x="1758" y="131"/>
                  </a:lnTo>
                  <a:lnTo>
                    <a:pt x="1758" y="128"/>
                  </a:lnTo>
                  <a:lnTo>
                    <a:pt x="1758" y="125"/>
                  </a:lnTo>
                  <a:lnTo>
                    <a:pt x="1759" y="122"/>
                  </a:lnTo>
                  <a:lnTo>
                    <a:pt x="1760" y="121"/>
                  </a:lnTo>
                  <a:lnTo>
                    <a:pt x="1763" y="121"/>
                  </a:lnTo>
                  <a:lnTo>
                    <a:pt x="1843" y="108"/>
                  </a:lnTo>
                  <a:lnTo>
                    <a:pt x="1845" y="109"/>
                  </a:lnTo>
                  <a:lnTo>
                    <a:pt x="1846" y="111"/>
                  </a:lnTo>
                  <a:lnTo>
                    <a:pt x="1849" y="112"/>
                  </a:lnTo>
                  <a:lnTo>
                    <a:pt x="1849" y="115"/>
                  </a:lnTo>
                  <a:lnTo>
                    <a:pt x="1849" y="118"/>
                  </a:lnTo>
                  <a:lnTo>
                    <a:pt x="1848" y="121"/>
                  </a:lnTo>
                  <a:lnTo>
                    <a:pt x="1846" y="122"/>
                  </a:lnTo>
                  <a:lnTo>
                    <a:pt x="1844" y="124"/>
                  </a:lnTo>
                  <a:close/>
                  <a:moveTo>
                    <a:pt x="1707" y="143"/>
                  </a:moveTo>
                  <a:lnTo>
                    <a:pt x="1707" y="143"/>
                  </a:lnTo>
                  <a:lnTo>
                    <a:pt x="1705" y="142"/>
                  </a:lnTo>
                  <a:lnTo>
                    <a:pt x="1703" y="140"/>
                  </a:lnTo>
                  <a:lnTo>
                    <a:pt x="1701" y="139"/>
                  </a:lnTo>
                  <a:lnTo>
                    <a:pt x="1700" y="136"/>
                  </a:lnTo>
                  <a:lnTo>
                    <a:pt x="1700" y="133"/>
                  </a:lnTo>
                  <a:lnTo>
                    <a:pt x="1701" y="131"/>
                  </a:lnTo>
                  <a:lnTo>
                    <a:pt x="1704" y="129"/>
                  </a:lnTo>
                  <a:lnTo>
                    <a:pt x="1706" y="128"/>
                  </a:lnTo>
                  <a:lnTo>
                    <a:pt x="1708" y="129"/>
                  </a:lnTo>
                  <a:lnTo>
                    <a:pt x="1709" y="129"/>
                  </a:lnTo>
                  <a:lnTo>
                    <a:pt x="1712" y="132"/>
                  </a:lnTo>
                  <a:lnTo>
                    <a:pt x="1712" y="135"/>
                  </a:lnTo>
                  <a:lnTo>
                    <a:pt x="1712" y="138"/>
                  </a:lnTo>
                  <a:lnTo>
                    <a:pt x="1710" y="140"/>
                  </a:lnTo>
                  <a:lnTo>
                    <a:pt x="1709" y="142"/>
                  </a:lnTo>
                  <a:lnTo>
                    <a:pt x="1707" y="143"/>
                  </a:lnTo>
                  <a:close/>
                  <a:moveTo>
                    <a:pt x="1649" y="150"/>
                  </a:moveTo>
                  <a:lnTo>
                    <a:pt x="1570" y="162"/>
                  </a:lnTo>
                  <a:lnTo>
                    <a:pt x="1568" y="162"/>
                  </a:lnTo>
                  <a:lnTo>
                    <a:pt x="1565" y="160"/>
                  </a:lnTo>
                  <a:lnTo>
                    <a:pt x="1564" y="159"/>
                  </a:lnTo>
                  <a:lnTo>
                    <a:pt x="1563" y="156"/>
                  </a:lnTo>
                  <a:lnTo>
                    <a:pt x="1563" y="153"/>
                  </a:lnTo>
                  <a:lnTo>
                    <a:pt x="1564" y="150"/>
                  </a:lnTo>
                  <a:lnTo>
                    <a:pt x="1566" y="149"/>
                  </a:lnTo>
                  <a:lnTo>
                    <a:pt x="1569" y="148"/>
                  </a:lnTo>
                  <a:lnTo>
                    <a:pt x="1648" y="136"/>
                  </a:lnTo>
                  <a:lnTo>
                    <a:pt x="1650" y="136"/>
                  </a:lnTo>
                  <a:lnTo>
                    <a:pt x="1653" y="138"/>
                  </a:lnTo>
                  <a:lnTo>
                    <a:pt x="1654" y="140"/>
                  </a:lnTo>
                  <a:lnTo>
                    <a:pt x="1655" y="143"/>
                  </a:lnTo>
                  <a:lnTo>
                    <a:pt x="1655" y="146"/>
                  </a:lnTo>
                  <a:lnTo>
                    <a:pt x="1654" y="148"/>
                  </a:lnTo>
                  <a:lnTo>
                    <a:pt x="1652" y="150"/>
                  </a:lnTo>
                  <a:lnTo>
                    <a:pt x="1649" y="150"/>
                  </a:lnTo>
                  <a:close/>
                  <a:moveTo>
                    <a:pt x="1512" y="170"/>
                  </a:moveTo>
                  <a:lnTo>
                    <a:pt x="1512" y="170"/>
                  </a:lnTo>
                  <a:lnTo>
                    <a:pt x="1510" y="170"/>
                  </a:lnTo>
                  <a:lnTo>
                    <a:pt x="1508" y="169"/>
                  </a:lnTo>
                  <a:lnTo>
                    <a:pt x="1506" y="167"/>
                  </a:lnTo>
                  <a:lnTo>
                    <a:pt x="1506" y="165"/>
                  </a:lnTo>
                  <a:lnTo>
                    <a:pt x="1506" y="162"/>
                  </a:lnTo>
                  <a:lnTo>
                    <a:pt x="1508" y="159"/>
                  </a:lnTo>
                  <a:lnTo>
                    <a:pt x="1509" y="157"/>
                  </a:lnTo>
                  <a:lnTo>
                    <a:pt x="1511" y="156"/>
                  </a:lnTo>
                  <a:lnTo>
                    <a:pt x="1513" y="156"/>
                  </a:lnTo>
                  <a:lnTo>
                    <a:pt x="1515" y="157"/>
                  </a:lnTo>
                  <a:lnTo>
                    <a:pt x="1517" y="160"/>
                  </a:lnTo>
                  <a:lnTo>
                    <a:pt x="1518" y="163"/>
                  </a:lnTo>
                  <a:lnTo>
                    <a:pt x="1518" y="166"/>
                  </a:lnTo>
                  <a:lnTo>
                    <a:pt x="1517" y="167"/>
                  </a:lnTo>
                  <a:lnTo>
                    <a:pt x="1514" y="170"/>
                  </a:lnTo>
                  <a:lnTo>
                    <a:pt x="1512" y="170"/>
                  </a:lnTo>
                  <a:close/>
                  <a:moveTo>
                    <a:pt x="1455" y="179"/>
                  </a:moveTo>
                  <a:lnTo>
                    <a:pt x="1375" y="190"/>
                  </a:lnTo>
                  <a:lnTo>
                    <a:pt x="1373" y="190"/>
                  </a:lnTo>
                  <a:lnTo>
                    <a:pt x="1370" y="189"/>
                  </a:lnTo>
                  <a:lnTo>
                    <a:pt x="1369" y="187"/>
                  </a:lnTo>
                  <a:lnTo>
                    <a:pt x="1368" y="184"/>
                  </a:lnTo>
                  <a:lnTo>
                    <a:pt x="1369" y="182"/>
                  </a:lnTo>
                  <a:lnTo>
                    <a:pt x="1370" y="179"/>
                  </a:lnTo>
                  <a:lnTo>
                    <a:pt x="1372" y="177"/>
                  </a:lnTo>
                  <a:lnTo>
                    <a:pt x="1374" y="176"/>
                  </a:lnTo>
                  <a:lnTo>
                    <a:pt x="1454" y="165"/>
                  </a:lnTo>
                  <a:lnTo>
                    <a:pt x="1457" y="165"/>
                  </a:lnTo>
                  <a:lnTo>
                    <a:pt x="1458" y="166"/>
                  </a:lnTo>
                  <a:lnTo>
                    <a:pt x="1460" y="167"/>
                  </a:lnTo>
                  <a:lnTo>
                    <a:pt x="1460" y="170"/>
                  </a:lnTo>
                  <a:lnTo>
                    <a:pt x="1460" y="173"/>
                  </a:lnTo>
                  <a:lnTo>
                    <a:pt x="1459" y="176"/>
                  </a:lnTo>
                  <a:lnTo>
                    <a:pt x="1458" y="177"/>
                  </a:lnTo>
                  <a:lnTo>
                    <a:pt x="1455" y="179"/>
                  </a:lnTo>
                  <a:close/>
                  <a:moveTo>
                    <a:pt x="1318" y="199"/>
                  </a:moveTo>
                  <a:lnTo>
                    <a:pt x="1318" y="199"/>
                  </a:lnTo>
                  <a:lnTo>
                    <a:pt x="1316" y="199"/>
                  </a:lnTo>
                  <a:lnTo>
                    <a:pt x="1314" y="197"/>
                  </a:lnTo>
                  <a:lnTo>
                    <a:pt x="1313" y="194"/>
                  </a:lnTo>
                  <a:lnTo>
                    <a:pt x="1311" y="193"/>
                  </a:lnTo>
                  <a:lnTo>
                    <a:pt x="1311" y="189"/>
                  </a:lnTo>
                  <a:lnTo>
                    <a:pt x="1313" y="187"/>
                  </a:lnTo>
                  <a:lnTo>
                    <a:pt x="1314" y="184"/>
                  </a:lnTo>
                  <a:lnTo>
                    <a:pt x="1316" y="184"/>
                  </a:lnTo>
                  <a:lnTo>
                    <a:pt x="1318" y="184"/>
                  </a:lnTo>
                  <a:lnTo>
                    <a:pt x="1320" y="186"/>
                  </a:lnTo>
                  <a:lnTo>
                    <a:pt x="1322" y="187"/>
                  </a:lnTo>
                  <a:lnTo>
                    <a:pt x="1323" y="190"/>
                  </a:lnTo>
                  <a:lnTo>
                    <a:pt x="1323" y="193"/>
                  </a:lnTo>
                  <a:lnTo>
                    <a:pt x="1322" y="196"/>
                  </a:lnTo>
                  <a:lnTo>
                    <a:pt x="1320" y="197"/>
                  </a:lnTo>
                  <a:lnTo>
                    <a:pt x="1318" y="199"/>
                  </a:lnTo>
                  <a:close/>
                  <a:moveTo>
                    <a:pt x="1260" y="207"/>
                  </a:moveTo>
                  <a:lnTo>
                    <a:pt x="1181" y="218"/>
                  </a:lnTo>
                  <a:lnTo>
                    <a:pt x="1178" y="218"/>
                  </a:lnTo>
                  <a:lnTo>
                    <a:pt x="1177" y="217"/>
                  </a:lnTo>
                  <a:lnTo>
                    <a:pt x="1174" y="214"/>
                  </a:lnTo>
                  <a:lnTo>
                    <a:pt x="1174" y="211"/>
                  </a:lnTo>
                  <a:lnTo>
                    <a:pt x="1174" y="208"/>
                  </a:lnTo>
                  <a:lnTo>
                    <a:pt x="1175" y="207"/>
                  </a:lnTo>
                  <a:lnTo>
                    <a:pt x="1177" y="204"/>
                  </a:lnTo>
                  <a:lnTo>
                    <a:pt x="1179" y="204"/>
                  </a:lnTo>
                  <a:lnTo>
                    <a:pt x="1259" y="193"/>
                  </a:lnTo>
                  <a:lnTo>
                    <a:pt x="1262" y="193"/>
                  </a:lnTo>
                  <a:lnTo>
                    <a:pt x="1264" y="194"/>
                  </a:lnTo>
                  <a:lnTo>
                    <a:pt x="1265" y="196"/>
                  </a:lnTo>
                  <a:lnTo>
                    <a:pt x="1266" y="199"/>
                  </a:lnTo>
                  <a:lnTo>
                    <a:pt x="1265" y="201"/>
                  </a:lnTo>
                  <a:lnTo>
                    <a:pt x="1265" y="204"/>
                  </a:lnTo>
                  <a:lnTo>
                    <a:pt x="1263" y="206"/>
                  </a:lnTo>
                  <a:lnTo>
                    <a:pt x="1260" y="207"/>
                  </a:lnTo>
                  <a:close/>
                  <a:moveTo>
                    <a:pt x="1122" y="225"/>
                  </a:moveTo>
                  <a:lnTo>
                    <a:pt x="1122" y="225"/>
                  </a:lnTo>
                  <a:lnTo>
                    <a:pt x="1120" y="224"/>
                  </a:lnTo>
                  <a:lnTo>
                    <a:pt x="1119" y="223"/>
                  </a:lnTo>
                  <a:lnTo>
                    <a:pt x="1118" y="221"/>
                  </a:lnTo>
                  <a:lnTo>
                    <a:pt x="1116" y="218"/>
                  </a:lnTo>
                  <a:lnTo>
                    <a:pt x="1118" y="216"/>
                  </a:lnTo>
                  <a:lnTo>
                    <a:pt x="1119" y="213"/>
                  </a:lnTo>
                  <a:lnTo>
                    <a:pt x="1120" y="211"/>
                  </a:lnTo>
                  <a:lnTo>
                    <a:pt x="1122" y="211"/>
                  </a:lnTo>
                  <a:lnTo>
                    <a:pt x="1124" y="211"/>
                  </a:lnTo>
                  <a:lnTo>
                    <a:pt x="1127" y="213"/>
                  </a:lnTo>
                  <a:lnTo>
                    <a:pt x="1128" y="216"/>
                  </a:lnTo>
                  <a:lnTo>
                    <a:pt x="1128" y="218"/>
                  </a:lnTo>
                  <a:lnTo>
                    <a:pt x="1128" y="221"/>
                  </a:lnTo>
                  <a:lnTo>
                    <a:pt x="1127" y="223"/>
                  </a:lnTo>
                  <a:lnTo>
                    <a:pt x="1124" y="224"/>
                  </a:lnTo>
                  <a:lnTo>
                    <a:pt x="1122" y="225"/>
                  </a:lnTo>
                  <a:close/>
                  <a:moveTo>
                    <a:pt x="1065" y="225"/>
                  </a:moveTo>
                  <a:lnTo>
                    <a:pt x="984" y="225"/>
                  </a:lnTo>
                  <a:lnTo>
                    <a:pt x="982" y="224"/>
                  </a:lnTo>
                  <a:lnTo>
                    <a:pt x="980" y="223"/>
                  </a:lnTo>
                  <a:lnTo>
                    <a:pt x="979" y="221"/>
                  </a:lnTo>
                  <a:lnTo>
                    <a:pt x="978" y="218"/>
                  </a:lnTo>
                  <a:lnTo>
                    <a:pt x="979" y="216"/>
                  </a:lnTo>
                  <a:lnTo>
                    <a:pt x="980" y="213"/>
                  </a:lnTo>
                  <a:lnTo>
                    <a:pt x="982" y="211"/>
                  </a:lnTo>
                  <a:lnTo>
                    <a:pt x="984" y="211"/>
                  </a:lnTo>
                  <a:lnTo>
                    <a:pt x="1065" y="211"/>
                  </a:lnTo>
                  <a:lnTo>
                    <a:pt x="1068" y="211"/>
                  </a:lnTo>
                  <a:lnTo>
                    <a:pt x="1069" y="213"/>
                  </a:lnTo>
                  <a:lnTo>
                    <a:pt x="1070" y="216"/>
                  </a:lnTo>
                  <a:lnTo>
                    <a:pt x="1071" y="218"/>
                  </a:lnTo>
                  <a:lnTo>
                    <a:pt x="1070" y="221"/>
                  </a:lnTo>
                  <a:lnTo>
                    <a:pt x="1069" y="223"/>
                  </a:lnTo>
                  <a:lnTo>
                    <a:pt x="1068" y="224"/>
                  </a:lnTo>
                  <a:lnTo>
                    <a:pt x="1065" y="225"/>
                  </a:lnTo>
                  <a:close/>
                  <a:moveTo>
                    <a:pt x="927" y="225"/>
                  </a:moveTo>
                  <a:lnTo>
                    <a:pt x="927" y="225"/>
                  </a:lnTo>
                  <a:lnTo>
                    <a:pt x="925" y="224"/>
                  </a:lnTo>
                  <a:lnTo>
                    <a:pt x="923" y="223"/>
                  </a:lnTo>
                  <a:lnTo>
                    <a:pt x="921" y="221"/>
                  </a:lnTo>
                  <a:lnTo>
                    <a:pt x="921" y="218"/>
                  </a:lnTo>
                  <a:lnTo>
                    <a:pt x="921" y="216"/>
                  </a:lnTo>
                  <a:lnTo>
                    <a:pt x="923" y="213"/>
                  </a:lnTo>
                  <a:lnTo>
                    <a:pt x="925" y="211"/>
                  </a:lnTo>
                  <a:lnTo>
                    <a:pt x="927" y="211"/>
                  </a:lnTo>
                  <a:lnTo>
                    <a:pt x="929" y="211"/>
                  </a:lnTo>
                  <a:lnTo>
                    <a:pt x="931" y="213"/>
                  </a:lnTo>
                  <a:lnTo>
                    <a:pt x="932" y="216"/>
                  </a:lnTo>
                  <a:lnTo>
                    <a:pt x="933" y="218"/>
                  </a:lnTo>
                  <a:lnTo>
                    <a:pt x="932" y="221"/>
                  </a:lnTo>
                  <a:lnTo>
                    <a:pt x="931" y="223"/>
                  </a:lnTo>
                  <a:lnTo>
                    <a:pt x="929" y="224"/>
                  </a:lnTo>
                  <a:lnTo>
                    <a:pt x="927" y="225"/>
                  </a:lnTo>
                  <a:close/>
                  <a:moveTo>
                    <a:pt x="869" y="225"/>
                  </a:moveTo>
                  <a:lnTo>
                    <a:pt x="789" y="225"/>
                  </a:lnTo>
                  <a:lnTo>
                    <a:pt x="787" y="225"/>
                  </a:lnTo>
                  <a:lnTo>
                    <a:pt x="784" y="223"/>
                  </a:lnTo>
                  <a:lnTo>
                    <a:pt x="783" y="221"/>
                  </a:lnTo>
                  <a:lnTo>
                    <a:pt x="783" y="218"/>
                  </a:lnTo>
                  <a:lnTo>
                    <a:pt x="783" y="216"/>
                  </a:lnTo>
                  <a:lnTo>
                    <a:pt x="784" y="213"/>
                  </a:lnTo>
                  <a:lnTo>
                    <a:pt x="787" y="211"/>
                  </a:lnTo>
                  <a:lnTo>
                    <a:pt x="789" y="211"/>
                  </a:lnTo>
                  <a:lnTo>
                    <a:pt x="869" y="211"/>
                  </a:lnTo>
                  <a:lnTo>
                    <a:pt x="872" y="211"/>
                  </a:lnTo>
                  <a:lnTo>
                    <a:pt x="873" y="213"/>
                  </a:lnTo>
                  <a:lnTo>
                    <a:pt x="874" y="216"/>
                  </a:lnTo>
                  <a:lnTo>
                    <a:pt x="875" y="218"/>
                  </a:lnTo>
                  <a:lnTo>
                    <a:pt x="875" y="221"/>
                  </a:lnTo>
                  <a:lnTo>
                    <a:pt x="873" y="223"/>
                  </a:lnTo>
                  <a:lnTo>
                    <a:pt x="872" y="224"/>
                  </a:lnTo>
                  <a:lnTo>
                    <a:pt x="869" y="225"/>
                  </a:lnTo>
                  <a:close/>
                  <a:moveTo>
                    <a:pt x="731" y="225"/>
                  </a:moveTo>
                  <a:lnTo>
                    <a:pt x="731" y="225"/>
                  </a:lnTo>
                  <a:lnTo>
                    <a:pt x="729" y="225"/>
                  </a:lnTo>
                  <a:lnTo>
                    <a:pt x="726" y="224"/>
                  </a:lnTo>
                  <a:lnTo>
                    <a:pt x="725" y="221"/>
                  </a:lnTo>
                  <a:lnTo>
                    <a:pt x="725" y="218"/>
                  </a:lnTo>
                  <a:lnTo>
                    <a:pt x="725" y="216"/>
                  </a:lnTo>
                  <a:lnTo>
                    <a:pt x="726" y="213"/>
                  </a:lnTo>
                  <a:lnTo>
                    <a:pt x="729" y="211"/>
                  </a:lnTo>
                  <a:lnTo>
                    <a:pt x="731" y="211"/>
                  </a:lnTo>
                  <a:lnTo>
                    <a:pt x="733" y="211"/>
                  </a:lnTo>
                  <a:lnTo>
                    <a:pt x="736" y="213"/>
                  </a:lnTo>
                  <a:lnTo>
                    <a:pt x="737" y="216"/>
                  </a:lnTo>
                  <a:lnTo>
                    <a:pt x="737" y="218"/>
                  </a:lnTo>
                  <a:lnTo>
                    <a:pt x="737" y="221"/>
                  </a:lnTo>
                  <a:lnTo>
                    <a:pt x="736" y="224"/>
                  </a:lnTo>
                  <a:lnTo>
                    <a:pt x="733" y="225"/>
                  </a:lnTo>
                  <a:lnTo>
                    <a:pt x="731" y="225"/>
                  </a:lnTo>
                  <a:close/>
                  <a:moveTo>
                    <a:pt x="673" y="225"/>
                  </a:moveTo>
                  <a:lnTo>
                    <a:pt x="593" y="225"/>
                  </a:lnTo>
                  <a:lnTo>
                    <a:pt x="590" y="225"/>
                  </a:lnTo>
                  <a:lnTo>
                    <a:pt x="588" y="224"/>
                  </a:lnTo>
                  <a:lnTo>
                    <a:pt x="587" y="221"/>
                  </a:lnTo>
                  <a:lnTo>
                    <a:pt x="587" y="218"/>
                  </a:lnTo>
                  <a:lnTo>
                    <a:pt x="587" y="216"/>
                  </a:lnTo>
                  <a:lnTo>
                    <a:pt x="588" y="213"/>
                  </a:lnTo>
                  <a:lnTo>
                    <a:pt x="590" y="211"/>
                  </a:lnTo>
                  <a:lnTo>
                    <a:pt x="593" y="211"/>
                  </a:lnTo>
                  <a:lnTo>
                    <a:pt x="673" y="211"/>
                  </a:lnTo>
                  <a:lnTo>
                    <a:pt x="675" y="211"/>
                  </a:lnTo>
                  <a:lnTo>
                    <a:pt x="678" y="213"/>
                  </a:lnTo>
                  <a:lnTo>
                    <a:pt x="679" y="216"/>
                  </a:lnTo>
                  <a:lnTo>
                    <a:pt x="679" y="218"/>
                  </a:lnTo>
                  <a:lnTo>
                    <a:pt x="679" y="221"/>
                  </a:lnTo>
                  <a:lnTo>
                    <a:pt x="678" y="224"/>
                  </a:lnTo>
                  <a:lnTo>
                    <a:pt x="675" y="225"/>
                  </a:lnTo>
                  <a:lnTo>
                    <a:pt x="673" y="225"/>
                  </a:lnTo>
                  <a:close/>
                  <a:moveTo>
                    <a:pt x="535" y="225"/>
                  </a:moveTo>
                  <a:lnTo>
                    <a:pt x="535" y="225"/>
                  </a:lnTo>
                  <a:lnTo>
                    <a:pt x="533" y="225"/>
                  </a:lnTo>
                  <a:lnTo>
                    <a:pt x="532" y="224"/>
                  </a:lnTo>
                  <a:lnTo>
                    <a:pt x="530" y="221"/>
                  </a:lnTo>
                  <a:lnTo>
                    <a:pt x="529" y="218"/>
                  </a:lnTo>
                  <a:lnTo>
                    <a:pt x="530" y="216"/>
                  </a:lnTo>
                  <a:lnTo>
                    <a:pt x="532" y="214"/>
                  </a:lnTo>
                  <a:lnTo>
                    <a:pt x="533" y="211"/>
                  </a:lnTo>
                  <a:lnTo>
                    <a:pt x="535" y="211"/>
                  </a:lnTo>
                  <a:lnTo>
                    <a:pt x="537" y="211"/>
                  </a:lnTo>
                  <a:lnTo>
                    <a:pt x="539" y="214"/>
                  </a:lnTo>
                  <a:lnTo>
                    <a:pt x="541" y="216"/>
                  </a:lnTo>
                  <a:lnTo>
                    <a:pt x="541" y="218"/>
                  </a:lnTo>
                  <a:lnTo>
                    <a:pt x="541" y="221"/>
                  </a:lnTo>
                  <a:lnTo>
                    <a:pt x="539" y="224"/>
                  </a:lnTo>
                  <a:lnTo>
                    <a:pt x="537" y="225"/>
                  </a:lnTo>
                  <a:lnTo>
                    <a:pt x="535" y="225"/>
                  </a:lnTo>
                  <a:close/>
                  <a:moveTo>
                    <a:pt x="477" y="225"/>
                  </a:moveTo>
                  <a:lnTo>
                    <a:pt x="397" y="225"/>
                  </a:lnTo>
                  <a:lnTo>
                    <a:pt x="394" y="225"/>
                  </a:lnTo>
                  <a:lnTo>
                    <a:pt x="393" y="224"/>
                  </a:lnTo>
                  <a:lnTo>
                    <a:pt x="392" y="221"/>
                  </a:lnTo>
                  <a:lnTo>
                    <a:pt x="391" y="218"/>
                  </a:lnTo>
                  <a:lnTo>
                    <a:pt x="392" y="216"/>
                  </a:lnTo>
                  <a:lnTo>
                    <a:pt x="393" y="214"/>
                  </a:lnTo>
                  <a:lnTo>
                    <a:pt x="394" y="213"/>
                  </a:lnTo>
                  <a:lnTo>
                    <a:pt x="397" y="211"/>
                  </a:lnTo>
                  <a:lnTo>
                    <a:pt x="477" y="211"/>
                  </a:lnTo>
                  <a:lnTo>
                    <a:pt x="479" y="211"/>
                  </a:lnTo>
                  <a:lnTo>
                    <a:pt x="482" y="214"/>
                  </a:lnTo>
                  <a:lnTo>
                    <a:pt x="483" y="216"/>
                  </a:lnTo>
                  <a:lnTo>
                    <a:pt x="483" y="218"/>
                  </a:lnTo>
                  <a:lnTo>
                    <a:pt x="483" y="221"/>
                  </a:lnTo>
                  <a:lnTo>
                    <a:pt x="482" y="224"/>
                  </a:lnTo>
                  <a:lnTo>
                    <a:pt x="479" y="225"/>
                  </a:lnTo>
                  <a:lnTo>
                    <a:pt x="477" y="225"/>
                  </a:lnTo>
                  <a:close/>
                  <a:moveTo>
                    <a:pt x="339" y="225"/>
                  </a:moveTo>
                  <a:lnTo>
                    <a:pt x="339" y="225"/>
                  </a:lnTo>
                  <a:lnTo>
                    <a:pt x="337" y="225"/>
                  </a:lnTo>
                  <a:lnTo>
                    <a:pt x="335" y="224"/>
                  </a:lnTo>
                  <a:lnTo>
                    <a:pt x="334" y="221"/>
                  </a:lnTo>
                  <a:lnTo>
                    <a:pt x="333" y="218"/>
                  </a:lnTo>
                  <a:lnTo>
                    <a:pt x="334" y="216"/>
                  </a:lnTo>
                  <a:lnTo>
                    <a:pt x="335" y="214"/>
                  </a:lnTo>
                  <a:lnTo>
                    <a:pt x="337" y="213"/>
                  </a:lnTo>
                  <a:lnTo>
                    <a:pt x="339" y="211"/>
                  </a:lnTo>
                  <a:lnTo>
                    <a:pt x="341" y="213"/>
                  </a:lnTo>
                  <a:lnTo>
                    <a:pt x="343" y="214"/>
                  </a:lnTo>
                  <a:lnTo>
                    <a:pt x="344" y="216"/>
                  </a:lnTo>
                  <a:lnTo>
                    <a:pt x="346" y="218"/>
                  </a:lnTo>
                  <a:lnTo>
                    <a:pt x="344" y="221"/>
                  </a:lnTo>
                  <a:lnTo>
                    <a:pt x="343" y="224"/>
                  </a:lnTo>
                  <a:lnTo>
                    <a:pt x="341" y="225"/>
                  </a:lnTo>
                  <a:lnTo>
                    <a:pt x="339" y="225"/>
                  </a:lnTo>
                  <a:close/>
                  <a:moveTo>
                    <a:pt x="282" y="225"/>
                  </a:moveTo>
                  <a:lnTo>
                    <a:pt x="202" y="227"/>
                  </a:lnTo>
                  <a:lnTo>
                    <a:pt x="199" y="225"/>
                  </a:lnTo>
                  <a:lnTo>
                    <a:pt x="197" y="224"/>
                  </a:lnTo>
                  <a:lnTo>
                    <a:pt x="196" y="221"/>
                  </a:lnTo>
                  <a:lnTo>
                    <a:pt x="195" y="218"/>
                  </a:lnTo>
                  <a:lnTo>
                    <a:pt x="196" y="216"/>
                  </a:lnTo>
                  <a:lnTo>
                    <a:pt x="197" y="214"/>
                  </a:lnTo>
                  <a:lnTo>
                    <a:pt x="199" y="213"/>
                  </a:lnTo>
                  <a:lnTo>
                    <a:pt x="202" y="211"/>
                  </a:lnTo>
                  <a:lnTo>
                    <a:pt x="282" y="211"/>
                  </a:lnTo>
                  <a:lnTo>
                    <a:pt x="284" y="213"/>
                  </a:lnTo>
                  <a:lnTo>
                    <a:pt x="286" y="214"/>
                  </a:lnTo>
                  <a:lnTo>
                    <a:pt x="287" y="216"/>
                  </a:lnTo>
                  <a:lnTo>
                    <a:pt x="288" y="218"/>
                  </a:lnTo>
                  <a:lnTo>
                    <a:pt x="287" y="221"/>
                  </a:lnTo>
                  <a:lnTo>
                    <a:pt x="286" y="224"/>
                  </a:lnTo>
                  <a:lnTo>
                    <a:pt x="284" y="225"/>
                  </a:lnTo>
                  <a:lnTo>
                    <a:pt x="282" y="225"/>
                  </a:lnTo>
                  <a:close/>
                  <a:moveTo>
                    <a:pt x="144" y="227"/>
                  </a:moveTo>
                  <a:lnTo>
                    <a:pt x="144" y="227"/>
                  </a:lnTo>
                  <a:lnTo>
                    <a:pt x="142" y="225"/>
                  </a:lnTo>
                  <a:lnTo>
                    <a:pt x="139" y="224"/>
                  </a:lnTo>
                  <a:lnTo>
                    <a:pt x="138" y="221"/>
                  </a:lnTo>
                  <a:lnTo>
                    <a:pt x="138" y="220"/>
                  </a:lnTo>
                  <a:lnTo>
                    <a:pt x="138" y="217"/>
                  </a:lnTo>
                  <a:lnTo>
                    <a:pt x="139" y="214"/>
                  </a:lnTo>
                  <a:lnTo>
                    <a:pt x="142" y="213"/>
                  </a:lnTo>
                  <a:lnTo>
                    <a:pt x="144" y="211"/>
                  </a:lnTo>
                  <a:lnTo>
                    <a:pt x="146" y="213"/>
                  </a:lnTo>
                  <a:lnTo>
                    <a:pt x="147" y="214"/>
                  </a:lnTo>
                  <a:lnTo>
                    <a:pt x="148" y="217"/>
                  </a:lnTo>
                  <a:lnTo>
                    <a:pt x="149" y="220"/>
                  </a:lnTo>
                  <a:lnTo>
                    <a:pt x="148" y="221"/>
                  </a:lnTo>
                  <a:lnTo>
                    <a:pt x="147" y="224"/>
                  </a:lnTo>
                  <a:lnTo>
                    <a:pt x="146" y="225"/>
                  </a:lnTo>
                  <a:lnTo>
                    <a:pt x="144" y="227"/>
                  </a:lnTo>
                  <a:close/>
                  <a:moveTo>
                    <a:pt x="86" y="227"/>
                  </a:moveTo>
                  <a:lnTo>
                    <a:pt x="6" y="227"/>
                  </a:lnTo>
                  <a:lnTo>
                    <a:pt x="3" y="225"/>
                  </a:lnTo>
                  <a:lnTo>
                    <a:pt x="1" y="224"/>
                  </a:lnTo>
                  <a:lnTo>
                    <a:pt x="0" y="223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1" y="214"/>
                  </a:lnTo>
                  <a:lnTo>
                    <a:pt x="3" y="213"/>
                  </a:lnTo>
                  <a:lnTo>
                    <a:pt x="6" y="213"/>
                  </a:lnTo>
                  <a:lnTo>
                    <a:pt x="86" y="211"/>
                  </a:lnTo>
                  <a:lnTo>
                    <a:pt x="88" y="213"/>
                  </a:lnTo>
                  <a:lnTo>
                    <a:pt x="91" y="214"/>
                  </a:lnTo>
                  <a:lnTo>
                    <a:pt x="92" y="217"/>
                  </a:lnTo>
                  <a:lnTo>
                    <a:pt x="92" y="220"/>
                  </a:lnTo>
                  <a:lnTo>
                    <a:pt x="92" y="221"/>
                  </a:lnTo>
                  <a:lnTo>
                    <a:pt x="91" y="224"/>
                  </a:lnTo>
                  <a:lnTo>
                    <a:pt x="88" y="225"/>
                  </a:lnTo>
                  <a:lnTo>
                    <a:pt x="86" y="227"/>
                  </a:lnTo>
                  <a:close/>
                </a:path>
              </a:pathLst>
            </a:cu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1" name="Rectangle 113"/>
            <p:cNvSpPr/>
            <p:nvPr/>
          </p:nvSpPr>
          <p:spPr>
            <a:xfrm>
              <a:off x="2372760" y="4530240"/>
              <a:ext cx="277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□□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町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2" name="Freeform 114"/>
            <p:cNvSpPr/>
            <p:nvPr/>
          </p:nvSpPr>
          <p:spPr>
            <a:xfrm>
              <a:off x="1630440" y="4113720"/>
              <a:ext cx="2212560" cy="533160"/>
            </a:xfrm>
            <a:custGeom>
              <a:avLst/>
              <a:gdLst>
                <a:gd name="textAreaLeft" fmla="*/ 0 w 2212560"/>
                <a:gd name="textAreaRight" fmla="*/ 2212920 w 2212560"/>
                <a:gd name="textAreaTop" fmla="*/ 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w="5441" h="1360">
                  <a:moveTo>
                    <a:pt x="0" y="1360"/>
                  </a:moveTo>
                  <a:lnTo>
                    <a:pt x="4081" y="1360"/>
                  </a:lnTo>
                  <a:lnTo>
                    <a:pt x="5441" y="0"/>
                  </a:lnTo>
                  <a:lnTo>
                    <a:pt x="1360" y="0"/>
                  </a:lnTo>
                  <a:lnTo>
                    <a:pt x="0" y="1360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233" name="Group 115"/>
          <p:cNvGrpSpPr/>
          <p:nvPr/>
        </p:nvGrpSpPr>
        <p:grpSpPr>
          <a:xfrm>
            <a:off x="1836720" y="3598920"/>
            <a:ext cx="2220840" cy="546120"/>
            <a:chOff x="1836720" y="3598920"/>
            <a:chExt cx="2220840" cy="546120"/>
          </a:xfrm>
        </p:grpSpPr>
        <p:sp>
          <p:nvSpPr>
            <p:cNvPr id="234" name="AutoShape 116"/>
            <p:cNvSpPr/>
            <p:nvPr/>
          </p:nvSpPr>
          <p:spPr>
            <a:xfrm>
              <a:off x="1836720" y="3598920"/>
              <a:ext cx="2220840" cy="546120"/>
            </a:xfrm>
            <a:prstGeom prst="parallelogram">
              <a:avLst>
                <a:gd name="adj" fmla="val 1028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5" name="Oval 117"/>
            <p:cNvSpPr/>
            <p:nvPr/>
          </p:nvSpPr>
          <p:spPr>
            <a:xfrm>
              <a:off x="3634560" y="3666240"/>
              <a:ext cx="67320" cy="68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6" name="Oval 118"/>
            <p:cNvSpPr/>
            <p:nvPr/>
          </p:nvSpPr>
          <p:spPr>
            <a:xfrm>
              <a:off x="3224880" y="3974040"/>
              <a:ext cx="67320" cy="68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7" name="Oval 119"/>
            <p:cNvSpPr/>
            <p:nvPr/>
          </p:nvSpPr>
          <p:spPr>
            <a:xfrm>
              <a:off x="2405520" y="3905640"/>
              <a:ext cx="67320" cy="68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8" name="Oval 120"/>
            <p:cNvSpPr/>
            <p:nvPr/>
          </p:nvSpPr>
          <p:spPr>
            <a:xfrm>
              <a:off x="2951280" y="3803400"/>
              <a:ext cx="67320" cy="68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39" name="Freeform 121"/>
          <p:cNvSpPr/>
          <p:nvPr/>
        </p:nvSpPr>
        <p:spPr>
          <a:xfrm flipH="1" flipV="1" rot="2190000">
            <a:off x="3986640" y="4043880"/>
            <a:ext cx="1944720" cy="466560"/>
          </a:xfrm>
          <a:custGeom>
            <a:avLst/>
            <a:gdLst>
              <a:gd name="textAreaLeft" fmla="*/ 360 w 1944720"/>
              <a:gd name="textAreaRight" fmla="*/ 1945440 w 1944720"/>
              <a:gd name="textAreaTop" fmla="*/ 360 h 466560"/>
              <a:gd name="textAreaBottom" fmla="*/ 467280 h 466560"/>
            </a:gdLst>
            <a:ahLst/>
            <a:rect l="textAreaLeft" t="textAreaTop" r="textAreaRight" b="textAreaBottom"/>
            <a:pathLst>
              <a:path w="953" h="597">
                <a:moveTo>
                  <a:pt x="0" y="590"/>
                </a:moveTo>
                <a:cubicBezTo>
                  <a:pt x="170" y="593"/>
                  <a:pt x="340" y="597"/>
                  <a:pt x="499" y="499"/>
                </a:cubicBezTo>
                <a:cubicBezTo>
                  <a:pt x="658" y="401"/>
                  <a:pt x="805" y="200"/>
                  <a:pt x="953" y="0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0" name="AutoShape 122"/>
          <p:cNvSpPr/>
          <p:nvPr/>
        </p:nvSpPr>
        <p:spPr>
          <a:xfrm>
            <a:off x="6081840" y="3597120"/>
            <a:ext cx="2449440" cy="649440"/>
          </a:xfrm>
          <a:prstGeom prst="flowChartAlternateProcess">
            <a:avLst/>
          </a:prstGeom>
          <a:solidFill>
            <a:srgbClr val="287a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アドレスマッチング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サービス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41" name="Picture 123" descr=""/>
          <p:cNvPicPr/>
          <p:nvPr/>
        </p:nvPicPr>
        <p:blipFill>
          <a:blip r:embed="rId2"/>
          <a:stretch/>
        </p:blipFill>
        <p:spPr>
          <a:xfrm>
            <a:off x="6010200" y="4245120"/>
            <a:ext cx="1225800" cy="111096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24"/>
          <p:cNvSpPr/>
          <p:nvPr/>
        </p:nvSpPr>
        <p:spPr>
          <a:xfrm>
            <a:off x="6299280" y="4946760"/>
            <a:ext cx="1655640" cy="1008000"/>
          </a:xfrm>
          <a:prstGeom prst="can">
            <a:avLst>
              <a:gd name="adj" fmla="val 38643"/>
            </a:avLst>
          </a:prstGeom>
          <a:solidFill>
            <a:srgbClr val="287a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3" name="Text Box 125"/>
          <p:cNvSpPr/>
          <p:nvPr/>
        </p:nvSpPr>
        <p:spPr>
          <a:xfrm>
            <a:off x="6372360" y="53262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住所データ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4" name="Text Box 126"/>
          <p:cNvSpPr/>
          <p:nvPr/>
        </p:nvSpPr>
        <p:spPr>
          <a:xfrm>
            <a:off x="3490920" y="52498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①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住所で管理している行政情報を送付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5" name="Text Box 127"/>
          <p:cNvSpPr/>
          <p:nvPr/>
        </p:nvSpPr>
        <p:spPr>
          <a:xfrm>
            <a:off x="3994200" y="31528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②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共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DM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上に展開でき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GIS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データとして返信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6" name="Rectangle 128"/>
          <p:cNvSpPr/>
          <p:nvPr/>
        </p:nvSpPr>
        <p:spPr>
          <a:xfrm>
            <a:off x="517680" y="6176880"/>
            <a:ext cx="11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行政職員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7" name="Text Box 129"/>
          <p:cNvSpPr/>
          <p:nvPr/>
        </p:nvSpPr>
        <p:spPr>
          <a:xfrm>
            <a:off x="322200" y="2924280"/>
            <a:ext cx="36003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UI Gothic"/>
              </a:rPr>
              <a:t>【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S UI Gothic"/>
              </a:rPr>
              <a:t>アドレスマッチングサービスのイメー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UI Gothic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227640" y="5734080"/>
          <a:ext cx="2016360" cy="942840"/>
        </p:xfrm>
        <a:graphic>
          <a:graphicData uri="http://schemas.openxmlformats.org/drawingml/2006/table">
            <a:tbl>
              <a:tblPr/>
              <a:tblGrid>
                <a:gridCol w="1008360"/>
                <a:gridCol w="1008000"/>
              </a:tblGrid>
              <a:tr h="188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住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座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409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○○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丁目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123.5, 524.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▲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丁目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(1498.3, 430.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・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・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・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・・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2535120" y="5932440"/>
            <a:ext cx="1008360" cy="36036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5950080"/>
            <a:ext cx="1008360" cy="36036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1" name=""/>
          <p:cNvSpPr/>
          <p:nvPr/>
        </p:nvSpPr>
        <p:spPr>
          <a:xfrm>
            <a:off x="3564000" y="6093000"/>
            <a:ext cx="25923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4067280" y="5303880"/>
            <a:ext cx="2158920" cy="8031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953" h="597">
                <a:moveTo>
                  <a:pt x="0" y="590"/>
                </a:moveTo>
                <a:cubicBezTo>
                  <a:pt x="170" y="593"/>
                  <a:pt x="340" y="597"/>
                  <a:pt x="499" y="499"/>
                </a:cubicBezTo>
                <a:cubicBezTo>
                  <a:pt x="658" y="401"/>
                  <a:pt x="805" y="200"/>
                  <a:pt x="953" y="0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5B16-4F66-47D2-8B48-635664B99876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参考</a:t>
            </a: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③</a:t>
            </a: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：住所データの利活用手法の検討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4480" y="855720"/>
            <a:ext cx="8713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県域レベルの住所データは、特に防災分野での有効活用が期待できます。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</p:txBody>
      </p:sp>
      <p:pic>
        <p:nvPicPr>
          <p:cNvPr id="256" name="Picture 5" descr="D:\そのほか\参考資料\ネタPPT\フリー素材集\地震.WMF"/>
          <p:cNvPicPr/>
          <p:nvPr/>
        </p:nvPicPr>
        <p:blipFill>
          <a:blip r:embed="rId1"/>
          <a:stretch/>
        </p:blipFill>
        <p:spPr>
          <a:xfrm>
            <a:off x="6797520" y="4340160"/>
            <a:ext cx="1519560" cy="179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D:\そのほか\参考資料\ネタPPT\フリー素材集\地震.WMF"/>
          <p:cNvPicPr/>
          <p:nvPr/>
        </p:nvPicPr>
        <p:blipFill>
          <a:blip r:embed="rId2"/>
          <a:stretch/>
        </p:blipFill>
        <p:spPr>
          <a:xfrm>
            <a:off x="1044720" y="2709720"/>
            <a:ext cx="1519200" cy="1797120"/>
          </a:xfrm>
          <a:prstGeom prst="rect">
            <a:avLst/>
          </a:prstGeom>
          <a:ln w="0">
            <a:noFill/>
          </a:ln>
        </p:spPr>
      </p:pic>
      <p:grpSp>
        <p:nvGrpSpPr>
          <p:cNvPr id="258" name="グループ化 11"/>
          <p:cNvGrpSpPr/>
          <p:nvPr/>
        </p:nvGrpSpPr>
        <p:grpSpPr>
          <a:xfrm>
            <a:off x="4140360" y="1989000"/>
            <a:ext cx="2449440" cy="2351160"/>
            <a:chOff x="4140360" y="1989000"/>
            <a:chExt cx="2449440" cy="2351160"/>
          </a:xfrm>
        </p:grpSpPr>
        <p:sp>
          <p:nvSpPr>
            <p:cNvPr id="259" name="AutoShape 122"/>
            <p:cNvSpPr/>
            <p:nvPr/>
          </p:nvSpPr>
          <p:spPr>
            <a:xfrm>
              <a:off x="4140360" y="1989000"/>
              <a:ext cx="2449440" cy="649440"/>
            </a:xfrm>
            <a:prstGeom prst="flowChartAlternateProcess">
              <a:avLst/>
            </a:prstGeom>
            <a:solidFill>
              <a:srgbClr val="287a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アドレスマッチング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Arial"/>
                </a:rPr>
                <a:t>ツール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260" name="Picture 123" descr=""/>
            <p:cNvPicPr/>
            <p:nvPr/>
          </p:nvPicPr>
          <p:blipFill>
            <a:blip r:embed="rId3"/>
            <a:stretch/>
          </p:blipFill>
          <p:spPr>
            <a:xfrm>
              <a:off x="4284720" y="2683440"/>
              <a:ext cx="1225440" cy="11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24"/>
            <p:cNvSpPr/>
            <p:nvPr/>
          </p:nvSpPr>
          <p:spPr>
            <a:xfrm>
              <a:off x="4788720" y="3331800"/>
              <a:ext cx="1655640" cy="1008360"/>
            </a:xfrm>
            <a:prstGeom prst="can">
              <a:avLst>
                <a:gd name="adj" fmla="val 38643"/>
              </a:avLst>
            </a:prstGeom>
            <a:solidFill>
              <a:srgbClr val="287a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62" name="Text Box 125"/>
            <p:cNvSpPr/>
            <p:nvPr/>
          </p:nvSpPr>
          <p:spPr>
            <a:xfrm>
              <a:off x="4788720" y="376416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Arial"/>
                </a:rPr>
                <a:t>住所データ</a:t>
              </a:r>
              <a:endParaRPr b="0" lang="en-US" sz="20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63" name="フリーフォーム 14"/>
          <p:cNvSpPr/>
          <p:nvPr/>
        </p:nvSpPr>
        <p:spPr>
          <a:xfrm>
            <a:off x="2844720" y="2854440"/>
            <a:ext cx="1224000" cy="6220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622080"/>
              <a:gd name="textAreaBottom" fmla="*/ 622080 h 622080"/>
            </a:gdLst>
            <a:ahLst/>
            <a:rect l="textAreaLeft" t="textAreaTop" r="textAreaRight" b="textAreaBottom"/>
            <a:pathLst>
              <a:path w="1860331" h="1248980">
                <a:moveTo>
                  <a:pt x="0" y="1248980"/>
                </a:moveTo>
                <a:cubicBezTo>
                  <a:pt x="93717" y="897759"/>
                  <a:pt x="187434" y="546538"/>
                  <a:pt x="346841" y="345090"/>
                </a:cubicBezTo>
                <a:cubicBezTo>
                  <a:pt x="506248" y="143642"/>
                  <a:pt x="704193" y="80580"/>
                  <a:pt x="956441" y="40290"/>
                </a:cubicBezTo>
                <a:cubicBezTo>
                  <a:pt x="1208689" y="0"/>
                  <a:pt x="1534510" y="51676"/>
                  <a:pt x="1860331" y="103352"/>
                </a:cubicBezTo>
              </a:path>
            </a:pathLst>
          </a:custGeom>
          <a:noFill/>
          <a:ln w="792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4" name="フリーフォーム 15"/>
          <p:cNvSpPr/>
          <p:nvPr/>
        </p:nvSpPr>
        <p:spPr>
          <a:xfrm rot="5400000">
            <a:off x="6372360" y="2899440"/>
            <a:ext cx="1440000" cy="158436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1860331" h="1248980">
                <a:moveTo>
                  <a:pt x="0" y="1248980"/>
                </a:moveTo>
                <a:cubicBezTo>
                  <a:pt x="93717" y="897759"/>
                  <a:pt x="187434" y="546538"/>
                  <a:pt x="346841" y="345090"/>
                </a:cubicBezTo>
                <a:cubicBezTo>
                  <a:pt x="506248" y="143642"/>
                  <a:pt x="704193" y="80580"/>
                  <a:pt x="956441" y="40290"/>
                </a:cubicBezTo>
                <a:cubicBezTo>
                  <a:pt x="1208689" y="0"/>
                  <a:pt x="1534510" y="51676"/>
                  <a:pt x="1860331" y="103352"/>
                </a:cubicBezTo>
              </a:path>
            </a:pathLst>
          </a:custGeom>
          <a:noFill/>
          <a:ln w="792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65" name="Picture 9" descr="D:\そのほか\参考資料\ネタPPT\フリー素材集\黒い人_しまった.WMF"/>
          <p:cNvPicPr/>
          <p:nvPr/>
        </p:nvPicPr>
        <p:blipFill>
          <a:blip r:embed="rId4"/>
          <a:stretch/>
        </p:blipFill>
        <p:spPr>
          <a:xfrm>
            <a:off x="468360" y="3403440"/>
            <a:ext cx="866880" cy="1630440"/>
          </a:xfrm>
          <a:prstGeom prst="rect">
            <a:avLst/>
          </a:prstGeom>
          <a:ln w="0">
            <a:noFill/>
          </a:ln>
        </p:spPr>
      </p:pic>
      <p:grpSp>
        <p:nvGrpSpPr>
          <p:cNvPr id="266" name="グループ化 21"/>
          <p:cNvGrpSpPr/>
          <p:nvPr/>
        </p:nvGrpSpPr>
        <p:grpSpPr>
          <a:xfrm>
            <a:off x="7093080" y="2324160"/>
            <a:ext cx="1655640" cy="1368360"/>
            <a:chOff x="7093080" y="2324160"/>
            <a:chExt cx="1655640" cy="1368360"/>
          </a:xfrm>
        </p:grpSpPr>
        <p:pic>
          <p:nvPicPr>
            <p:cNvPr id="267" name="Picture 12" descr=""/>
            <p:cNvPicPr/>
            <p:nvPr/>
          </p:nvPicPr>
          <p:blipFill>
            <a:blip r:embed="rId5"/>
            <a:stretch/>
          </p:blipFill>
          <p:spPr>
            <a:xfrm>
              <a:off x="7093080" y="2324160"/>
              <a:ext cx="1655640" cy="136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68" name="乗算記号 20"/>
            <p:cNvSpPr/>
            <p:nvPr/>
          </p:nvSpPr>
          <p:spPr>
            <a:xfrm>
              <a:off x="7842240" y="3043440"/>
              <a:ext cx="576000" cy="619200"/>
            </a:xfrm>
            <a:custGeom>
              <a:avLst/>
              <a:gdLst>
                <a:gd name="textAreaLeft" fmla="*/ 116640 w 576000"/>
                <a:gd name="textAreaRight" fmla="*/ 459360 w 576000"/>
                <a:gd name="textAreaTop" fmla="*/ 122760 h 619200"/>
                <a:gd name="textAreaBottom" fmla="*/ 496440 h 619200"/>
              </a:gdLst>
              <a:ahLst/>
              <a:rect l="textAreaLeft" t="textAreaTop" r="textAreaRight" b="textAreaBottom"/>
              <a:pathLst>
                <a:path w="1603922" h="1520195">
                  <a:moveTo>
                    <a:pt x="325305" y="428329"/>
                  </a:moveTo>
                  <a:lnTo>
                    <a:pt x="445139" y="301896"/>
                  </a:lnTo>
                  <a:lnTo>
                    <a:pt x="801961" y="640092"/>
                  </a:lnTo>
                  <a:lnTo>
                    <a:pt x="1158783" y="301896"/>
                  </a:lnTo>
                  <a:lnTo>
                    <a:pt x="1278617" y="428329"/>
                  </a:lnTo>
                  <a:lnTo>
                    <a:pt x="928576" y="760098"/>
                  </a:lnTo>
                  <a:lnTo>
                    <a:pt x="1278617" y="1091866"/>
                  </a:lnTo>
                  <a:lnTo>
                    <a:pt x="1158783" y="1218299"/>
                  </a:lnTo>
                  <a:lnTo>
                    <a:pt x="801961" y="880103"/>
                  </a:lnTo>
                  <a:lnTo>
                    <a:pt x="445139" y="1218299"/>
                  </a:lnTo>
                  <a:lnTo>
                    <a:pt x="325305" y="1091866"/>
                  </a:lnTo>
                  <a:lnTo>
                    <a:pt x="675346" y="7600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pic>
        <p:nvPicPr>
          <p:cNvPr id="269" name="Picture 14" descr=""/>
          <p:cNvPicPr/>
          <p:nvPr/>
        </p:nvPicPr>
        <p:blipFill>
          <a:blip r:embed="rId6"/>
          <a:stretch/>
        </p:blipFill>
        <p:spPr>
          <a:xfrm>
            <a:off x="6227640" y="4700520"/>
            <a:ext cx="1224000" cy="1621080"/>
          </a:xfrm>
          <a:prstGeom prst="rect">
            <a:avLst/>
          </a:prstGeom>
          <a:ln w="0">
            <a:noFill/>
          </a:ln>
        </p:spPr>
      </p:pic>
      <p:sp>
        <p:nvSpPr>
          <p:cNvPr id="270" name="フリーフォーム 27"/>
          <p:cNvSpPr/>
          <p:nvPr/>
        </p:nvSpPr>
        <p:spPr>
          <a:xfrm rot="13063800">
            <a:off x="4630680" y="5405040"/>
            <a:ext cx="1108080" cy="103824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w="1735103" h="865266">
                <a:moveTo>
                  <a:pt x="0" y="865266"/>
                </a:moveTo>
                <a:cubicBezTo>
                  <a:pt x="93717" y="514045"/>
                  <a:pt x="106438" y="494890"/>
                  <a:pt x="279130" y="371209"/>
                </a:cubicBezTo>
                <a:cubicBezTo>
                  <a:pt x="451822" y="247528"/>
                  <a:pt x="793488" y="185046"/>
                  <a:pt x="1036150" y="123178"/>
                </a:cubicBezTo>
                <a:cubicBezTo>
                  <a:pt x="1278812" y="61310"/>
                  <a:pt x="1429069" y="13253"/>
                  <a:pt x="1735103" y="0"/>
                </a:cubicBezTo>
              </a:path>
            </a:pathLst>
          </a:custGeom>
          <a:noFill/>
          <a:ln w="792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1" name="メモ 28"/>
          <p:cNvSpPr/>
          <p:nvPr/>
        </p:nvSpPr>
        <p:spPr>
          <a:xfrm>
            <a:off x="3132000" y="5456160"/>
            <a:ext cx="1295640" cy="1233720"/>
          </a:xfrm>
          <a:prstGeom prst="foldedCorner">
            <a:avLst>
              <a:gd name="adj" fmla="val 16666"/>
            </a:avLst>
          </a:prstGeom>
          <a:solidFill>
            <a:srgbClr val="cc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罹災証明書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・・・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・・・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2" name="爆発 1 30"/>
          <p:cNvSpPr/>
          <p:nvPr/>
        </p:nvSpPr>
        <p:spPr>
          <a:xfrm>
            <a:off x="541440" y="2583000"/>
            <a:ext cx="1150920" cy="1185120"/>
          </a:xfrm>
          <a:prstGeom prst="irregularSeal1">
            <a:avLst/>
          </a:prstGeom>
          <a:solidFill>
            <a:srgbClr val="ffff99"/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被災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3" name="メモ 31"/>
          <p:cNvSpPr/>
          <p:nvPr/>
        </p:nvSpPr>
        <p:spPr>
          <a:xfrm>
            <a:off x="2413080" y="3403440"/>
            <a:ext cx="1368360" cy="1233720"/>
          </a:xfrm>
          <a:prstGeom prst="foldedCorner">
            <a:avLst>
              <a:gd name="adj" fmla="val 16666"/>
            </a:avLst>
          </a:prstGeom>
          <a:solidFill>
            <a:srgbClr val="ffff99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罹災申請書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住所・・・・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内容・・・・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4" name="Text Box 127"/>
          <p:cNvSpPr/>
          <p:nvPr/>
        </p:nvSpPr>
        <p:spPr>
          <a:xfrm>
            <a:off x="1044720" y="46274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①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被災者が農地・家屋等の罹災申請を提出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5" name="Text Box 127"/>
          <p:cNvSpPr/>
          <p:nvPr/>
        </p:nvSpPr>
        <p:spPr>
          <a:xfrm>
            <a:off x="5940360" y="62485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③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罹災調査を実施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6" name="Text Box 127"/>
          <p:cNvSpPr/>
          <p:nvPr/>
        </p:nvSpPr>
        <p:spPr>
          <a:xfrm>
            <a:off x="684360" y="60436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④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罹災証明書の発行・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GIS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で発行状況の管理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7" name="Text Box 129"/>
          <p:cNvSpPr/>
          <p:nvPr/>
        </p:nvSpPr>
        <p:spPr>
          <a:xfrm>
            <a:off x="76320" y="2060640"/>
            <a:ext cx="40669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UI Gothic"/>
              </a:rPr>
              <a:t>【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MS UI Gothic"/>
              </a:rPr>
              <a:t>東日本大震災における実際の活用事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UI Gothic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C8D4-7CD9-4B62-8AB2-E28A99AC9D1C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参考</a:t>
            </a:r>
            <a:r>
              <a:rPr b="0" lang="en-US" sz="3600" spc="-1" strike="noStrike">
                <a:solidFill>
                  <a:srgbClr val="000000"/>
                </a:solidFill>
                <a:latin typeface="HGPｺﾞｼｯｸE"/>
              </a:rPr>
              <a:t>③</a:t>
            </a:r>
            <a:r>
              <a:rPr b="0" lang="ja-JP" sz="3600" spc="-1" strike="noStrike">
                <a:solidFill>
                  <a:srgbClr val="000000"/>
                </a:solidFill>
                <a:latin typeface="HGPｺﾞｼｯｸE"/>
              </a:rPr>
              <a:t>：住所データの利活用手法の検討</a:t>
            </a:r>
            <a:endParaRPr b="0" lang="en-US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04480" y="855720"/>
            <a:ext cx="87138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f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ｺﾞｼｯｸE"/>
              </a:rPr>
              <a:t>住民情報の高度利用（地域情報プラットホームの利用）</a:t>
            </a:r>
            <a:endParaRPr b="0" lang="en-US" sz="2800" spc="-1" strike="noStrike">
              <a:solidFill>
                <a:srgbClr val="000000"/>
              </a:solidFill>
              <a:latin typeface="HGPｺﾞｼｯｸE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1150920" y="1368360"/>
            <a:ext cx="7543800" cy="5143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-36360" y="1608120"/>
            <a:ext cx="91533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690228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5711-978F-4D08-8954-BDC731504FF5}" type="slidenum">
              <a:rPr b="0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280" y="4644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600" spc="-1" strike="noStrike">
              <a:solidFill>
                <a:srgbClr val="000000"/>
              </a:solidFill>
              <a:latin typeface="HGPｺﾞｼｯｸ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2963880"/>
            <a:ext cx="777528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ｺﾞｼｯｸE"/>
              </a:rPr>
              <a:t>１．住所情報に関する</a:t>
            </a:r>
            <a:endParaRPr b="0" lang="en-US" sz="4400" spc="-1" strike="noStrike">
              <a:solidFill>
                <a:srgbClr val="000000"/>
              </a:solidFill>
              <a:latin typeface="HGPｺﾞｼｯｸE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ｺﾞｼｯｸE"/>
              </a:rPr>
              <a:t>現状調査結果の報告</a:t>
            </a:r>
            <a:endParaRPr b="0" lang="en-US" sz="4400" spc="-1" strike="noStrike">
              <a:solidFill>
                <a:srgbClr val="000000"/>
              </a:solidFill>
              <a:latin typeface="HGPｺﾞｼｯｸ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6:19:09Z</dcterms:created>
  <dc:creator>標準A</dc:creator>
  <dc:description/>
  <dc:language>en-US</dc:language>
  <cp:lastModifiedBy>ユーザA</cp:lastModifiedBy>
  <dcterms:modified xsi:type="dcterms:W3CDTF">2011-10-18T17:28:32Z</dcterms:modified>
  <cp:revision>369</cp:revision>
  <dc:subject/>
  <dc:title>スライド 1</dc:title>
</cp:coreProperties>
</file>