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7A546-1F0C-4F56-BC3A-4A93FDBF4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0BAD0-F7B8-40E0-97A3-D2B208E68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31FC-6DD9-409A-9EC4-78A683C62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423FE-A19E-4636-924F-B3B627ADD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292AD-A0F4-4B2D-B321-904FBEBE6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73510-0A2B-4F2C-8D6A-2CCB3DE97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961BA-62BB-4454-B4E5-D63EEAC68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98D50-5B9A-46C1-88A5-58386B51E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D8820-61FB-4AE8-A157-8EF42D43B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BE1FA-82F9-43A5-9576-5ED5E0228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46FCE-A7DF-4125-91F8-A4F3F66D1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D8FDA-C6FA-46CE-A5D1-0D33021D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DB1E3-9309-4CA0-91E4-A606D161E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6189F-AD7F-4564-97CD-AFACCFC66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22F22-587A-4F1E-B396-337BB90EB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1B128-2489-42E9-88CC-B995A3070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FCA8C-4EAC-49ED-82BA-CE848399B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6FC6E-9BF7-4321-9502-0E30AEF1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D334-54C4-49E3-93A4-9D1DBCDA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0221E-8CBD-427F-BD37-B1D446A9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262F1-217D-4C1E-91E5-17954AFA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9FDF-8D38-48D8-B1FA-0471E7B2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D66E-9D26-45CB-8CD2-4812FA746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E641-5877-4A69-9C5A-D320E4633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B0B4-B2AE-4121-A6E4-58902702E8F3}"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E593-1AAF-4410-8C66-11908452EA6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72072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33FD-E804-4DA3-A2C8-CFB0A7274F2E}" type="datetime">
              <a:rPr b="0" lang="ja-JP" sz="1400" spc="-1" strike="noStrike">
                <a:solidFill>
                  <a:srgbClr val="000000"/>
                </a:solidFill>
                <a:latin typeface="HGPｺﾞｼｯｸE"/>
                <a:ea typeface="HGPｺﾞｼｯｸE"/>
              </a:rPr>
              <a:t>26/07/29</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lt;footer&gt;</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42B0-5985-458B-A065-1315D856A3E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a:t>
            </a:r>
            <a:br>
              <a:rPr sz="3600"/>
            </a:br>
            <a:r>
              <a:rPr b="1" lang="ja-JP" sz="3600" spc="-1" strike="noStrike">
                <a:solidFill>
                  <a:srgbClr val="000000"/>
                </a:solidFill>
                <a:latin typeface="HGPｺﾞｼｯｸE"/>
              </a:rPr>
              <a:t>第４回安心・安全</a:t>
            </a:r>
            <a:r>
              <a:rPr b="1" lang="en-US" sz="3600" spc="-1" strike="noStrike">
                <a:solidFill>
                  <a:srgbClr val="000000"/>
                </a:solidFill>
                <a:latin typeface="HGPｺﾞｼｯｸE"/>
              </a:rPr>
              <a:t>WG</a:t>
            </a:r>
            <a:r>
              <a:rPr b="1" lang="ja-JP" sz="3600" spc="-1" strike="noStrike">
                <a:solidFill>
                  <a:srgbClr val="000000"/>
                </a:solidFill>
                <a:latin typeface="HGPｺﾞｼｯｸE"/>
              </a:rPr>
              <a:t>説明資料</a:t>
            </a:r>
            <a:endParaRPr b="0" lang="en-US" sz="3600" spc="-1" strike="noStrike">
              <a:solidFill>
                <a:srgbClr val="000000"/>
              </a:solidFill>
              <a:latin typeface="HGPｺﾞｼｯｸE"/>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４年３月７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2" name="Rectangle 4"/>
          <p:cNvSpPr/>
          <p:nvPr/>
        </p:nvSpPr>
        <p:spPr>
          <a:xfrm>
            <a:off x="0" y="1125360"/>
            <a:ext cx="6443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平成２３年度共有デジタル地図の運用にかかる調査検討</a:t>
            </a:r>
            <a:endParaRPr b="0" lang="en-US" sz="2000" spc="-1" strike="noStrike">
              <a:solidFill>
                <a:srgbClr val="000000"/>
              </a:solidFill>
              <a:latin typeface="Arial"/>
            </a:endParaRPr>
          </a:p>
        </p:txBody>
      </p:sp>
      <p:sp>
        <p:nvSpPr>
          <p:cNvPr id="93" name="Rectangle 6"/>
          <p:cNvSpPr/>
          <p:nvPr/>
        </p:nvSpPr>
        <p:spPr>
          <a:xfrm>
            <a:off x="7740720" y="333360"/>
            <a:ext cx="1157040" cy="504720"/>
          </a:xfrm>
          <a:prstGeom prst="rect">
            <a:avLst/>
          </a:prstGeom>
          <a:solidFill>
            <a:srgbClr val="ffffff"/>
          </a:solidFill>
          <a:ln w="25560">
            <a:solidFill>
              <a:srgbClr val="9ac9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１</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40D212D6-671D-4C65-85C4-EC24174CFD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D2DB-77AC-427C-BC44-0B0733032ED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2" name="PlaceHolder 1"/>
          <p:cNvSpPr>
            <a:spLocks noGrp="1"/>
          </p:cNvSpPr>
          <p:nvPr>
            <p:ph/>
          </p:nvPr>
        </p:nvSpPr>
        <p:spPr>
          <a:xfrm>
            <a:off x="323640" y="907920"/>
            <a:ext cx="8507160" cy="18828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の地域防災計画の現状について</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第</a:t>
            </a:r>
            <a:r>
              <a:rPr b="0" lang="en-US" sz="2400" spc="-1" strike="noStrike">
                <a:solidFill>
                  <a:srgbClr val="000000"/>
                </a:solidFill>
                <a:latin typeface="ＭＳ Ｐゴシック"/>
                <a:ea typeface="MS UI Gothic"/>
              </a:rPr>
              <a:t>2</a:t>
            </a:r>
            <a:r>
              <a:rPr b="0" lang="ja-JP" sz="2400" spc="-1" strike="noStrike">
                <a:solidFill>
                  <a:srgbClr val="000000"/>
                </a:solidFill>
                <a:latin typeface="ＭＳ Ｐゴシック"/>
                <a:ea typeface="MS UI Gothic"/>
              </a:rPr>
              <a:t>回</a:t>
            </a:r>
            <a:r>
              <a:rPr b="0" lang="en-US" sz="2400" spc="-1" strike="noStrike">
                <a:solidFill>
                  <a:srgbClr val="000000"/>
                </a:solidFill>
                <a:latin typeface="ＭＳ Ｐゴシック"/>
                <a:ea typeface="MS UI Gothic"/>
              </a:rPr>
              <a:t>WG</a:t>
            </a:r>
            <a:r>
              <a:rPr b="0" lang="ja-JP" sz="2400" spc="-1" strike="noStrike">
                <a:solidFill>
                  <a:srgbClr val="000000"/>
                </a:solidFill>
                <a:latin typeface="ＭＳ Ｐゴシック"/>
                <a:ea typeface="MS UI Gothic"/>
              </a:rPr>
              <a:t>内において、避難所の更新手法についてのヒアリングを実施いたしました。</a:t>
            </a:r>
            <a:r>
              <a:rPr b="0" lang="en-US" sz="2400" spc="-1" strike="noStrike">
                <a:solidFill>
                  <a:srgbClr val="000000"/>
                </a:solidFill>
                <a:latin typeface="ＭＳ Ｐゴシック"/>
                <a:ea typeface="MS UI Gothic"/>
              </a:rPr>
              <a:t>WG</a:t>
            </a:r>
            <a:r>
              <a:rPr b="0" lang="ja-JP" sz="2400" spc="-1" strike="noStrike">
                <a:solidFill>
                  <a:srgbClr val="000000"/>
                </a:solidFill>
                <a:latin typeface="ＭＳ Ｐゴシック"/>
                <a:ea typeface="MS UI Gothic"/>
              </a:rPr>
              <a:t>参加市町では全市町が避難所を一覧表で管理していることを把握できました。</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13"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114" name="Rectangle 3"/>
          <p:cNvSpPr/>
          <p:nvPr/>
        </p:nvSpPr>
        <p:spPr>
          <a:xfrm>
            <a:off x="336600" y="2927520"/>
            <a:ext cx="8507520" cy="37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参考：第</a:t>
            </a:r>
            <a:r>
              <a:rPr b="0" lang="en-US" sz="2000" spc="-1" strike="noStrike">
                <a:solidFill>
                  <a:srgbClr val="000000"/>
                </a:solidFill>
                <a:latin typeface="MS UI Gothic"/>
                <a:ea typeface="MS UI Gothic"/>
              </a:rPr>
              <a:t>2</a:t>
            </a:r>
            <a:r>
              <a:rPr b="0" lang="ja-JP" sz="2000" spc="-1" strike="noStrike">
                <a:solidFill>
                  <a:srgbClr val="000000"/>
                </a:solidFill>
                <a:latin typeface="MS UI Gothic"/>
                <a:ea typeface="MS UI Gothic"/>
              </a:rPr>
              <a:t>回</a:t>
            </a:r>
            <a:r>
              <a:rPr b="0" lang="en-US" sz="2000" spc="-1" strike="noStrike">
                <a:solidFill>
                  <a:srgbClr val="000000"/>
                </a:solidFill>
                <a:latin typeface="MS UI Gothic"/>
                <a:ea typeface="MS UI Gothic"/>
              </a:rPr>
              <a:t>WG</a:t>
            </a:r>
            <a:r>
              <a:rPr b="0" lang="ja-JP" sz="2000" spc="-1" strike="noStrike">
                <a:solidFill>
                  <a:srgbClr val="000000"/>
                </a:solidFill>
                <a:latin typeface="MS UI Gothic"/>
                <a:ea typeface="MS UI Gothic"/>
              </a:rPr>
              <a:t>議事より）</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一覧としては</a:t>
            </a: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の管理しているが、住所、施設名程度しか管理していない。県からの調査があれば、追記している。（志摩市）</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HP</a:t>
            </a:r>
            <a:r>
              <a:rPr b="0" lang="ja-JP" sz="2000" spc="-1" strike="noStrike">
                <a:solidFill>
                  <a:srgbClr val="000000"/>
                </a:solidFill>
                <a:latin typeface="MS UI Gothic"/>
                <a:ea typeface="MS UI Gothic"/>
              </a:rPr>
              <a:t>で公開しているし内部では、</a:t>
            </a: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管理している。（鈴鹿市）</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閉鎖、新規については</a:t>
            </a:r>
            <a:r>
              <a:rPr b="0" lang="en-US" sz="2000" spc="-1" strike="noStrike">
                <a:solidFill>
                  <a:srgbClr val="000000"/>
                </a:solidFill>
                <a:latin typeface="MS UI Gothic"/>
                <a:ea typeface="MS UI Gothic"/>
              </a:rPr>
              <a:t>HP</a:t>
            </a:r>
            <a:r>
              <a:rPr b="0" lang="ja-JP" sz="2000" spc="-1" strike="noStrike">
                <a:solidFill>
                  <a:srgbClr val="000000"/>
                </a:solidFill>
                <a:latin typeface="MS UI Gothic"/>
                <a:ea typeface="MS UI Gothic"/>
              </a:rPr>
              <a:t>で公開しており、</a:t>
            </a: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管理している。（伊勢市）</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データは</a:t>
            </a: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管理している。（多気町）</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管理している。（松阪市）</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管理は</a:t>
            </a: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実施している。（名張市）</a:t>
            </a:r>
            <a:endParaRPr b="0" lang="en-US" sz="2000" spc="-1" strike="noStrike">
              <a:solidFill>
                <a:srgbClr val="000000"/>
              </a:solidFill>
              <a:latin typeface="Arial"/>
            </a:endParaRPr>
          </a:p>
          <a:p>
            <a:pPr lvl="1" marL="743040" indent="-285840">
              <a:lnSpc>
                <a:spcPct val="10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データは</a:t>
            </a:r>
            <a:r>
              <a:rPr b="0" lang="en-US" sz="2000" spc="-1" strike="noStrike">
                <a:solidFill>
                  <a:srgbClr val="000000"/>
                </a:solidFill>
                <a:latin typeface="MS UI Gothic"/>
                <a:ea typeface="MS UI Gothic"/>
              </a:rPr>
              <a:t>excel</a:t>
            </a:r>
            <a:r>
              <a:rPr b="0" lang="ja-JP" sz="2000" spc="-1" strike="noStrike">
                <a:solidFill>
                  <a:srgbClr val="000000"/>
                </a:solidFill>
                <a:latin typeface="MS UI Gothic"/>
                <a:ea typeface="MS UI Gothic"/>
              </a:rPr>
              <a:t>で管理しているが、名称と住所程度。（伊賀市）</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F80CA65-D0B6-45D3-B2D8-D19723CEF1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8B03-23B8-43BA-BD62-B4C538889C3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323640" y="907920"/>
            <a:ext cx="8507160" cy="18828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の地域防災計画の現状について</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また、昨年度の</a:t>
            </a:r>
            <a:r>
              <a:rPr b="0" lang="en-US" sz="2400" spc="-1" strike="noStrike">
                <a:solidFill>
                  <a:srgbClr val="000000"/>
                </a:solidFill>
                <a:latin typeface="ＭＳ Ｐゴシック"/>
                <a:ea typeface="MS UI Gothic"/>
              </a:rPr>
              <a:t>WG</a:t>
            </a:r>
            <a:r>
              <a:rPr b="0" lang="ja-JP" sz="2400" spc="-1" strike="noStrike">
                <a:solidFill>
                  <a:srgbClr val="000000"/>
                </a:solidFill>
                <a:latin typeface="ＭＳ Ｐゴシック"/>
                <a:ea typeface="MS UI Gothic"/>
              </a:rPr>
              <a:t>でのアンケート調査により、ほぼ全ての市町が一覧表での避難所の管理を実施しています。</a:t>
            </a:r>
            <a:endParaRPr b="0" lang="en-US" sz="2400" spc="-1" strike="noStrike">
              <a:solidFill>
                <a:srgbClr val="000000"/>
              </a:solidFill>
              <a:latin typeface="ＭＳ Ｐゴシック"/>
            </a:endParaRPr>
          </a:p>
        </p:txBody>
      </p:sp>
      <p:sp>
        <p:nvSpPr>
          <p:cNvPr id="117"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pic>
        <p:nvPicPr>
          <p:cNvPr id="118" name="" descr=""/>
          <p:cNvPicPr/>
          <p:nvPr/>
        </p:nvPicPr>
        <p:blipFill>
          <a:blip r:embed="rId1"/>
          <a:srcRect l="5574" t="8571" r="5574" b="8571"/>
          <a:stretch/>
        </p:blipFill>
        <p:spPr>
          <a:xfrm>
            <a:off x="0" y="3200400"/>
            <a:ext cx="5759280" cy="3495600"/>
          </a:xfrm>
          <a:prstGeom prst="rect">
            <a:avLst/>
          </a:prstGeom>
          <a:ln w="0">
            <a:noFill/>
          </a:ln>
        </p:spPr>
      </p:pic>
      <p:pic>
        <p:nvPicPr>
          <p:cNvPr id="119" name="" descr=""/>
          <p:cNvPicPr/>
          <p:nvPr/>
        </p:nvPicPr>
        <p:blipFill>
          <a:blip r:embed="rId2"/>
          <a:stretch/>
        </p:blipFill>
        <p:spPr>
          <a:xfrm>
            <a:off x="4102200" y="5524560"/>
            <a:ext cx="4790880" cy="647640"/>
          </a:xfrm>
          <a:prstGeom prst="rect">
            <a:avLst/>
          </a:prstGeom>
          <a:ln w="0">
            <a:noFill/>
          </a:ln>
        </p:spPr>
      </p:pic>
      <p:sp>
        <p:nvSpPr>
          <p:cNvPr id="120" name=""/>
          <p:cNvSpPr/>
          <p:nvPr/>
        </p:nvSpPr>
        <p:spPr>
          <a:xfrm>
            <a:off x="558720" y="2666880"/>
            <a:ext cx="8102520" cy="762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あなたの部署では、現在、避難所の属性情報（名称や住所など）をどのように管理していますか？（あてはまるもの全てに○）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CFBAFC-4FEA-4EC9-987A-28103DADA3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122A-262F-41C2-8C16-E04821F7BE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2" name="PlaceHolder 1"/>
          <p:cNvSpPr>
            <a:spLocks noGrp="1"/>
          </p:cNvSpPr>
          <p:nvPr>
            <p:ph/>
          </p:nvPr>
        </p:nvSpPr>
        <p:spPr>
          <a:xfrm>
            <a:off x="323640" y="907560"/>
            <a:ext cx="8507160" cy="30258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避難所データの位置精度向上へ向けた検討</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事務局では、各市町が所有している避難所一覧（</a:t>
            </a:r>
            <a:r>
              <a:rPr b="0" lang="en-US" sz="2400" spc="-1" strike="noStrike">
                <a:solidFill>
                  <a:srgbClr val="000000"/>
                </a:solidFill>
                <a:latin typeface="ＭＳ Ｐゴシック"/>
                <a:ea typeface="MS UI Gothic"/>
              </a:rPr>
              <a:t>Excel</a:t>
            </a:r>
            <a:r>
              <a:rPr b="0" lang="ja-JP" sz="2400" spc="-1" strike="noStrike">
                <a:solidFill>
                  <a:srgbClr val="000000"/>
                </a:solidFill>
                <a:latin typeface="ＭＳ Ｐゴシック"/>
                <a:ea typeface="MS UI Gothic"/>
              </a:rPr>
              <a:t>等の帳票形式）に、直接、地図上の</a:t>
            </a:r>
            <a:r>
              <a:rPr b="0" lang="en-US" sz="2400" spc="-1" strike="noStrike">
                <a:solidFill>
                  <a:srgbClr val="000000"/>
                </a:solidFill>
                <a:latin typeface="ＭＳ Ｐゴシック"/>
                <a:ea typeface="MS UI Gothic"/>
              </a:rPr>
              <a:t>X</a:t>
            </a:r>
            <a:r>
              <a:rPr b="0" lang="ja-JP" sz="2400" spc="-1" strike="noStrike">
                <a:solidFill>
                  <a:srgbClr val="000000"/>
                </a:solidFill>
                <a:latin typeface="ＭＳ Ｐゴシック"/>
                <a:ea typeface="MS UI Gothic"/>
              </a:rPr>
              <a:t>、</a:t>
            </a:r>
            <a:r>
              <a:rPr b="0" lang="en-US" sz="2400" spc="-1" strike="noStrike">
                <a:solidFill>
                  <a:srgbClr val="000000"/>
                </a:solidFill>
                <a:latin typeface="ＭＳ Ｐゴシック"/>
                <a:ea typeface="MS UI Gothic"/>
              </a:rPr>
              <a:t>Y</a:t>
            </a:r>
            <a:r>
              <a:rPr b="0" lang="ja-JP" sz="2400" spc="-1" strike="noStrike">
                <a:solidFill>
                  <a:srgbClr val="000000"/>
                </a:solidFill>
                <a:latin typeface="ＭＳ Ｐゴシック"/>
                <a:ea typeface="MS UI Gothic"/>
              </a:rPr>
              <a:t>座標を付与して管理し、その</a:t>
            </a:r>
            <a:r>
              <a:rPr b="0" lang="en-US" sz="2400" spc="-1" strike="noStrike">
                <a:solidFill>
                  <a:srgbClr val="000000"/>
                </a:solidFill>
                <a:latin typeface="ＭＳ Ｐゴシック"/>
                <a:ea typeface="MS UI Gothic"/>
              </a:rPr>
              <a:t>X</a:t>
            </a:r>
            <a:r>
              <a:rPr b="0" lang="ja-JP" sz="2400" spc="-1" strike="noStrike">
                <a:solidFill>
                  <a:srgbClr val="000000"/>
                </a:solidFill>
                <a:latin typeface="ＭＳ Ｐゴシック"/>
                <a:ea typeface="MS UI Gothic"/>
              </a:rPr>
              <a:t>、</a:t>
            </a:r>
            <a:r>
              <a:rPr b="0" lang="en-US" sz="2400" spc="-1" strike="noStrike">
                <a:solidFill>
                  <a:srgbClr val="000000"/>
                </a:solidFill>
                <a:latin typeface="ＭＳ Ｐゴシック"/>
                <a:ea typeface="MS UI Gothic"/>
              </a:rPr>
              <a:t>Y</a:t>
            </a:r>
            <a:r>
              <a:rPr b="0" lang="ja-JP" sz="2400" spc="-1" strike="noStrike">
                <a:solidFill>
                  <a:srgbClr val="000000"/>
                </a:solidFill>
                <a:latin typeface="ＭＳ Ｐゴシック"/>
                <a:ea typeface="MS UI Gothic"/>
              </a:rPr>
              <a:t>座標から避難所データの再構築を実施することを提案いたします。</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23"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graphicFrame>
        <p:nvGraphicFramePr>
          <p:cNvPr id="124" name=""/>
          <p:cNvGraphicFramePr/>
          <p:nvPr/>
        </p:nvGraphicFramePr>
        <p:xfrm>
          <a:off x="826920" y="3716280"/>
          <a:ext cx="7632720" cy="878040"/>
        </p:xfrm>
        <a:graphic>
          <a:graphicData uri="http://schemas.openxmlformats.org/drawingml/2006/table">
            <a:tbl>
              <a:tblPr/>
              <a:tblGrid>
                <a:gridCol w="1527480"/>
                <a:gridCol w="1525320"/>
                <a:gridCol w="1527480"/>
                <a:gridCol w="1525320"/>
                <a:gridCol w="1527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施設名</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電話番号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収容人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HGPｺﾞｼｯｸE"/>
                        </a:rPr>
                        <a:t>X</a:t>
                      </a:r>
                      <a:r>
                        <a:rPr b="0" lang="ja-JP" sz="2000" spc="-1" strike="noStrike">
                          <a:solidFill>
                            <a:srgbClr val="000000"/>
                          </a:solidFill>
                          <a:latin typeface="HGPｺﾞｼｯｸE"/>
                          <a:ea typeface="HGPｺﾞｼｯｸE"/>
                        </a:rPr>
                        <a:t>座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HGPｺﾞｼｯｸE"/>
                        </a:rPr>
                        <a:t>Y</a:t>
                      </a:r>
                      <a:r>
                        <a:rPr b="0" lang="ja-JP" sz="2000" spc="-1" strike="noStrike">
                          <a:solidFill>
                            <a:srgbClr val="000000"/>
                          </a:solidFill>
                          <a:latin typeface="HGPｺﾞｼｯｸE"/>
                          <a:ea typeface="HGPｺﾞｼｯｸE"/>
                        </a:rPr>
                        <a:t>座標</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479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公民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E"/>
                          <a:ea typeface="HGPｺﾞｼｯｸE"/>
                        </a:rPr>
                        <a:t>50</a:t>
                      </a:r>
                      <a:r>
                        <a:rPr b="0" lang="ja-JP" sz="2000" spc="-1" strike="noStrike">
                          <a:solidFill>
                            <a:srgbClr val="000000"/>
                          </a:solidFill>
                          <a:latin typeface="HGPｺﾞｼｯｸE"/>
                          <a:ea typeface="HGPｺﾞｼｯｸE"/>
                        </a:rPr>
                        <a:t>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r>
                        <a:rPr b="0" lang="en-US" sz="2000" spc="-1" strike="noStrike">
                          <a:solidFill>
                            <a:srgbClr val="000000"/>
                          </a:solidFill>
                          <a:latin typeface="HGPｺﾞｼｯｸE"/>
                          <a:ea typeface="HGPｺﾞｼｯｸE"/>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r>
                        <a:rPr b="0" lang="en-US" sz="2000" spc="-1" strike="noStrike">
                          <a:solidFill>
                            <a:srgbClr val="000000"/>
                          </a:solidFill>
                          <a:latin typeface="HGPｺﾞｼｯｸE"/>
                          <a:ea typeface="HGPｺﾞｼｯｸE"/>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3"/>
          </p:nvPr>
        </p:nvSpPr>
        <p:spPr/>
        <p:txBody>
          <a:bodyPr/>
          <a:p>
            <a:fld id="{47010B00-1863-4811-8ED0-BA0D842708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3AD2-B549-43EC-B826-CCA8AE02641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6" name="PlaceHolder 1"/>
          <p:cNvSpPr>
            <a:spLocks noGrp="1"/>
          </p:cNvSpPr>
          <p:nvPr>
            <p:ph/>
          </p:nvPr>
        </p:nvSpPr>
        <p:spPr>
          <a:xfrm>
            <a:off x="323640" y="907920"/>
            <a:ext cx="8507160" cy="53294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座標付与によるメリット</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付与された座標値から、その値に基づく正確なＧＩＳデータを比較的容易に作成することが可能となります。</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正確な</a:t>
            </a:r>
            <a:r>
              <a:rPr b="0" lang="en-US" sz="2400" spc="-1" strike="noStrike">
                <a:solidFill>
                  <a:srgbClr val="000000"/>
                </a:solidFill>
                <a:latin typeface="ＭＳ Ｐゴシック"/>
                <a:ea typeface="MS UI Gothic"/>
              </a:rPr>
              <a:t>GIS</a:t>
            </a:r>
            <a:r>
              <a:rPr b="0" lang="ja-JP" sz="2400" spc="-1" strike="noStrike">
                <a:solidFill>
                  <a:srgbClr val="000000"/>
                </a:solidFill>
                <a:latin typeface="ＭＳ Ｐゴシック"/>
                <a:ea typeface="MS UI Gothic"/>
              </a:rPr>
              <a:t>データがあれば、来年度、県により予定されている津波シミュレーションに使用されることにより、市町にもフィードバックされます。</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県の災害情報収集システム等とも連携（データ提供）ができる可能性があります。</a:t>
            </a:r>
            <a:endParaRPr b="0" lang="en-US" sz="2400" spc="-1" strike="noStrike">
              <a:solidFill>
                <a:srgbClr val="000000"/>
              </a:solidFill>
              <a:latin typeface="ＭＳ Ｐゴシック"/>
            </a:endParaRPr>
          </a:p>
        </p:txBody>
      </p:sp>
      <p:sp>
        <p:nvSpPr>
          <p:cNvPr id="127"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grpSp>
        <p:nvGrpSpPr>
          <p:cNvPr id="128" name=""/>
          <p:cNvGrpSpPr/>
          <p:nvPr/>
        </p:nvGrpSpPr>
        <p:grpSpPr>
          <a:xfrm>
            <a:off x="1662120" y="2370240"/>
            <a:ext cx="5562720" cy="930240"/>
            <a:chOff x="1662120" y="2370240"/>
            <a:chExt cx="5562720" cy="930240"/>
          </a:xfrm>
        </p:grpSpPr>
        <p:sp>
          <p:nvSpPr>
            <p:cNvPr id="129" name="AutoShape 14"/>
            <p:cNvSpPr/>
            <p:nvPr/>
          </p:nvSpPr>
          <p:spPr>
            <a:xfrm flipH="1" flipV="1" rot="5400000">
              <a:off x="3930840" y="2135160"/>
              <a:ext cx="287280" cy="1512720"/>
            </a:xfrm>
            <a:prstGeom prst="downArrow">
              <a:avLst>
                <a:gd name="adj1" fmla="val 50000"/>
                <a:gd name="adj2" fmla="val 131642"/>
              </a:avLst>
            </a:prstGeom>
            <a:solidFill>
              <a:srgbClr val="ffe5f2"/>
            </a:solidFill>
            <a:ln w="0">
              <a:noFill/>
            </a:ln>
            <a:effectLst>
              <a:outerShdw dist="17819" dir="2700000" blurRad="0" rotWithShape="0">
                <a:srgbClr val="998991"/>
              </a:outerShdw>
            </a:effectLst>
          </p:spPr>
          <p:style>
            <a:lnRef idx="0"/>
            <a:fillRef idx="0"/>
            <a:effectRef idx="0"/>
            <a:fontRef idx="minor"/>
          </p:style>
          <p:txBody>
            <a:bodyPr wrap="none" lIns="18000" rIns="18000" tIns="18000" bIns="180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
            <p:cNvGrpSpPr/>
            <p:nvPr/>
          </p:nvGrpSpPr>
          <p:grpSpPr>
            <a:xfrm>
              <a:off x="4973760" y="2459160"/>
              <a:ext cx="2251080" cy="841320"/>
              <a:chOff x="4973760" y="2459160"/>
              <a:chExt cx="2251080" cy="841320"/>
            </a:xfrm>
          </p:grpSpPr>
          <p:grpSp>
            <p:nvGrpSpPr>
              <p:cNvPr id="131" name="Group 28"/>
              <p:cNvGrpSpPr/>
              <p:nvPr/>
            </p:nvGrpSpPr>
            <p:grpSpPr>
              <a:xfrm>
                <a:off x="4992840" y="2746440"/>
                <a:ext cx="2232000" cy="554040"/>
                <a:chOff x="4992840" y="2746440"/>
                <a:chExt cx="2232000" cy="554040"/>
              </a:xfrm>
            </p:grpSpPr>
            <p:sp>
              <p:nvSpPr>
                <p:cNvPr id="132" name="AutoShape 29"/>
                <p:cNvSpPr/>
                <p:nvPr/>
              </p:nvSpPr>
              <p:spPr>
                <a:xfrm>
                  <a:off x="4992840" y="2746440"/>
                  <a:ext cx="2232000" cy="55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0"/>
                <p:cNvSpPr/>
                <p:nvPr/>
              </p:nvSpPr>
              <p:spPr>
                <a:xfrm>
                  <a:off x="5002560" y="275652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1"/>
                <p:cNvSpPr/>
                <p:nvPr/>
              </p:nvSpPr>
              <p:spPr>
                <a:xfrm>
                  <a:off x="5002560" y="275652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close/>
                    </a:path>
                  </a:pathLst>
                </a:custGeom>
                <a:no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2"/>
                <p:cNvSpPr/>
                <p:nvPr/>
              </p:nvSpPr>
              <p:spPr>
                <a:xfrm>
                  <a:off x="5407200" y="3065400"/>
                  <a:ext cx="170280" cy="61200"/>
                </a:xfrm>
                <a:custGeom>
                  <a:avLst/>
                  <a:gdLst>
                    <a:gd name="textAreaLeft" fmla="*/ 0 w 170280"/>
                    <a:gd name="textAreaRight" fmla="*/ 170640 w 170280"/>
                    <a:gd name="textAreaTop" fmla="*/ 0 h 61200"/>
                    <a:gd name="textAreaBottom" fmla="*/ 61560 h 61200"/>
                  </a:gdLst>
                  <a:ahLst/>
                  <a:rect l="textAreaLeft" t="textAreaTop" r="textAreaRight" b="textAreaBottom"/>
                  <a:pathLst>
                    <a:path w="419" h="158">
                      <a:moveTo>
                        <a:pt x="0" y="10"/>
                      </a:moveTo>
                      <a:lnTo>
                        <a:pt x="49" y="158"/>
                      </a:lnTo>
                      <a:lnTo>
                        <a:pt x="389" y="124"/>
                      </a:lnTo>
                      <a:lnTo>
                        <a:pt x="419" y="0"/>
                      </a:lnTo>
                      <a:lnTo>
                        <a:pt x="268" y="1"/>
                      </a:lnTo>
                      <a:lnTo>
                        <a:pt x="110" y="4"/>
                      </a:lnTo>
                      <a:lnTo>
                        <a:pt x="0" y="10"/>
                      </a:lnTo>
                      <a:close/>
                    </a:path>
                  </a:pathLst>
                </a:custGeom>
                <a:solidFill>
                  <a:srgbClr val="ffcc99"/>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6" name="Freeform 33"/>
                <p:cNvSpPr/>
                <p:nvPr/>
              </p:nvSpPr>
              <p:spPr>
                <a:xfrm>
                  <a:off x="6255720" y="2756520"/>
                  <a:ext cx="405720" cy="533160"/>
                </a:xfrm>
                <a:custGeom>
                  <a:avLst/>
                  <a:gdLst>
                    <a:gd name="textAreaLeft" fmla="*/ 0 w 405720"/>
                    <a:gd name="textAreaRight" fmla="*/ 406080 w 405720"/>
                    <a:gd name="textAreaTop" fmla="*/ 0 h 533160"/>
                    <a:gd name="textAreaBottom" fmla="*/ 533160 h 533160"/>
                  </a:gdLst>
                  <a:ahLst/>
                  <a:rect l="textAreaLeft" t="textAreaTop" r="textAreaRight" b="textAreaBottom"/>
                  <a:pathLst>
                    <a:path w="998" h="1360">
                      <a:moveTo>
                        <a:pt x="862" y="0"/>
                      </a:moveTo>
                      <a:lnTo>
                        <a:pt x="431" y="419"/>
                      </a:lnTo>
                      <a:lnTo>
                        <a:pt x="182" y="816"/>
                      </a:lnTo>
                      <a:lnTo>
                        <a:pt x="0" y="1360"/>
                      </a:lnTo>
                      <a:lnTo>
                        <a:pt x="272" y="1360"/>
                      </a:lnTo>
                      <a:lnTo>
                        <a:pt x="363" y="816"/>
                      </a:lnTo>
                      <a:lnTo>
                        <a:pt x="609" y="405"/>
                      </a:lnTo>
                      <a:lnTo>
                        <a:pt x="998" y="0"/>
                      </a:lnTo>
                      <a:lnTo>
                        <a:pt x="86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4"/>
                <p:cNvSpPr/>
                <p:nvPr/>
              </p:nvSpPr>
              <p:spPr>
                <a:xfrm>
                  <a:off x="6255720" y="2756520"/>
                  <a:ext cx="405720" cy="533160"/>
                </a:xfrm>
                <a:custGeom>
                  <a:avLst/>
                  <a:gdLst>
                    <a:gd name="textAreaLeft" fmla="*/ 0 w 405720"/>
                    <a:gd name="textAreaRight" fmla="*/ 406080 w 405720"/>
                    <a:gd name="textAreaTop" fmla="*/ 0 h 533160"/>
                    <a:gd name="textAreaBottom" fmla="*/ 533160 h 533160"/>
                  </a:gdLst>
                  <a:ahLst/>
                  <a:rect l="textAreaLeft" t="textAreaTop" r="textAreaRight" b="textAreaBottom"/>
                  <a:pathLst>
                    <a:path w="998" h="1360">
                      <a:moveTo>
                        <a:pt x="862" y="0"/>
                      </a:moveTo>
                      <a:lnTo>
                        <a:pt x="431" y="419"/>
                      </a:lnTo>
                      <a:lnTo>
                        <a:pt x="182" y="816"/>
                      </a:lnTo>
                      <a:lnTo>
                        <a:pt x="0" y="1360"/>
                      </a:lnTo>
                      <a:lnTo>
                        <a:pt x="272" y="1360"/>
                      </a:lnTo>
                      <a:lnTo>
                        <a:pt x="363" y="816"/>
                      </a:lnTo>
                      <a:lnTo>
                        <a:pt x="609" y="405"/>
                      </a:lnTo>
                      <a:lnTo>
                        <a:pt x="998" y="0"/>
                      </a:lnTo>
                      <a:lnTo>
                        <a:pt x="862" y="0"/>
                      </a:lnTo>
                      <a:close/>
                    </a:path>
                  </a:pathLst>
                </a:custGeom>
                <a:noFill/>
                <a:ln w="324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5"/>
                <p:cNvSpPr/>
                <p:nvPr/>
              </p:nvSpPr>
              <p:spPr>
                <a:xfrm>
                  <a:off x="5628960" y="2756520"/>
                  <a:ext cx="903960" cy="533160"/>
                </a:xfrm>
                <a:custGeom>
                  <a:avLst/>
                  <a:gdLst>
                    <a:gd name="textAreaLeft" fmla="*/ 0 w 903960"/>
                    <a:gd name="textAreaRight" fmla="*/ 904320 w 903960"/>
                    <a:gd name="textAreaTop" fmla="*/ 0 h 533160"/>
                    <a:gd name="textAreaBottom" fmla="*/ 533160 h 533160"/>
                  </a:gdLst>
                  <a:ahLst/>
                  <a:rect l="textAreaLeft" t="textAreaTop" r="textAreaRight" b="textAreaBottom"/>
                  <a:pathLst>
                    <a:path w="2222" h="1360">
                      <a:moveTo>
                        <a:pt x="2086" y="0"/>
                      </a:moveTo>
                      <a:lnTo>
                        <a:pt x="1633" y="453"/>
                      </a:lnTo>
                      <a:lnTo>
                        <a:pt x="1179" y="725"/>
                      </a:lnTo>
                      <a:lnTo>
                        <a:pt x="545" y="997"/>
                      </a:lnTo>
                      <a:lnTo>
                        <a:pt x="0" y="1360"/>
                      </a:lnTo>
                      <a:lnTo>
                        <a:pt x="182" y="1360"/>
                      </a:lnTo>
                      <a:lnTo>
                        <a:pt x="726" y="997"/>
                      </a:lnTo>
                      <a:lnTo>
                        <a:pt x="1361" y="725"/>
                      </a:lnTo>
                      <a:lnTo>
                        <a:pt x="1814" y="453"/>
                      </a:lnTo>
                      <a:lnTo>
                        <a:pt x="2222" y="0"/>
                      </a:lnTo>
                      <a:lnTo>
                        <a:pt x="208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6"/>
                <p:cNvSpPr/>
                <p:nvPr/>
              </p:nvSpPr>
              <p:spPr>
                <a:xfrm>
                  <a:off x="5628960" y="2756520"/>
                  <a:ext cx="903960" cy="533160"/>
                </a:xfrm>
                <a:custGeom>
                  <a:avLst/>
                  <a:gdLst>
                    <a:gd name="textAreaLeft" fmla="*/ 0 w 903960"/>
                    <a:gd name="textAreaRight" fmla="*/ 904320 w 903960"/>
                    <a:gd name="textAreaTop" fmla="*/ 0 h 533160"/>
                    <a:gd name="textAreaBottom" fmla="*/ 533160 h 533160"/>
                  </a:gdLst>
                  <a:ahLst/>
                  <a:rect l="textAreaLeft" t="textAreaTop" r="textAreaRight" b="textAreaBottom"/>
                  <a:pathLst>
                    <a:path w="2222" h="1360">
                      <a:moveTo>
                        <a:pt x="2086" y="0"/>
                      </a:moveTo>
                      <a:lnTo>
                        <a:pt x="1633" y="453"/>
                      </a:lnTo>
                      <a:lnTo>
                        <a:pt x="1179" y="725"/>
                      </a:lnTo>
                      <a:lnTo>
                        <a:pt x="545" y="997"/>
                      </a:lnTo>
                      <a:lnTo>
                        <a:pt x="0" y="1360"/>
                      </a:lnTo>
                      <a:lnTo>
                        <a:pt x="182" y="1360"/>
                      </a:lnTo>
                      <a:lnTo>
                        <a:pt x="726" y="997"/>
                      </a:lnTo>
                      <a:lnTo>
                        <a:pt x="1361" y="725"/>
                      </a:lnTo>
                      <a:lnTo>
                        <a:pt x="1814" y="453"/>
                      </a:lnTo>
                      <a:lnTo>
                        <a:pt x="2222" y="0"/>
                      </a:lnTo>
                      <a:lnTo>
                        <a:pt x="2086" y="0"/>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7"/>
                <p:cNvSpPr/>
                <p:nvPr/>
              </p:nvSpPr>
              <p:spPr>
                <a:xfrm>
                  <a:off x="5298840" y="2899080"/>
                  <a:ext cx="1029960" cy="106200"/>
                </a:xfrm>
                <a:custGeom>
                  <a:avLst/>
                  <a:gdLst>
                    <a:gd name="textAreaLeft" fmla="*/ 0 w 1029960"/>
                    <a:gd name="textAreaRight" fmla="*/ 1030320 w 1029960"/>
                    <a:gd name="textAreaTop" fmla="*/ 0 h 106200"/>
                    <a:gd name="textAreaBottom" fmla="*/ 106560 h 106200"/>
                  </a:gdLst>
                  <a:ahLst/>
                  <a:rect l="textAreaLeft" t="textAreaTop" r="textAreaRight" b="textAreaBottom"/>
                  <a:pathLst>
                    <a:path w="2536" h="272">
                      <a:moveTo>
                        <a:pt x="2536" y="0"/>
                      </a:moveTo>
                      <a:lnTo>
                        <a:pt x="1175" y="181"/>
                      </a:lnTo>
                      <a:lnTo>
                        <a:pt x="87" y="181"/>
                      </a:lnTo>
                      <a:lnTo>
                        <a:pt x="0" y="267"/>
                      </a:lnTo>
                      <a:lnTo>
                        <a:pt x="1175" y="272"/>
                      </a:lnTo>
                      <a:lnTo>
                        <a:pt x="2464" y="71"/>
                      </a:lnTo>
                      <a:lnTo>
                        <a:pt x="253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8"/>
                <p:cNvSpPr/>
                <p:nvPr/>
              </p:nvSpPr>
              <p:spPr>
                <a:xfrm>
                  <a:off x="5298840" y="2899080"/>
                  <a:ext cx="1029960" cy="106200"/>
                </a:xfrm>
                <a:custGeom>
                  <a:avLst/>
                  <a:gdLst>
                    <a:gd name="textAreaLeft" fmla="*/ 0 w 1029960"/>
                    <a:gd name="textAreaRight" fmla="*/ 1030320 w 1029960"/>
                    <a:gd name="textAreaTop" fmla="*/ 0 h 106200"/>
                    <a:gd name="textAreaBottom" fmla="*/ 106560 h 106200"/>
                  </a:gdLst>
                  <a:ahLst/>
                  <a:rect l="textAreaLeft" t="textAreaTop" r="textAreaRight" b="textAreaBottom"/>
                  <a:pathLst>
                    <a:path w="2536" h="272">
                      <a:moveTo>
                        <a:pt x="2536" y="0"/>
                      </a:moveTo>
                      <a:lnTo>
                        <a:pt x="1175" y="181"/>
                      </a:lnTo>
                      <a:lnTo>
                        <a:pt x="87" y="181"/>
                      </a:lnTo>
                      <a:lnTo>
                        <a:pt x="0" y="267"/>
                      </a:lnTo>
                      <a:lnTo>
                        <a:pt x="1175" y="272"/>
                      </a:lnTo>
                      <a:lnTo>
                        <a:pt x="2464" y="71"/>
                      </a:lnTo>
                      <a:lnTo>
                        <a:pt x="2536" y="0"/>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39"/>
                <p:cNvSpPr/>
                <p:nvPr/>
              </p:nvSpPr>
              <p:spPr>
                <a:xfrm>
                  <a:off x="6374880" y="2756520"/>
                  <a:ext cx="655560" cy="168840"/>
                </a:xfrm>
                <a:custGeom>
                  <a:avLst/>
                  <a:gdLst>
                    <a:gd name="textAreaLeft" fmla="*/ 0 w 655560"/>
                    <a:gd name="textAreaRight" fmla="*/ 655920 w 655560"/>
                    <a:gd name="textAreaTop" fmla="*/ 0 h 168840"/>
                    <a:gd name="textAreaBottom" fmla="*/ 169200 h 168840"/>
                  </a:gdLst>
                  <a:ahLst/>
                  <a:rect l="textAreaLeft" t="textAreaTop" r="textAreaRight" b="textAreaBottom"/>
                  <a:pathLst>
                    <a:path w="1611" h="429">
                      <a:moveTo>
                        <a:pt x="59" y="364"/>
                      </a:moveTo>
                      <a:lnTo>
                        <a:pt x="885" y="272"/>
                      </a:lnTo>
                      <a:lnTo>
                        <a:pt x="1520" y="0"/>
                      </a:lnTo>
                      <a:lnTo>
                        <a:pt x="1611" y="0"/>
                      </a:lnTo>
                      <a:lnTo>
                        <a:pt x="885" y="363"/>
                      </a:lnTo>
                      <a:lnTo>
                        <a:pt x="0" y="429"/>
                      </a:lnTo>
                      <a:lnTo>
                        <a:pt x="59" y="36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0"/>
                <p:cNvSpPr/>
                <p:nvPr/>
              </p:nvSpPr>
              <p:spPr>
                <a:xfrm>
                  <a:off x="6374880" y="2756520"/>
                  <a:ext cx="655560" cy="168840"/>
                </a:xfrm>
                <a:custGeom>
                  <a:avLst/>
                  <a:gdLst>
                    <a:gd name="textAreaLeft" fmla="*/ 0 w 655560"/>
                    <a:gd name="textAreaRight" fmla="*/ 655920 w 655560"/>
                    <a:gd name="textAreaTop" fmla="*/ 0 h 168840"/>
                    <a:gd name="textAreaBottom" fmla="*/ 169200 h 168840"/>
                  </a:gdLst>
                  <a:ahLst/>
                  <a:rect l="textAreaLeft" t="textAreaTop" r="textAreaRight" b="textAreaBottom"/>
                  <a:pathLst>
                    <a:path w="1611" h="429">
                      <a:moveTo>
                        <a:pt x="59" y="364"/>
                      </a:moveTo>
                      <a:lnTo>
                        <a:pt x="885" y="272"/>
                      </a:lnTo>
                      <a:lnTo>
                        <a:pt x="1520" y="0"/>
                      </a:lnTo>
                      <a:lnTo>
                        <a:pt x="1611" y="0"/>
                      </a:lnTo>
                      <a:lnTo>
                        <a:pt x="885" y="363"/>
                      </a:lnTo>
                      <a:lnTo>
                        <a:pt x="0" y="429"/>
                      </a:lnTo>
                      <a:lnTo>
                        <a:pt x="59" y="364"/>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1"/>
                <p:cNvSpPr/>
                <p:nvPr/>
              </p:nvSpPr>
              <p:spPr>
                <a:xfrm>
                  <a:off x="5150160" y="3115440"/>
                  <a:ext cx="792000" cy="32040"/>
                </a:xfrm>
                <a:custGeom>
                  <a:avLst/>
                  <a:gdLst>
                    <a:gd name="textAreaLeft" fmla="*/ 0 w 792000"/>
                    <a:gd name="textAreaRight" fmla="*/ 792360 w 792000"/>
                    <a:gd name="textAreaTop" fmla="*/ 0 h 32040"/>
                    <a:gd name="textAreaBottom" fmla="*/ 32400 h 32040"/>
                  </a:gdLst>
                  <a:ahLst/>
                  <a:rect l="textAreaLeft" t="textAreaTop" r="textAreaRight" b="textAreaBottom"/>
                  <a:pathLst>
                    <a:path w="1949" h="81">
                      <a:moveTo>
                        <a:pt x="1949" y="0"/>
                      </a:moveTo>
                      <a:lnTo>
                        <a:pt x="1110" y="0"/>
                      </a:lnTo>
                      <a:lnTo>
                        <a:pt x="0" y="81"/>
                      </a:lnTo>
                    </a:path>
                  </a:pathLst>
                </a:custGeom>
                <a:noFill/>
                <a:ln w="28440">
                  <a:solidFill>
                    <a:srgbClr val="c0c0c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5" name="Line 42"/>
                <p:cNvSpPr/>
                <p:nvPr/>
              </p:nvSpPr>
              <p:spPr>
                <a:xfrm flipH="1">
                  <a:off x="5628960" y="3005640"/>
                  <a:ext cx="138240" cy="10980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3"/>
                <p:cNvSpPr/>
                <p:nvPr/>
              </p:nvSpPr>
              <p:spPr>
                <a:xfrm flipH="1">
                  <a:off x="5407920" y="3122280"/>
                  <a:ext cx="87480" cy="16740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4"/>
                <p:cNvSpPr/>
                <p:nvPr/>
              </p:nvSpPr>
              <p:spPr>
                <a:xfrm>
                  <a:off x="5452560" y="3204360"/>
                  <a:ext cx="307080" cy="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45"/>
                <p:cNvSpPr/>
                <p:nvPr/>
              </p:nvSpPr>
              <p:spPr>
                <a:xfrm>
                  <a:off x="5591880" y="2781000"/>
                  <a:ext cx="860400" cy="197640"/>
                </a:xfrm>
                <a:custGeom>
                  <a:avLst/>
                  <a:gdLst>
                    <a:gd name="textAreaLeft" fmla="*/ 0 w 860400"/>
                    <a:gd name="textAreaRight" fmla="*/ 860760 w 860400"/>
                    <a:gd name="textAreaTop" fmla="*/ 0 h 197640"/>
                    <a:gd name="textAreaBottom" fmla="*/ 198000 h 197640"/>
                  </a:gdLst>
                  <a:ahLst/>
                  <a:rect l="textAreaLeft" t="textAreaTop" r="textAreaRight" b="textAreaBottom"/>
                  <a:pathLst>
                    <a:path w="2116" h="505">
                      <a:moveTo>
                        <a:pt x="0" y="505"/>
                      </a:moveTo>
                      <a:lnTo>
                        <a:pt x="663" y="221"/>
                      </a:lnTo>
                      <a:lnTo>
                        <a:pt x="1326" y="32"/>
                      </a:lnTo>
                      <a:lnTo>
                        <a:pt x="2116" y="0"/>
                      </a:lnTo>
                    </a:path>
                  </a:pathLst>
                </a:custGeom>
                <a:noFill/>
                <a:ln w="2844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6"/>
                <p:cNvSpPr/>
                <p:nvPr/>
              </p:nvSpPr>
              <p:spPr>
                <a:xfrm flipH="1">
                  <a:off x="6096960" y="2792520"/>
                  <a:ext cx="4212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7"/>
                <p:cNvSpPr/>
                <p:nvPr/>
              </p:nvSpPr>
              <p:spPr>
                <a:xfrm flipH="1" flipV="1">
                  <a:off x="5477760" y="2831400"/>
                  <a:ext cx="329760" cy="57960"/>
                </a:xfrm>
                <a:prstGeom prst="line">
                  <a:avLst/>
                </a:prstGeom>
                <a:ln w="9360">
                  <a:solidFill>
                    <a:srgbClr val="c0c0c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1" name="Freeform 48"/>
                <p:cNvSpPr/>
                <p:nvPr/>
              </p:nvSpPr>
              <p:spPr>
                <a:xfrm>
                  <a:off x="5942520" y="3129120"/>
                  <a:ext cx="807840" cy="74160"/>
                </a:xfrm>
                <a:custGeom>
                  <a:avLst/>
                  <a:gdLst>
                    <a:gd name="textAreaLeft" fmla="*/ 0 w 807840"/>
                    <a:gd name="textAreaRight" fmla="*/ 808200 w 807840"/>
                    <a:gd name="textAreaTop" fmla="*/ 0 h 74160"/>
                    <a:gd name="textAreaBottom" fmla="*/ 74520 h 74160"/>
                  </a:gdLst>
                  <a:ahLst/>
                  <a:rect l="textAreaLeft" t="textAreaTop" r="textAreaRight" b="textAreaBottom"/>
                  <a:pathLst>
                    <a:path w="1988" h="190">
                      <a:moveTo>
                        <a:pt x="0" y="0"/>
                      </a:moveTo>
                      <a:lnTo>
                        <a:pt x="1200" y="0"/>
                      </a:lnTo>
                      <a:lnTo>
                        <a:pt x="1988" y="190"/>
                      </a:lnTo>
                    </a:path>
                  </a:pathLst>
                </a:custGeom>
                <a:noFill/>
                <a:ln w="28440">
                  <a:solidFill>
                    <a:srgbClr val="c0c0c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Line 49"/>
                <p:cNvSpPr/>
                <p:nvPr/>
              </p:nvSpPr>
              <p:spPr>
                <a:xfrm flipH="1">
                  <a:off x="6071760" y="3129120"/>
                  <a:ext cx="183240" cy="16056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0"/>
                <p:cNvSpPr/>
                <p:nvPr/>
              </p:nvSpPr>
              <p:spPr>
                <a:xfrm>
                  <a:off x="5824800" y="3161520"/>
                  <a:ext cx="746640" cy="48240"/>
                </a:xfrm>
                <a:custGeom>
                  <a:avLst/>
                  <a:gdLst>
                    <a:gd name="textAreaLeft" fmla="*/ 0 w 746640"/>
                    <a:gd name="textAreaRight" fmla="*/ 747000 w 746640"/>
                    <a:gd name="textAreaTop" fmla="*/ 0 h 48240"/>
                    <a:gd name="textAreaBottom" fmla="*/ 48600 h 48240"/>
                  </a:gdLst>
                  <a:ahLst/>
                  <a:rect l="textAreaLeft" t="textAreaTop" r="textAreaRight" b="textAreaBottom"/>
                  <a:pathLst>
                    <a:path w="1836" h="128">
                      <a:moveTo>
                        <a:pt x="0" y="128"/>
                      </a:moveTo>
                      <a:lnTo>
                        <a:pt x="1332" y="128"/>
                      </a:lnTo>
                      <a:lnTo>
                        <a:pt x="1836" y="0"/>
                      </a:lnTo>
                    </a:path>
                  </a:pathLst>
                </a:custGeom>
                <a:noFill/>
                <a:ln w="15840">
                  <a:solidFill>
                    <a:srgbClr val="c0c0c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4" name="Line 51"/>
                <p:cNvSpPr/>
                <p:nvPr/>
              </p:nvSpPr>
              <p:spPr>
                <a:xfrm>
                  <a:off x="6540120" y="2912760"/>
                  <a:ext cx="26280" cy="24624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52"/>
                <p:cNvSpPr/>
                <p:nvPr/>
              </p:nvSpPr>
              <p:spPr>
                <a:xfrm>
                  <a:off x="6698880" y="2756520"/>
                  <a:ext cx="80280" cy="88920"/>
                </a:xfrm>
                <a:prstGeom prst="line">
                  <a:avLst/>
                </a:prstGeom>
                <a:ln w="15840">
                  <a:solidFill>
                    <a:srgbClr val="c0c0c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6" name="Line 53"/>
                <p:cNvSpPr/>
                <p:nvPr/>
              </p:nvSpPr>
              <p:spPr>
                <a:xfrm>
                  <a:off x="6797160" y="2868840"/>
                  <a:ext cx="142920" cy="15264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4"/>
                <p:cNvSpPr/>
                <p:nvPr/>
              </p:nvSpPr>
              <p:spPr>
                <a:xfrm>
                  <a:off x="5194440" y="3078000"/>
                  <a:ext cx="1589760" cy="99360"/>
                </a:xfrm>
                <a:custGeom>
                  <a:avLst/>
                  <a:gdLst>
                    <a:gd name="textAreaLeft" fmla="*/ 0 w 1589760"/>
                    <a:gd name="textAreaRight" fmla="*/ 1590120 w 1589760"/>
                    <a:gd name="textAreaTop" fmla="*/ 0 h 99360"/>
                    <a:gd name="textAreaBottom" fmla="*/ 99720 h 99360"/>
                  </a:gdLst>
                  <a:ahLst/>
                  <a:rect l="textAreaLeft" t="textAreaTop" r="textAreaRight" b="textAreaBottom"/>
                  <a:pathLst>
                    <a:path w="3910" h="255">
                      <a:moveTo>
                        <a:pt x="0" y="55"/>
                      </a:moveTo>
                      <a:lnTo>
                        <a:pt x="85" y="43"/>
                      </a:lnTo>
                      <a:lnTo>
                        <a:pt x="153" y="36"/>
                      </a:lnTo>
                      <a:lnTo>
                        <a:pt x="155" y="60"/>
                      </a:lnTo>
                      <a:lnTo>
                        <a:pt x="88" y="67"/>
                      </a:lnTo>
                      <a:lnTo>
                        <a:pt x="3" y="79"/>
                      </a:lnTo>
                      <a:lnTo>
                        <a:pt x="0" y="55"/>
                      </a:lnTo>
                      <a:close/>
                      <a:moveTo>
                        <a:pt x="229" y="27"/>
                      </a:moveTo>
                      <a:lnTo>
                        <a:pt x="249" y="26"/>
                      </a:lnTo>
                      <a:lnTo>
                        <a:pt x="251" y="50"/>
                      </a:lnTo>
                      <a:lnTo>
                        <a:pt x="232" y="51"/>
                      </a:lnTo>
                      <a:lnTo>
                        <a:pt x="229" y="27"/>
                      </a:lnTo>
                      <a:close/>
                      <a:moveTo>
                        <a:pt x="326" y="19"/>
                      </a:moveTo>
                      <a:lnTo>
                        <a:pt x="346" y="17"/>
                      </a:lnTo>
                      <a:lnTo>
                        <a:pt x="435" y="12"/>
                      </a:lnTo>
                      <a:lnTo>
                        <a:pt x="479" y="10"/>
                      </a:lnTo>
                      <a:lnTo>
                        <a:pt x="480" y="33"/>
                      </a:lnTo>
                      <a:lnTo>
                        <a:pt x="435" y="36"/>
                      </a:lnTo>
                      <a:lnTo>
                        <a:pt x="436" y="36"/>
                      </a:lnTo>
                      <a:lnTo>
                        <a:pt x="347" y="41"/>
                      </a:lnTo>
                      <a:lnTo>
                        <a:pt x="327" y="43"/>
                      </a:lnTo>
                      <a:lnTo>
                        <a:pt x="326" y="19"/>
                      </a:lnTo>
                      <a:close/>
                      <a:moveTo>
                        <a:pt x="556" y="6"/>
                      </a:moveTo>
                      <a:lnTo>
                        <a:pt x="575" y="6"/>
                      </a:lnTo>
                      <a:lnTo>
                        <a:pt x="576" y="30"/>
                      </a:lnTo>
                      <a:lnTo>
                        <a:pt x="557" y="30"/>
                      </a:lnTo>
                      <a:lnTo>
                        <a:pt x="556" y="6"/>
                      </a:lnTo>
                      <a:close/>
                      <a:moveTo>
                        <a:pt x="652" y="3"/>
                      </a:moveTo>
                      <a:lnTo>
                        <a:pt x="700" y="2"/>
                      </a:lnTo>
                      <a:lnTo>
                        <a:pt x="805" y="2"/>
                      </a:lnTo>
                      <a:lnTo>
                        <a:pt x="806" y="26"/>
                      </a:lnTo>
                      <a:lnTo>
                        <a:pt x="701" y="26"/>
                      </a:lnTo>
                      <a:lnTo>
                        <a:pt x="652" y="27"/>
                      </a:lnTo>
                      <a:lnTo>
                        <a:pt x="652" y="3"/>
                      </a:lnTo>
                      <a:close/>
                      <a:moveTo>
                        <a:pt x="882" y="0"/>
                      </a:moveTo>
                      <a:lnTo>
                        <a:pt x="902" y="0"/>
                      </a:lnTo>
                      <a:lnTo>
                        <a:pt x="902" y="24"/>
                      </a:lnTo>
                      <a:lnTo>
                        <a:pt x="882" y="24"/>
                      </a:lnTo>
                      <a:lnTo>
                        <a:pt x="882" y="0"/>
                      </a:lnTo>
                      <a:close/>
                      <a:moveTo>
                        <a:pt x="979" y="0"/>
                      </a:moveTo>
                      <a:lnTo>
                        <a:pt x="1057" y="2"/>
                      </a:lnTo>
                      <a:lnTo>
                        <a:pt x="1132" y="2"/>
                      </a:lnTo>
                      <a:lnTo>
                        <a:pt x="1132" y="26"/>
                      </a:lnTo>
                      <a:lnTo>
                        <a:pt x="1057" y="26"/>
                      </a:lnTo>
                      <a:lnTo>
                        <a:pt x="979" y="24"/>
                      </a:lnTo>
                      <a:lnTo>
                        <a:pt x="979" y="0"/>
                      </a:lnTo>
                      <a:close/>
                      <a:moveTo>
                        <a:pt x="1209" y="3"/>
                      </a:moveTo>
                      <a:lnTo>
                        <a:pt x="1228" y="3"/>
                      </a:lnTo>
                      <a:lnTo>
                        <a:pt x="1228" y="27"/>
                      </a:lnTo>
                      <a:lnTo>
                        <a:pt x="1209" y="27"/>
                      </a:lnTo>
                      <a:lnTo>
                        <a:pt x="1209" y="3"/>
                      </a:lnTo>
                      <a:close/>
                      <a:moveTo>
                        <a:pt x="1305" y="4"/>
                      </a:moveTo>
                      <a:lnTo>
                        <a:pt x="1411" y="6"/>
                      </a:lnTo>
                      <a:lnTo>
                        <a:pt x="1458" y="7"/>
                      </a:lnTo>
                      <a:lnTo>
                        <a:pt x="1458" y="31"/>
                      </a:lnTo>
                      <a:lnTo>
                        <a:pt x="1411" y="30"/>
                      </a:lnTo>
                      <a:lnTo>
                        <a:pt x="1305" y="29"/>
                      </a:lnTo>
                      <a:lnTo>
                        <a:pt x="1305" y="4"/>
                      </a:lnTo>
                      <a:close/>
                      <a:moveTo>
                        <a:pt x="1535" y="7"/>
                      </a:moveTo>
                      <a:lnTo>
                        <a:pt x="1547" y="7"/>
                      </a:lnTo>
                      <a:lnTo>
                        <a:pt x="1555" y="7"/>
                      </a:lnTo>
                      <a:lnTo>
                        <a:pt x="1555" y="31"/>
                      </a:lnTo>
                      <a:lnTo>
                        <a:pt x="1547" y="31"/>
                      </a:lnTo>
                      <a:lnTo>
                        <a:pt x="1535" y="31"/>
                      </a:lnTo>
                      <a:lnTo>
                        <a:pt x="1535" y="7"/>
                      </a:lnTo>
                      <a:close/>
                      <a:moveTo>
                        <a:pt x="1632" y="9"/>
                      </a:moveTo>
                      <a:lnTo>
                        <a:pt x="1683" y="9"/>
                      </a:lnTo>
                      <a:lnTo>
                        <a:pt x="1785" y="10"/>
                      </a:lnTo>
                      <a:lnTo>
                        <a:pt x="1785" y="34"/>
                      </a:lnTo>
                      <a:lnTo>
                        <a:pt x="1683" y="33"/>
                      </a:lnTo>
                      <a:lnTo>
                        <a:pt x="1632" y="33"/>
                      </a:lnTo>
                      <a:lnTo>
                        <a:pt x="1632" y="9"/>
                      </a:lnTo>
                      <a:close/>
                      <a:moveTo>
                        <a:pt x="1862" y="10"/>
                      </a:moveTo>
                      <a:lnTo>
                        <a:pt x="1881" y="10"/>
                      </a:lnTo>
                      <a:lnTo>
                        <a:pt x="1881" y="34"/>
                      </a:lnTo>
                      <a:lnTo>
                        <a:pt x="1862" y="34"/>
                      </a:lnTo>
                      <a:lnTo>
                        <a:pt x="1862" y="10"/>
                      </a:lnTo>
                      <a:close/>
                      <a:moveTo>
                        <a:pt x="1957" y="10"/>
                      </a:moveTo>
                      <a:lnTo>
                        <a:pt x="2088" y="10"/>
                      </a:lnTo>
                      <a:lnTo>
                        <a:pt x="2111" y="10"/>
                      </a:lnTo>
                      <a:lnTo>
                        <a:pt x="2111" y="34"/>
                      </a:lnTo>
                      <a:lnTo>
                        <a:pt x="2088" y="34"/>
                      </a:lnTo>
                      <a:lnTo>
                        <a:pt x="1957" y="34"/>
                      </a:lnTo>
                      <a:lnTo>
                        <a:pt x="1957" y="10"/>
                      </a:lnTo>
                      <a:close/>
                      <a:moveTo>
                        <a:pt x="2188" y="10"/>
                      </a:moveTo>
                      <a:lnTo>
                        <a:pt x="2207" y="10"/>
                      </a:lnTo>
                      <a:lnTo>
                        <a:pt x="2207" y="34"/>
                      </a:lnTo>
                      <a:lnTo>
                        <a:pt x="2188" y="34"/>
                      </a:lnTo>
                      <a:lnTo>
                        <a:pt x="2188" y="10"/>
                      </a:lnTo>
                      <a:close/>
                      <a:moveTo>
                        <a:pt x="2283" y="9"/>
                      </a:moveTo>
                      <a:lnTo>
                        <a:pt x="2294" y="9"/>
                      </a:lnTo>
                      <a:lnTo>
                        <a:pt x="2363" y="9"/>
                      </a:lnTo>
                      <a:lnTo>
                        <a:pt x="2433" y="7"/>
                      </a:lnTo>
                      <a:lnTo>
                        <a:pt x="2438" y="7"/>
                      </a:lnTo>
                      <a:lnTo>
                        <a:pt x="2438" y="31"/>
                      </a:lnTo>
                      <a:lnTo>
                        <a:pt x="2433" y="31"/>
                      </a:lnTo>
                      <a:lnTo>
                        <a:pt x="2364" y="33"/>
                      </a:lnTo>
                      <a:lnTo>
                        <a:pt x="2294" y="33"/>
                      </a:lnTo>
                      <a:lnTo>
                        <a:pt x="2283" y="33"/>
                      </a:lnTo>
                      <a:lnTo>
                        <a:pt x="2283" y="9"/>
                      </a:lnTo>
                      <a:close/>
                      <a:moveTo>
                        <a:pt x="2514" y="6"/>
                      </a:moveTo>
                      <a:lnTo>
                        <a:pt x="2533" y="6"/>
                      </a:lnTo>
                      <a:lnTo>
                        <a:pt x="2534" y="30"/>
                      </a:lnTo>
                      <a:lnTo>
                        <a:pt x="2515" y="30"/>
                      </a:lnTo>
                      <a:lnTo>
                        <a:pt x="2514" y="6"/>
                      </a:lnTo>
                      <a:close/>
                      <a:moveTo>
                        <a:pt x="2610" y="4"/>
                      </a:moveTo>
                      <a:lnTo>
                        <a:pt x="2702" y="3"/>
                      </a:lnTo>
                      <a:lnTo>
                        <a:pt x="2764" y="2"/>
                      </a:lnTo>
                      <a:lnTo>
                        <a:pt x="2764" y="26"/>
                      </a:lnTo>
                      <a:lnTo>
                        <a:pt x="2702" y="27"/>
                      </a:lnTo>
                      <a:lnTo>
                        <a:pt x="2610" y="29"/>
                      </a:lnTo>
                      <a:lnTo>
                        <a:pt x="2610" y="4"/>
                      </a:lnTo>
                      <a:close/>
                      <a:moveTo>
                        <a:pt x="2840" y="2"/>
                      </a:moveTo>
                      <a:lnTo>
                        <a:pt x="2859" y="2"/>
                      </a:lnTo>
                      <a:lnTo>
                        <a:pt x="2859" y="26"/>
                      </a:lnTo>
                      <a:lnTo>
                        <a:pt x="2840" y="26"/>
                      </a:lnTo>
                      <a:lnTo>
                        <a:pt x="2840" y="2"/>
                      </a:lnTo>
                      <a:close/>
                      <a:moveTo>
                        <a:pt x="2936" y="2"/>
                      </a:moveTo>
                      <a:lnTo>
                        <a:pt x="3000" y="3"/>
                      </a:lnTo>
                      <a:lnTo>
                        <a:pt x="3091" y="6"/>
                      </a:lnTo>
                      <a:lnTo>
                        <a:pt x="3089" y="30"/>
                      </a:lnTo>
                      <a:lnTo>
                        <a:pt x="2999" y="27"/>
                      </a:lnTo>
                      <a:lnTo>
                        <a:pt x="2936" y="26"/>
                      </a:lnTo>
                      <a:lnTo>
                        <a:pt x="2936" y="2"/>
                      </a:lnTo>
                      <a:close/>
                      <a:moveTo>
                        <a:pt x="3168" y="10"/>
                      </a:moveTo>
                      <a:lnTo>
                        <a:pt x="3186" y="10"/>
                      </a:lnTo>
                      <a:lnTo>
                        <a:pt x="3186" y="34"/>
                      </a:lnTo>
                      <a:lnTo>
                        <a:pt x="3167" y="34"/>
                      </a:lnTo>
                      <a:lnTo>
                        <a:pt x="3168" y="10"/>
                      </a:lnTo>
                      <a:close/>
                      <a:moveTo>
                        <a:pt x="3263" y="17"/>
                      </a:moveTo>
                      <a:lnTo>
                        <a:pt x="3287" y="19"/>
                      </a:lnTo>
                      <a:lnTo>
                        <a:pt x="3378" y="30"/>
                      </a:lnTo>
                      <a:lnTo>
                        <a:pt x="3417" y="37"/>
                      </a:lnTo>
                      <a:lnTo>
                        <a:pt x="3414" y="61"/>
                      </a:lnTo>
                      <a:lnTo>
                        <a:pt x="3376" y="54"/>
                      </a:lnTo>
                      <a:lnTo>
                        <a:pt x="3286" y="43"/>
                      </a:lnTo>
                      <a:lnTo>
                        <a:pt x="3262" y="41"/>
                      </a:lnTo>
                      <a:lnTo>
                        <a:pt x="3263" y="17"/>
                      </a:lnTo>
                      <a:close/>
                      <a:moveTo>
                        <a:pt x="3493" y="51"/>
                      </a:moveTo>
                      <a:lnTo>
                        <a:pt x="3512" y="55"/>
                      </a:lnTo>
                      <a:lnTo>
                        <a:pt x="3509" y="78"/>
                      </a:lnTo>
                      <a:lnTo>
                        <a:pt x="3490" y="74"/>
                      </a:lnTo>
                      <a:lnTo>
                        <a:pt x="3493" y="51"/>
                      </a:lnTo>
                      <a:close/>
                      <a:moveTo>
                        <a:pt x="3587" y="74"/>
                      </a:moveTo>
                      <a:lnTo>
                        <a:pt x="3634" y="87"/>
                      </a:lnTo>
                      <a:lnTo>
                        <a:pt x="3672" y="101"/>
                      </a:lnTo>
                      <a:lnTo>
                        <a:pt x="3710" y="115"/>
                      </a:lnTo>
                      <a:lnTo>
                        <a:pt x="3736" y="128"/>
                      </a:lnTo>
                      <a:lnTo>
                        <a:pt x="3730" y="150"/>
                      </a:lnTo>
                      <a:lnTo>
                        <a:pt x="3704" y="138"/>
                      </a:lnTo>
                      <a:lnTo>
                        <a:pt x="3704" y="139"/>
                      </a:lnTo>
                      <a:lnTo>
                        <a:pt x="3666" y="123"/>
                      </a:lnTo>
                      <a:lnTo>
                        <a:pt x="3628" y="111"/>
                      </a:lnTo>
                      <a:lnTo>
                        <a:pt x="3629" y="111"/>
                      </a:lnTo>
                      <a:lnTo>
                        <a:pt x="3584" y="98"/>
                      </a:lnTo>
                      <a:lnTo>
                        <a:pt x="3587" y="74"/>
                      </a:lnTo>
                      <a:close/>
                      <a:moveTo>
                        <a:pt x="3808" y="163"/>
                      </a:moveTo>
                      <a:lnTo>
                        <a:pt x="3816" y="169"/>
                      </a:lnTo>
                      <a:lnTo>
                        <a:pt x="3825" y="174"/>
                      </a:lnTo>
                      <a:lnTo>
                        <a:pt x="3817" y="196"/>
                      </a:lnTo>
                      <a:lnTo>
                        <a:pt x="3808" y="190"/>
                      </a:lnTo>
                      <a:lnTo>
                        <a:pt x="3800" y="186"/>
                      </a:lnTo>
                      <a:lnTo>
                        <a:pt x="3808" y="163"/>
                      </a:lnTo>
                      <a:close/>
                      <a:moveTo>
                        <a:pt x="3893" y="221"/>
                      </a:moveTo>
                      <a:lnTo>
                        <a:pt x="3910" y="234"/>
                      </a:lnTo>
                      <a:lnTo>
                        <a:pt x="3900" y="255"/>
                      </a:lnTo>
                      <a:lnTo>
                        <a:pt x="3883" y="242"/>
                      </a:lnTo>
                      <a:lnTo>
                        <a:pt x="3893" y="221"/>
                      </a:lnTo>
                      <a:close/>
                    </a:path>
                  </a:pathLst>
                </a:custGeom>
                <a:solidFill>
                  <a:srgbClr val="0000ff"/>
                </a:solid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55"/>
                <p:cNvSpPr/>
                <p:nvPr/>
              </p:nvSpPr>
              <p:spPr>
                <a:xfrm>
                  <a:off x="5452560" y="3065400"/>
                  <a:ext cx="838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6"/>
                <p:cNvSpPr/>
                <p:nvPr/>
              </p:nvSpPr>
              <p:spPr>
                <a:xfrm>
                  <a:off x="5452560" y="3065400"/>
                  <a:ext cx="83880" cy="11520"/>
                </a:xfrm>
                <a:prstGeom prst="rect">
                  <a:avLst/>
                </a:prstGeom>
                <a:noFill/>
                <a:ln w="9360">
                  <a:solidFill>
                    <a:srgbClr val="0000ff"/>
                  </a:solidFill>
                  <a:miter/>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7"/>
                <p:cNvSpPr/>
                <p:nvPr/>
              </p:nvSpPr>
              <p:spPr>
                <a:xfrm>
                  <a:off x="5452560" y="3092040"/>
                  <a:ext cx="838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58"/>
                <p:cNvSpPr/>
                <p:nvPr/>
              </p:nvSpPr>
              <p:spPr>
                <a:xfrm>
                  <a:off x="5452560" y="3092040"/>
                  <a:ext cx="83880" cy="11520"/>
                </a:xfrm>
                <a:prstGeom prst="rect">
                  <a:avLst/>
                </a:prstGeom>
                <a:noFill/>
                <a:ln w="9360">
                  <a:solidFill>
                    <a:srgbClr val="0000ff"/>
                  </a:solidFill>
                  <a:miter/>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9"/>
                <p:cNvSpPr/>
                <p:nvPr/>
              </p:nvSpPr>
              <p:spPr>
                <a:xfrm>
                  <a:off x="5401080" y="3139560"/>
                  <a:ext cx="69120" cy="43920"/>
                </a:xfrm>
                <a:custGeom>
                  <a:avLst/>
                  <a:gdLst>
                    <a:gd name="textAreaLeft" fmla="*/ 0 w 69120"/>
                    <a:gd name="textAreaRight" fmla="*/ 69480 w 69120"/>
                    <a:gd name="textAreaTop" fmla="*/ 0 h 43920"/>
                    <a:gd name="textAreaBottom" fmla="*/ 43920 h 43920"/>
                  </a:gdLst>
                  <a:ahLst/>
                  <a:rect l="textAreaLeft" t="textAreaTop" r="textAreaRight" b="textAreaBottom"/>
                  <a:pathLst>
                    <a:path w="173" h="109">
                      <a:moveTo>
                        <a:pt x="109" y="109"/>
                      </a:moveTo>
                      <a:lnTo>
                        <a:pt x="0" y="109"/>
                      </a:lnTo>
                      <a:lnTo>
                        <a:pt x="4" y="18"/>
                      </a:lnTo>
                      <a:lnTo>
                        <a:pt x="64" y="18"/>
                      </a:lnTo>
                      <a:lnTo>
                        <a:pt x="173" y="0"/>
                      </a:lnTo>
                      <a:lnTo>
                        <a:pt x="109" y="109"/>
                      </a:lnTo>
                      <a:close/>
                    </a:path>
                  </a:pathLst>
                </a:custGeom>
                <a:solidFill>
                  <a:srgbClr val="ffcc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3" name="Freeform 60"/>
                <p:cNvSpPr/>
                <p:nvPr/>
              </p:nvSpPr>
              <p:spPr>
                <a:xfrm>
                  <a:off x="5381640" y="3192840"/>
                  <a:ext cx="63360" cy="35640"/>
                </a:xfrm>
                <a:custGeom>
                  <a:avLst/>
                  <a:gdLst>
                    <a:gd name="textAreaLeft" fmla="*/ 0 w 63360"/>
                    <a:gd name="textAreaRight" fmla="*/ 63720 w 63360"/>
                    <a:gd name="textAreaTop" fmla="*/ 0 h 35640"/>
                    <a:gd name="textAreaBottom" fmla="*/ 36000 h 3564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4" name="Freeform 61"/>
                <p:cNvSpPr/>
                <p:nvPr/>
              </p:nvSpPr>
              <p:spPr>
                <a:xfrm>
                  <a:off x="5357880" y="3236760"/>
                  <a:ext cx="63360" cy="34560"/>
                </a:xfrm>
                <a:custGeom>
                  <a:avLst/>
                  <a:gdLst>
                    <a:gd name="textAreaLeft" fmla="*/ 0 w 63360"/>
                    <a:gd name="textAreaRight" fmla="*/ 63720 w 63360"/>
                    <a:gd name="textAreaTop" fmla="*/ 0 h 34560"/>
                    <a:gd name="textAreaBottom" fmla="*/ 34920 h 3456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5" name="Freeform 62"/>
                <p:cNvSpPr/>
                <p:nvPr/>
              </p:nvSpPr>
              <p:spPr>
                <a:xfrm>
                  <a:off x="5315400" y="3145320"/>
                  <a:ext cx="62280" cy="38160"/>
                </a:xfrm>
                <a:custGeom>
                  <a:avLst/>
                  <a:gdLst>
                    <a:gd name="textAreaLeft" fmla="*/ 0 w 62280"/>
                    <a:gd name="textAreaRight" fmla="*/ 62640 w 62280"/>
                    <a:gd name="textAreaTop" fmla="*/ 0 h 38160"/>
                    <a:gd name="textAreaBottom" fmla="*/ 38520 h 38160"/>
                  </a:gdLst>
                  <a:ahLst/>
                  <a:rect l="textAreaLeft" t="textAreaTop" r="textAreaRight" b="textAreaBottom"/>
                  <a:pathLst>
                    <a:path w="154" h="95">
                      <a:moveTo>
                        <a:pt x="154" y="4"/>
                      </a:moveTo>
                      <a:lnTo>
                        <a:pt x="154" y="95"/>
                      </a:lnTo>
                      <a:lnTo>
                        <a:pt x="0" y="95"/>
                      </a:lnTo>
                      <a:lnTo>
                        <a:pt x="0" y="28"/>
                      </a:lnTo>
                      <a:lnTo>
                        <a:pt x="90" y="27"/>
                      </a:lnTo>
                      <a:lnTo>
                        <a:pt x="90" y="0"/>
                      </a:lnTo>
                      <a:lnTo>
                        <a:pt x="154" y="4"/>
                      </a:lnTo>
                      <a:close/>
                    </a:path>
                  </a:pathLst>
                </a:custGeom>
                <a:solidFill>
                  <a:srgbClr val="ffccc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6" name="Freeform 63"/>
                <p:cNvSpPr/>
                <p:nvPr/>
              </p:nvSpPr>
              <p:spPr>
                <a:xfrm>
                  <a:off x="5271120" y="3201120"/>
                  <a:ext cx="99360" cy="70560"/>
                </a:xfrm>
                <a:custGeom>
                  <a:avLst/>
                  <a:gdLst>
                    <a:gd name="textAreaLeft" fmla="*/ 0 w 99360"/>
                    <a:gd name="textAreaRight" fmla="*/ 99720 w 99360"/>
                    <a:gd name="textAreaTop" fmla="*/ 0 h 70560"/>
                    <a:gd name="textAreaBottom" fmla="*/ 70920 h 70560"/>
                  </a:gdLst>
                  <a:ahLst/>
                  <a:rect l="textAreaLeft" t="textAreaTop" r="textAreaRight" b="textAreaBottom"/>
                  <a:pathLst>
                    <a:path w="245" h="181">
                      <a:moveTo>
                        <a:pt x="91" y="0"/>
                      </a:moveTo>
                      <a:lnTo>
                        <a:pt x="245" y="0"/>
                      </a:lnTo>
                      <a:lnTo>
                        <a:pt x="154" y="181"/>
                      </a:lnTo>
                      <a:lnTo>
                        <a:pt x="0" y="181"/>
                      </a:lnTo>
                      <a:lnTo>
                        <a:pt x="91" y="0"/>
                      </a:lnTo>
                      <a:close/>
                    </a:path>
                  </a:pathLst>
                </a:custGeom>
                <a:solidFill>
                  <a:srgbClr val="ffccc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7" name="Freeform 64"/>
                <p:cNvSpPr/>
                <p:nvPr/>
              </p:nvSpPr>
              <p:spPr>
                <a:xfrm>
                  <a:off x="5223240" y="3153600"/>
                  <a:ext cx="74160" cy="39240"/>
                </a:xfrm>
                <a:custGeom>
                  <a:avLst/>
                  <a:gdLst>
                    <a:gd name="textAreaLeft" fmla="*/ 0 w 74160"/>
                    <a:gd name="textAreaRight" fmla="*/ 74520 w 74160"/>
                    <a:gd name="textAreaTop" fmla="*/ 0 h 39240"/>
                    <a:gd name="textAreaBottom" fmla="*/ 39600 h 39240"/>
                  </a:gdLst>
                  <a:ahLst/>
                  <a:rect l="textAreaLeft" t="textAreaTop" r="textAreaRight" b="textAreaBottom"/>
                  <a:pathLst>
                    <a:path w="181" h="101">
                      <a:moveTo>
                        <a:pt x="181" y="0"/>
                      </a:moveTo>
                      <a:lnTo>
                        <a:pt x="181" y="101"/>
                      </a:lnTo>
                      <a:lnTo>
                        <a:pt x="0" y="101"/>
                      </a:lnTo>
                      <a:lnTo>
                        <a:pt x="18" y="10"/>
                      </a:lnTo>
                      <a:lnTo>
                        <a:pt x="63" y="10"/>
                      </a:lnTo>
                      <a:lnTo>
                        <a:pt x="181" y="0"/>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8" name="Freeform 65"/>
                <p:cNvSpPr/>
                <p:nvPr/>
              </p:nvSpPr>
              <p:spPr>
                <a:xfrm>
                  <a:off x="5487480" y="3136320"/>
                  <a:ext cx="62280" cy="35640"/>
                </a:xfrm>
                <a:custGeom>
                  <a:avLst/>
                  <a:gdLst>
                    <a:gd name="textAreaLeft" fmla="*/ 0 w 62280"/>
                    <a:gd name="textAreaRight" fmla="*/ 62640 w 62280"/>
                    <a:gd name="textAreaTop" fmla="*/ 0 h 35640"/>
                    <a:gd name="textAreaBottom" fmla="*/ 36000 h 35640"/>
                  </a:gdLst>
                  <a:ahLst/>
                  <a:rect l="textAreaLeft" t="textAreaTop" r="textAreaRight" b="textAreaBottom"/>
                  <a:pathLst>
                    <a:path w="155" h="90">
                      <a:moveTo>
                        <a:pt x="46" y="0"/>
                      </a:moveTo>
                      <a:lnTo>
                        <a:pt x="155" y="0"/>
                      </a:lnTo>
                      <a:lnTo>
                        <a:pt x="109" y="90"/>
                      </a:lnTo>
                      <a:lnTo>
                        <a:pt x="0" y="90"/>
                      </a:lnTo>
                      <a:lnTo>
                        <a:pt x="46"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9" name="Freeform 66"/>
                <p:cNvSpPr/>
                <p:nvPr/>
              </p:nvSpPr>
              <p:spPr>
                <a:xfrm>
                  <a:off x="5548680" y="3130200"/>
                  <a:ext cx="62280" cy="34560"/>
                </a:xfrm>
                <a:custGeom>
                  <a:avLst/>
                  <a:gdLst>
                    <a:gd name="textAreaLeft" fmla="*/ 0 w 62280"/>
                    <a:gd name="textAreaRight" fmla="*/ 62640 w 62280"/>
                    <a:gd name="textAreaTop" fmla="*/ 0 h 34560"/>
                    <a:gd name="textAreaBottom" fmla="*/ 34920 h 3456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0" name="Freeform 67"/>
                <p:cNvSpPr/>
                <p:nvPr/>
              </p:nvSpPr>
              <p:spPr>
                <a:xfrm>
                  <a:off x="5445360" y="3218400"/>
                  <a:ext cx="62280" cy="35640"/>
                </a:xfrm>
                <a:custGeom>
                  <a:avLst/>
                  <a:gdLst>
                    <a:gd name="textAreaLeft" fmla="*/ 0 w 62280"/>
                    <a:gd name="textAreaRight" fmla="*/ 62640 w 62280"/>
                    <a:gd name="textAreaTop" fmla="*/ 0 h 35640"/>
                    <a:gd name="textAreaBottom" fmla="*/ 36000 h 35640"/>
                  </a:gdLst>
                  <a:ahLst/>
                  <a:rect l="textAreaLeft" t="textAreaTop" r="textAreaRight" b="textAreaBottom"/>
                  <a:pathLst>
                    <a:path w="154" h="91">
                      <a:moveTo>
                        <a:pt x="45" y="0"/>
                      </a:moveTo>
                      <a:lnTo>
                        <a:pt x="154" y="0"/>
                      </a:lnTo>
                      <a:lnTo>
                        <a:pt x="109" y="91"/>
                      </a:lnTo>
                      <a:lnTo>
                        <a:pt x="0" y="91"/>
                      </a:lnTo>
                      <a:lnTo>
                        <a:pt x="45"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1" name="Freeform 68"/>
                <p:cNvSpPr/>
                <p:nvPr/>
              </p:nvSpPr>
              <p:spPr>
                <a:xfrm>
                  <a:off x="5524560" y="3217320"/>
                  <a:ext cx="62280" cy="36720"/>
                </a:xfrm>
                <a:custGeom>
                  <a:avLst/>
                  <a:gdLst>
                    <a:gd name="textAreaLeft" fmla="*/ 0 w 62280"/>
                    <a:gd name="textAreaRight" fmla="*/ 62640 w 62280"/>
                    <a:gd name="textAreaTop" fmla="*/ 0 h 36720"/>
                    <a:gd name="textAreaBottom" fmla="*/ 37080 h 36720"/>
                  </a:gdLst>
                  <a:ahLst/>
                  <a:rect l="textAreaLeft" t="textAreaTop" r="textAreaRight" b="textAreaBottom"/>
                  <a:pathLst>
                    <a:path w="154" h="95">
                      <a:moveTo>
                        <a:pt x="0" y="91"/>
                      </a:moveTo>
                      <a:lnTo>
                        <a:pt x="0" y="0"/>
                      </a:lnTo>
                      <a:lnTo>
                        <a:pt x="154" y="0"/>
                      </a:lnTo>
                      <a:lnTo>
                        <a:pt x="154" y="67"/>
                      </a:lnTo>
                      <a:lnTo>
                        <a:pt x="64" y="68"/>
                      </a:lnTo>
                      <a:lnTo>
                        <a:pt x="64" y="95"/>
                      </a:lnTo>
                      <a:lnTo>
                        <a:pt x="0" y="91"/>
                      </a:lnTo>
                      <a:close/>
                    </a:path>
                  </a:pathLst>
                </a:custGeom>
                <a:solidFill>
                  <a:srgbClr val="ffccc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2" name="Freeform 69"/>
                <p:cNvSpPr/>
                <p:nvPr/>
              </p:nvSpPr>
              <p:spPr>
                <a:xfrm>
                  <a:off x="5591880" y="3215880"/>
                  <a:ext cx="74160" cy="39240"/>
                </a:xfrm>
                <a:custGeom>
                  <a:avLst/>
                  <a:gdLst>
                    <a:gd name="textAreaLeft" fmla="*/ 0 w 74160"/>
                    <a:gd name="textAreaRight" fmla="*/ 74520 w 74160"/>
                    <a:gd name="textAreaTop" fmla="*/ 0 h 39240"/>
                    <a:gd name="textAreaBottom" fmla="*/ 39600 h 39240"/>
                  </a:gdLst>
                  <a:ahLst/>
                  <a:rect l="textAreaLeft" t="textAreaTop" r="textAreaRight" b="textAreaBottom"/>
                  <a:pathLst>
                    <a:path w="181" h="100">
                      <a:moveTo>
                        <a:pt x="0" y="100"/>
                      </a:moveTo>
                      <a:lnTo>
                        <a:pt x="0" y="0"/>
                      </a:lnTo>
                      <a:lnTo>
                        <a:pt x="181" y="0"/>
                      </a:lnTo>
                      <a:lnTo>
                        <a:pt x="163" y="90"/>
                      </a:lnTo>
                      <a:lnTo>
                        <a:pt x="118" y="90"/>
                      </a:lnTo>
                      <a:lnTo>
                        <a:pt x="0" y="100"/>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3" name="Freeform 70"/>
                <p:cNvSpPr/>
                <p:nvPr/>
              </p:nvSpPr>
              <p:spPr>
                <a:xfrm>
                  <a:off x="5610960" y="3130200"/>
                  <a:ext cx="117360" cy="34560"/>
                </a:xfrm>
                <a:custGeom>
                  <a:avLst/>
                  <a:gdLst>
                    <a:gd name="textAreaLeft" fmla="*/ 0 w 117360"/>
                    <a:gd name="textAreaRight" fmla="*/ 117720 w 117360"/>
                    <a:gd name="textAreaTop" fmla="*/ 0 h 34560"/>
                    <a:gd name="textAreaBottom" fmla="*/ 34920 h 34560"/>
                  </a:gdLst>
                  <a:ahLst/>
                  <a:rect l="textAreaLeft" t="textAreaTop" r="textAreaRight" b="textAreaBottom"/>
                  <a:pathLst>
                    <a:path w="290" h="90">
                      <a:moveTo>
                        <a:pt x="44" y="0"/>
                      </a:moveTo>
                      <a:lnTo>
                        <a:pt x="290" y="0"/>
                      </a:lnTo>
                      <a:lnTo>
                        <a:pt x="273" y="90"/>
                      </a:lnTo>
                      <a:lnTo>
                        <a:pt x="0" y="90"/>
                      </a:lnTo>
                      <a:lnTo>
                        <a:pt x="44"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4" name="Rectangle 71"/>
                <p:cNvSpPr/>
                <p:nvPr/>
              </p:nvSpPr>
              <p:spPr>
                <a:xfrm>
                  <a:off x="5610960" y="3175560"/>
                  <a:ext cx="10332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72"/>
                <p:cNvSpPr/>
                <p:nvPr/>
              </p:nvSpPr>
              <p:spPr>
                <a:xfrm>
                  <a:off x="5546160" y="3171960"/>
                  <a:ext cx="4572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3"/>
                <p:cNvSpPr/>
                <p:nvPr/>
              </p:nvSpPr>
              <p:spPr>
                <a:xfrm>
                  <a:off x="5739480" y="3130200"/>
                  <a:ext cx="55080" cy="18360"/>
                </a:xfrm>
                <a:prstGeom prst="rect">
                  <a:avLst/>
                </a:prstGeom>
                <a:solidFill>
                  <a:srgbClr val="ffcccc"/>
                </a:solidFill>
                <a:ln w="0">
                  <a:noFill/>
                </a:ln>
              </p:spPr>
              <p:style>
                <a:lnRef idx="0"/>
                <a:fillRef idx="0"/>
                <a:effectRef idx="0"/>
                <a:fontRef idx="minor"/>
              </p:style>
              <p:txBody>
                <a:bodyPr lIns="90000" rIns="90000" tIns="-28440" bIns="-2844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74"/>
                <p:cNvSpPr/>
                <p:nvPr/>
              </p:nvSpPr>
              <p:spPr>
                <a:xfrm>
                  <a:off x="5721480" y="3158280"/>
                  <a:ext cx="62280" cy="34560"/>
                </a:xfrm>
                <a:custGeom>
                  <a:avLst/>
                  <a:gdLst>
                    <a:gd name="textAreaLeft" fmla="*/ 0 w 62280"/>
                    <a:gd name="textAreaRight" fmla="*/ 62640 w 62280"/>
                    <a:gd name="textAreaTop" fmla="*/ 0 h 34560"/>
                    <a:gd name="textAreaBottom" fmla="*/ 34920 h 34560"/>
                  </a:gdLst>
                  <a:ahLst/>
                  <a:rect l="textAreaLeft" t="textAreaTop" r="textAreaRight" b="textAreaBottom"/>
                  <a:pathLst>
                    <a:path w="154" h="91">
                      <a:moveTo>
                        <a:pt x="46" y="0"/>
                      </a:moveTo>
                      <a:lnTo>
                        <a:pt x="154" y="0"/>
                      </a:lnTo>
                      <a:lnTo>
                        <a:pt x="109" y="91"/>
                      </a:lnTo>
                      <a:lnTo>
                        <a:pt x="0" y="91"/>
                      </a:lnTo>
                      <a:lnTo>
                        <a:pt x="46"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8" name="Freeform 75"/>
                <p:cNvSpPr/>
                <p:nvPr/>
              </p:nvSpPr>
              <p:spPr>
                <a:xfrm>
                  <a:off x="5906520" y="3139560"/>
                  <a:ext cx="91080" cy="35640"/>
                </a:xfrm>
                <a:custGeom>
                  <a:avLst/>
                  <a:gdLst>
                    <a:gd name="textAreaLeft" fmla="*/ 0 w 91080"/>
                    <a:gd name="textAreaRight" fmla="*/ 91440 w 91080"/>
                    <a:gd name="textAreaTop" fmla="*/ 0 h 35640"/>
                    <a:gd name="textAreaBottom" fmla="*/ 36000 h 35640"/>
                  </a:gdLst>
                  <a:ahLst/>
                  <a:rect l="textAreaLeft" t="textAreaTop" r="textAreaRight" b="textAreaBottom"/>
                  <a:pathLst>
                    <a:path w="226" h="90">
                      <a:moveTo>
                        <a:pt x="118" y="0"/>
                      </a:moveTo>
                      <a:lnTo>
                        <a:pt x="226" y="0"/>
                      </a:lnTo>
                      <a:lnTo>
                        <a:pt x="181" y="90"/>
                      </a:lnTo>
                      <a:lnTo>
                        <a:pt x="0" y="80"/>
                      </a:lnTo>
                      <a:lnTo>
                        <a:pt x="118"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9" name="Freeform 76"/>
                <p:cNvSpPr/>
                <p:nvPr/>
              </p:nvSpPr>
              <p:spPr>
                <a:xfrm>
                  <a:off x="5868000" y="3178800"/>
                  <a:ext cx="93600" cy="25200"/>
                </a:xfrm>
                <a:custGeom>
                  <a:avLst/>
                  <a:gdLst>
                    <a:gd name="textAreaLeft" fmla="*/ 0 w 93600"/>
                    <a:gd name="textAreaRight" fmla="*/ 93960 w 93600"/>
                    <a:gd name="textAreaTop" fmla="*/ 0 h 25200"/>
                    <a:gd name="textAreaBottom" fmla="*/ 25560 h 25200"/>
                  </a:gdLst>
                  <a:ahLst/>
                  <a:rect l="textAreaLeft" t="textAreaTop" r="textAreaRight" b="textAreaBottom"/>
                  <a:pathLst>
                    <a:path w="227" h="64">
                      <a:moveTo>
                        <a:pt x="67" y="0"/>
                      </a:moveTo>
                      <a:lnTo>
                        <a:pt x="227" y="0"/>
                      </a:lnTo>
                      <a:lnTo>
                        <a:pt x="160" y="64"/>
                      </a:lnTo>
                      <a:lnTo>
                        <a:pt x="0" y="64"/>
                      </a:lnTo>
                      <a:lnTo>
                        <a:pt x="67" y="0"/>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0" name="Rectangle 77"/>
                <p:cNvSpPr/>
                <p:nvPr/>
              </p:nvSpPr>
              <p:spPr>
                <a:xfrm>
                  <a:off x="6003720" y="3142080"/>
                  <a:ext cx="10296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78"/>
                <p:cNvSpPr/>
                <p:nvPr/>
              </p:nvSpPr>
              <p:spPr>
                <a:xfrm>
                  <a:off x="6115320" y="3144240"/>
                  <a:ext cx="4788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9"/>
                <p:cNvSpPr/>
                <p:nvPr/>
              </p:nvSpPr>
              <p:spPr>
                <a:xfrm>
                  <a:off x="6053040" y="3183480"/>
                  <a:ext cx="102960" cy="18360"/>
                </a:xfrm>
                <a:prstGeom prst="rect">
                  <a:avLst/>
                </a:prstGeom>
                <a:solidFill>
                  <a:srgbClr val="ffcccc"/>
                </a:solidFill>
                <a:ln w="0">
                  <a:noFill/>
                </a:ln>
              </p:spPr>
              <p:style>
                <a:lnRef idx="0"/>
                <a:fillRef idx="0"/>
                <a:effectRef idx="0"/>
                <a:fontRef idx="minor"/>
              </p:style>
              <p:txBody>
                <a:bodyPr lIns="90000" rIns="90000" tIns="-28440" bIns="-2844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80"/>
                <p:cNvSpPr/>
                <p:nvPr/>
              </p:nvSpPr>
              <p:spPr>
                <a:xfrm>
                  <a:off x="6342480" y="280044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81"/>
                <p:cNvSpPr/>
                <p:nvPr/>
              </p:nvSpPr>
              <p:spPr>
                <a:xfrm>
                  <a:off x="6280920" y="280044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82"/>
                <p:cNvSpPr/>
                <p:nvPr/>
              </p:nvSpPr>
              <p:spPr>
                <a:xfrm>
                  <a:off x="6303960" y="2836440"/>
                  <a:ext cx="82440" cy="29880"/>
                </a:xfrm>
                <a:custGeom>
                  <a:avLst/>
                  <a:gdLst>
                    <a:gd name="textAreaLeft" fmla="*/ 0 w 82440"/>
                    <a:gd name="textAreaRight" fmla="*/ 82800 w 82440"/>
                    <a:gd name="textAreaTop" fmla="*/ 0 h 29880"/>
                    <a:gd name="textAreaBottom" fmla="*/ 30240 h 29880"/>
                  </a:gdLst>
                  <a:ahLst/>
                  <a:rect l="textAreaLeft" t="textAreaTop" r="textAreaRight" b="textAreaBottom"/>
                  <a:pathLst>
                    <a:path w="204" h="77">
                      <a:moveTo>
                        <a:pt x="64" y="4"/>
                      </a:moveTo>
                      <a:lnTo>
                        <a:pt x="204" y="0"/>
                      </a:lnTo>
                      <a:lnTo>
                        <a:pt x="109" y="77"/>
                      </a:lnTo>
                      <a:lnTo>
                        <a:pt x="0" y="77"/>
                      </a:lnTo>
                      <a:lnTo>
                        <a:pt x="64" y="4"/>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6" name="Freeform 83"/>
                <p:cNvSpPr/>
                <p:nvPr/>
              </p:nvSpPr>
              <p:spPr>
                <a:xfrm>
                  <a:off x="6279840" y="2872080"/>
                  <a:ext cx="62280" cy="17280"/>
                </a:xfrm>
                <a:custGeom>
                  <a:avLst/>
                  <a:gdLst>
                    <a:gd name="textAreaLeft" fmla="*/ 0 w 62280"/>
                    <a:gd name="textAreaRight" fmla="*/ 62640 w 62280"/>
                    <a:gd name="textAreaTop" fmla="*/ 0 h 17280"/>
                    <a:gd name="textAreaBottom" fmla="*/ 17280 h 17280"/>
                  </a:gdLst>
                  <a:ahLst/>
                  <a:rect l="textAreaLeft" t="textAreaTop" r="textAreaRight" b="textAreaBottom"/>
                  <a:pathLst>
                    <a:path w="154" h="45">
                      <a:moveTo>
                        <a:pt x="45" y="0"/>
                      </a:moveTo>
                      <a:lnTo>
                        <a:pt x="154" y="0"/>
                      </a:lnTo>
                      <a:lnTo>
                        <a:pt x="109" y="45"/>
                      </a:lnTo>
                      <a:lnTo>
                        <a:pt x="0" y="45"/>
                      </a:lnTo>
                      <a:lnTo>
                        <a:pt x="45"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Rectangle 84"/>
                <p:cNvSpPr/>
                <p:nvPr/>
              </p:nvSpPr>
              <p:spPr>
                <a:xfrm>
                  <a:off x="6225840" y="2800440"/>
                  <a:ext cx="47880" cy="45000"/>
                </a:xfrm>
                <a:prstGeom prst="rect">
                  <a:avLst/>
                </a:prstGeom>
                <a:solidFill>
                  <a:srgbClr val="ffcccc"/>
                </a:solidFill>
                <a:ln w="0">
                  <a:noFill/>
                </a:ln>
              </p:spPr>
              <p:style>
                <a:lnRef idx="0"/>
                <a:fillRef idx="0"/>
                <a:effectRef idx="0"/>
                <a:fontRef idx="minor"/>
              </p:style>
              <p:txBody>
                <a:bodyPr lIns="90000" rIns="90000" tIns="-1800" bIns="-1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85"/>
                <p:cNvSpPr/>
                <p:nvPr/>
              </p:nvSpPr>
              <p:spPr>
                <a:xfrm>
                  <a:off x="6176520" y="2949840"/>
                  <a:ext cx="47880" cy="19440"/>
                </a:xfrm>
                <a:prstGeom prst="rect">
                  <a:avLst/>
                </a:prstGeom>
                <a:solidFill>
                  <a:srgbClr val="ffcccc"/>
                </a:solidFill>
                <a:ln w="0">
                  <a:noFill/>
                </a:ln>
              </p:spPr>
              <p:style>
                <a:lnRef idx="0"/>
                <a:fillRef idx="0"/>
                <a:effectRef idx="0"/>
                <a:fontRef idx="minor"/>
              </p:style>
              <p:txBody>
                <a:bodyPr lIns="90000" rIns="90000" tIns="-27360" bIns="-2736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86"/>
                <p:cNvSpPr/>
                <p:nvPr/>
              </p:nvSpPr>
              <p:spPr>
                <a:xfrm>
                  <a:off x="6091200" y="2969640"/>
                  <a:ext cx="72000" cy="56520"/>
                </a:xfrm>
                <a:custGeom>
                  <a:avLst/>
                  <a:gdLst>
                    <a:gd name="textAreaLeft" fmla="*/ 0 w 72000"/>
                    <a:gd name="textAreaRight" fmla="*/ 72360 w 72000"/>
                    <a:gd name="textAreaTop" fmla="*/ 0 h 56520"/>
                    <a:gd name="textAreaBottom" fmla="*/ 56880 h 56520"/>
                  </a:gdLst>
                  <a:ahLst/>
                  <a:rect l="textAreaLeft" t="textAreaTop" r="textAreaRight" b="textAreaBottom"/>
                  <a:pathLst>
                    <a:path w="179" h="144">
                      <a:moveTo>
                        <a:pt x="0" y="82"/>
                      </a:moveTo>
                      <a:lnTo>
                        <a:pt x="37" y="144"/>
                      </a:lnTo>
                      <a:lnTo>
                        <a:pt x="179" y="62"/>
                      </a:lnTo>
                      <a:lnTo>
                        <a:pt x="143" y="0"/>
                      </a:lnTo>
                      <a:lnTo>
                        <a:pt x="0" y="82"/>
                      </a:lnTo>
                      <a:close/>
                    </a:path>
                  </a:pathLst>
                </a:custGeom>
                <a:solidFill>
                  <a:srgbClr val="ff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 name="Freeform 87"/>
                <p:cNvSpPr/>
                <p:nvPr/>
              </p:nvSpPr>
              <p:spPr>
                <a:xfrm>
                  <a:off x="6035040" y="302400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8" y="103"/>
                      </a:lnTo>
                      <a:lnTo>
                        <a:pt x="144" y="30"/>
                      </a:lnTo>
                      <a:lnTo>
                        <a:pt x="126"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1" name="Freeform 88"/>
                <p:cNvSpPr/>
                <p:nvPr/>
              </p:nvSpPr>
              <p:spPr>
                <a:xfrm>
                  <a:off x="6061320" y="296496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5">
                      <a:moveTo>
                        <a:pt x="0" y="74"/>
                      </a:moveTo>
                      <a:lnTo>
                        <a:pt x="17" y="105"/>
                      </a:lnTo>
                      <a:lnTo>
                        <a:pt x="144" y="31"/>
                      </a:lnTo>
                      <a:lnTo>
                        <a:pt x="126" y="0"/>
                      </a:lnTo>
                      <a:lnTo>
                        <a:pt x="0" y="74"/>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2" name="Freeform 89"/>
                <p:cNvSpPr/>
                <p:nvPr/>
              </p:nvSpPr>
              <p:spPr>
                <a:xfrm>
                  <a:off x="6005880" y="300564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7" y="103"/>
                      </a:lnTo>
                      <a:lnTo>
                        <a:pt x="144" y="29"/>
                      </a:lnTo>
                      <a:lnTo>
                        <a:pt x="125"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3" name="Freeform 90"/>
                <p:cNvSpPr/>
                <p:nvPr/>
              </p:nvSpPr>
              <p:spPr>
                <a:xfrm>
                  <a:off x="5997600" y="298224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5">
                      <a:moveTo>
                        <a:pt x="0" y="74"/>
                      </a:moveTo>
                      <a:lnTo>
                        <a:pt x="19" y="105"/>
                      </a:lnTo>
                      <a:lnTo>
                        <a:pt x="144" y="31"/>
                      </a:lnTo>
                      <a:lnTo>
                        <a:pt x="126" y="0"/>
                      </a:lnTo>
                      <a:lnTo>
                        <a:pt x="0" y="74"/>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4" name="Rectangle 91"/>
                <p:cNvSpPr/>
                <p:nvPr/>
              </p:nvSpPr>
              <p:spPr>
                <a:xfrm>
                  <a:off x="6677280" y="291060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2"/>
                <p:cNvSpPr/>
                <p:nvPr/>
              </p:nvSpPr>
              <p:spPr>
                <a:xfrm>
                  <a:off x="6616080" y="2916360"/>
                  <a:ext cx="4788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93"/>
                <p:cNvSpPr/>
                <p:nvPr/>
              </p:nvSpPr>
              <p:spPr>
                <a:xfrm>
                  <a:off x="6560640" y="2924280"/>
                  <a:ext cx="47880" cy="45000"/>
                </a:xfrm>
                <a:prstGeom prst="rect">
                  <a:avLst/>
                </a:prstGeom>
                <a:solidFill>
                  <a:srgbClr val="ffcccc"/>
                </a:solidFill>
                <a:ln w="0">
                  <a:noFill/>
                </a:ln>
              </p:spPr>
              <p:style>
                <a:lnRef idx="0"/>
                <a:fillRef idx="0"/>
                <a:effectRef idx="0"/>
                <a:fontRef idx="minor"/>
              </p:style>
              <p:txBody>
                <a:bodyPr lIns="90000" rIns="90000" tIns="-1800" bIns="-1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94"/>
                <p:cNvSpPr/>
                <p:nvPr/>
              </p:nvSpPr>
              <p:spPr>
                <a:xfrm>
                  <a:off x="6606360" y="3018240"/>
                  <a:ext cx="57600" cy="40320"/>
                </a:xfrm>
                <a:custGeom>
                  <a:avLst/>
                  <a:gdLst>
                    <a:gd name="textAreaLeft" fmla="*/ 0 w 57600"/>
                    <a:gd name="textAreaRight" fmla="*/ 57960 w 57600"/>
                    <a:gd name="textAreaTop" fmla="*/ 0 h 40320"/>
                    <a:gd name="textAreaBottom" fmla="*/ 40680 h 40320"/>
                  </a:gdLst>
                  <a:ahLst/>
                  <a:rect l="textAreaLeft" t="textAreaTop" r="textAreaRight" b="textAreaBottom"/>
                  <a:pathLst>
                    <a:path w="144" h="105">
                      <a:moveTo>
                        <a:pt x="0" y="73"/>
                      </a:moveTo>
                      <a:lnTo>
                        <a:pt x="18" y="105"/>
                      </a:lnTo>
                      <a:lnTo>
                        <a:pt x="144" y="31"/>
                      </a:lnTo>
                      <a:lnTo>
                        <a:pt x="126" y="0"/>
                      </a:lnTo>
                      <a:lnTo>
                        <a:pt x="0" y="73"/>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8" name="Freeform 95"/>
                <p:cNvSpPr/>
                <p:nvPr/>
              </p:nvSpPr>
              <p:spPr>
                <a:xfrm>
                  <a:off x="6643800" y="295236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9" y="103"/>
                      </a:lnTo>
                      <a:lnTo>
                        <a:pt x="144" y="29"/>
                      </a:lnTo>
                      <a:lnTo>
                        <a:pt x="126"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9" name="Freeform 96"/>
                <p:cNvSpPr/>
                <p:nvPr/>
              </p:nvSpPr>
              <p:spPr>
                <a:xfrm>
                  <a:off x="6577560" y="299988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4">
                      <a:moveTo>
                        <a:pt x="0" y="73"/>
                      </a:moveTo>
                      <a:lnTo>
                        <a:pt x="17" y="104"/>
                      </a:lnTo>
                      <a:lnTo>
                        <a:pt x="144" y="31"/>
                      </a:lnTo>
                      <a:lnTo>
                        <a:pt x="126" y="0"/>
                      </a:lnTo>
                      <a:lnTo>
                        <a:pt x="0" y="73"/>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 name="Freeform 97"/>
                <p:cNvSpPr/>
                <p:nvPr/>
              </p:nvSpPr>
              <p:spPr>
                <a:xfrm>
                  <a:off x="6569280" y="2977560"/>
                  <a:ext cx="58680" cy="40320"/>
                </a:xfrm>
                <a:custGeom>
                  <a:avLst/>
                  <a:gdLst>
                    <a:gd name="textAreaLeft" fmla="*/ 0 w 58680"/>
                    <a:gd name="textAreaRight" fmla="*/ 59040 w 58680"/>
                    <a:gd name="textAreaTop" fmla="*/ 0 h 40320"/>
                    <a:gd name="textAreaBottom" fmla="*/ 40320 h 40320"/>
                  </a:gdLst>
                  <a:ahLst/>
                  <a:rect l="textAreaLeft" t="textAreaTop" r="textAreaRight" b="textAreaBottom"/>
                  <a:pathLst>
                    <a:path w="144" h="104">
                      <a:moveTo>
                        <a:pt x="0" y="74"/>
                      </a:moveTo>
                      <a:lnTo>
                        <a:pt x="18" y="104"/>
                      </a:lnTo>
                      <a:lnTo>
                        <a:pt x="144" y="32"/>
                      </a:lnTo>
                      <a:lnTo>
                        <a:pt x="126" y="0"/>
                      </a:lnTo>
                      <a:lnTo>
                        <a:pt x="0" y="74"/>
                      </a:lnTo>
                      <a:close/>
                    </a:path>
                  </a:pathLst>
                </a:custGeom>
                <a:solidFill>
                  <a:srgbClr val="ff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1" name="Rectangle 98"/>
                <p:cNvSpPr/>
                <p:nvPr/>
              </p:nvSpPr>
              <p:spPr>
                <a:xfrm>
                  <a:off x="6582600" y="2842200"/>
                  <a:ext cx="4788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99"/>
                <p:cNvSpPr/>
                <p:nvPr/>
              </p:nvSpPr>
              <p:spPr>
                <a:xfrm>
                  <a:off x="6668640" y="296964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3">
                      <a:moveTo>
                        <a:pt x="0" y="72"/>
                      </a:moveTo>
                      <a:lnTo>
                        <a:pt x="17" y="103"/>
                      </a:lnTo>
                      <a:lnTo>
                        <a:pt x="144" y="30"/>
                      </a:lnTo>
                      <a:lnTo>
                        <a:pt x="126" y="0"/>
                      </a:lnTo>
                      <a:lnTo>
                        <a:pt x="0" y="72"/>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3" name="Freeform 100"/>
                <p:cNvSpPr/>
                <p:nvPr/>
              </p:nvSpPr>
              <p:spPr>
                <a:xfrm>
                  <a:off x="6688080" y="2988000"/>
                  <a:ext cx="58680" cy="40320"/>
                </a:xfrm>
                <a:custGeom>
                  <a:avLst/>
                  <a:gdLst>
                    <a:gd name="textAreaLeft" fmla="*/ 0 w 58680"/>
                    <a:gd name="textAreaRight" fmla="*/ 59040 w 58680"/>
                    <a:gd name="textAreaTop" fmla="*/ 0 h 40320"/>
                    <a:gd name="textAreaBottom" fmla="*/ 40320 h 40320"/>
                  </a:gdLst>
                  <a:ahLst/>
                  <a:rect l="textAreaLeft" t="textAreaTop" r="textAreaRight" b="textAreaBottom"/>
                  <a:pathLst>
                    <a:path w="144" h="104">
                      <a:moveTo>
                        <a:pt x="0" y="73"/>
                      </a:moveTo>
                      <a:lnTo>
                        <a:pt x="17" y="104"/>
                      </a:lnTo>
                      <a:lnTo>
                        <a:pt x="144" y="30"/>
                      </a:lnTo>
                      <a:lnTo>
                        <a:pt x="126" y="0"/>
                      </a:lnTo>
                      <a:lnTo>
                        <a:pt x="0" y="73"/>
                      </a:lnTo>
                      <a:close/>
                    </a:path>
                  </a:pathLst>
                </a:custGeom>
                <a:solidFill>
                  <a:srgbClr val="ff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Rectangle 101"/>
                <p:cNvSpPr/>
                <p:nvPr/>
              </p:nvSpPr>
              <p:spPr>
                <a:xfrm>
                  <a:off x="6643800" y="2842200"/>
                  <a:ext cx="3564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2"/>
                <p:cNvSpPr/>
                <p:nvPr/>
              </p:nvSpPr>
              <p:spPr>
                <a:xfrm>
                  <a:off x="6692760" y="2845800"/>
                  <a:ext cx="24120" cy="13680"/>
                </a:xfrm>
                <a:prstGeom prst="rect">
                  <a:avLst/>
                </a:prstGeom>
                <a:solidFill>
                  <a:srgbClr val="ffcccc"/>
                </a:solidFill>
                <a:ln w="0">
                  <a:noFill/>
                </a:ln>
              </p:spPr>
              <p:style>
                <a:lnRef idx="0"/>
                <a:fillRef idx="0"/>
                <a:effectRef idx="0"/>
                <a:fontRef idx="minor"/>
              </p:style>
              <p:txBody>
                <a:bodyPr lIns="90000" rIns="90000" tIns="-33120" bIns="-3312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3"/>
                <p:cNvSpPr/>
                <p:nvPr/>
              </p:nvSpPr>
              <p:spPr>
                <a:xfrm>
                  <a:off x="6507720" y="2919600"/>
                  <a:ext cx="25200" cy="15120"/>
                </a:xfrm>
                <a:prstGeom prst="rect">
                  <a:avLst/>
                </a:prstGeom>
                <a:solidFill>
                  <a:srgbClr val="ffcccc"/>
                </a:solidFill>
                <a:ln w="0">
                  <a:noFill/>
                </a:ln>
              </p:spPr>
              <p:style>
                <a:lnRef idx="0"/>
                <a:fillRef idx="0"/>
                <a:effectRef idx="0"/>
                <a:fontRef idx="minor"/>
              </p:style>
              <p:txBody>
                <a:bodyPr lIns="90000" rIns="90000" tIns="-31680" bIns="-316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04"/>
                <p:cNvSpPr/>
                <p:nvPr/>
              </p:nvSpPr>
              <p:spPr>
                <a:xfrm>
                  <a:off x="6495840" y="3005640"/>
                  <a:ext cx="45720" cy="69120"/>
                </a:xfrm>
                <a:custGeom>
                  <a:avLst/>
                  <a:gdLst>
                    <a:gd name="textAreaLeft" fmla="*/ 0 w 45720"/>
                    <a:gd name="textAreaRight" fmla="*/ 46080 w 45720"/>
                    <a:gd name="textAreaTop" fmla="*/ 0 h 69120"/>
                    <a:gd name="textAreaBottom" fmla="*/ 69480 h 69120"/>
                  </a:gdLst>
                  <a:ahLst/>
                  <a:rect l="textAreaLeft" t="textAreaTop" r="textAreaRight" b="textAreaBottom"/>
                  <a:pathLst>
                    <a:path w="113" h="177">
                      <a:moveTo>
                        <a:pt x="43" y="177"/>
                      </a:moveTo>
                      <a:lnTo>
                        <a:pt x="113" y="158"/>
                      </a:lnTo>
                      <a:lnTo>
                        <a:pt x="70" y="0"/>
                      </a:lnTo>
                      <a:lnTo>
                        <a:pt x="0" y="18"/>
                      </a:lnTo>
                      <a:lnTo>
                        <a:pt x="43" y="177"/>
                      </a:lnTo>
                      <a:close/>
                    </a:path>
                  </a:pathLst>
                </a:custGeom>
                <a:solidFill>
                  <a:srgbClr val="ffccc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08" name="Rectangle 105"/>
                <p:cNvSpPr/>
                <p:nvPr/>
              </p:nvSpPr>
              <p:spPr>
                <a:xfrm>
                  <a:off x="5491800" y="2975400"/>
                  <a:ext cx="262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駅</a:t>
                  </a:r>
                  <a:endParaRPr b="0" lang="en-US" sz="800" spc="-1" strike="noStrike">
                    <a:solidFill>
                      <a:srgbClr val="000000"/>
                    </a:solidFill>
                    <a:latin typeface="Arial"/>
                  </a:endParaRPr>
                </a:p>
              </p:txBody>
            </p:sp>
            <p:sp>
              <p:nvSpPr>
                <p:cNvPr id="209" name="Rectangle 106"/>
                <p:cNvSpPr/>
                <p:nvPr/>
              </p:nvSpPr>
              <p:spPr>
                <a:xfrm>
                  <a:off x="6716880" y="2907000"/>
                  <a:ext cx="244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Arial"/>
                  </a:endParaRPr>
                </a:p>
              </p:txBody>
            </p:sp>
            <p:sp>
              <p:nvSpPr>
                <p:cNvPr id="210" name="Rectangle 107"/>
                <p:cNvSpPr/>
                <p:nvPr/>
              </p:nvSpPr>
              <p:spPr>
                <a:xfrm>
                  <a:off x="5798160" y="2835360"/>
                  <a:ext cx="20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Arial"/>
                  </a:endParaRPr>
                </a:p>
              </p:txBody>
            </p:sp>
            <p:sp>
              <p:nvSpPr>
                <p:cNvPr id="211" name="Rectangle 108"/>
                <p:cNvSpPr/>
                <p:nvPr/>
              </p:nvSpPr>
              <p:spPr>
                <a:xfrm>
                  <a:off x="6301440" y="297756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212" name="Rectangle 109"/>
                <p:cNvSpPr/>
                <p:nvPr/>
              </p:nvSpPr>
              <p:spPr>
                <a:xfrm>
                  <a:off x="6355800" y="2977560"/>
                  <a:ext cx="61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213" name="Rectangle 110"/>
                <p:cNvSpPr/>
                <p:nvPr/>
              </p:nvSpPr>
              <p:spPr>
                <a:xfrm>
                  <a:off x="6365160" y="2977560"/>
                  <a:ext cx="137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川</a:t>
                  </a:r>
                  <a:endParaRPr b="0" lang="en-US" sz="800" spc="-1" strike="noStrike">
                    <a:solidFill>
                      <a:srgbClr val="000000"/>
                    </a:solidFill>
                    <a:latin typeface="Arial"/>
                  </a:endParaRPr>
                </a:p>
              </p:txBody>
            </p:sp>
            <p:sp>
              <p:nvSpPr>
                <p:cNvPr id="214" name="Freeform 111"/>
                <p:cNvSpPr/>
                <p:nvPr/>
              </p:nvSpPr>
              <p:spPr>
                <a:xfrm>
                  <a:off x="6308640" y="2754360"/>
                  <a:ext cx="318240" cy="537840"/>
                </a:xfrm>
                <a:custGeom>
                  <a:avLst/>
                  <a:gdLst>
                    <a:gd name="textAreaLeft" fmla="*/ 0 w 318240"/>
                    <a:gd name="textAreaRight" fmla="*/ 318600 w 318240"/>
                    <a:gd name="textAreaTop" fmla="*/ 0 h 537840"/>
                    <a:gd name="textAreaBottom" fmla="*/ 537840 h 537840"/>
                  </a:gdLst>
                  <a:ahLst/>
                  <a:rect l="textAreaLeft" t="textAreaTop" r="textAreaRight" b="textAreaBottom"/>
                  <a:pathLst>
                    <a:path w="782" h="1374">
                      <a:moveTo>
                        <a:pt x="779" y="13"/>
                      </a:moveTo>
                      <a:lnTo>
                        <a:pt x="717" y="75"/>
                      </a:lnTo>
                      <a:lnTo>
                        <a:pt x="715" y="77"/>
                      </a:lnTo>
                      <a:lnTo>
                        <a:pt x="713" y="77"/>
                      </a:lnTo>
                      <a:lnTo>
                        <a:pt x="710" y="77"/>
                      </a:lnTo>
                      <a:lnTo>
                        <a:pt x="709" y="75"/>
                      </a:lnTo>
                      <a:lnTo>
                        <a:pt x="708" y="72"/>
                      </a:lnTo>
                      <a:lnTo>
                        <a:pt x="708" y="70"/>
                      </a:lnTo>
                      <a:lnTo>
                        <a:pt x="708" y="67"/>
                      </a:lnTo>
                      <a:lnTo>
                        <a:pt x="710" y="64"/>
                      </a:lnTo>
                      <a:lnTo>
                        <a:pt x="773" y="2"/>
                      </a:lnTo>
                      <a:lnTo>
                        <a:pt x="775" y="0"/>
                      </a:lnTo>
                      <a:lnTo>
                        <a:pt x="777" y="0"/>
                      </a:lnTo>
                      <a:lnTo>
                        <a:pt x="778" y="0"/>
                      </a:lnTo>
                      <a:lnTo>
                        <a:pt x="781" y="2"/>
                      </a:lnTo>
                      <a:lnTo>
                        <a:pt x="782" y="4"/>
                      </a:lnTo>
                      <a:lnTo>
                        <a:pt x="782" y="7"/>
                      </a:lnTo>
                      <a:lnTo>
                        <a:pt x="782" y="10"/>
                      </a:lnTo>
                      <a:lnTo>
                        <a:pt x="779" y="13"/>
                      </a:lnTo>
                      <a:close/>
                      <a:moveTo>
                        <a:pt x="673" y="121"/>
                      </a:moveTo>
                      <a:lnTo>
                        <a:pt x="672" y="121"/>
                      </a:lnTo>
                      <a:lnTo>
                        <a:pt x="671" y="122"/>
                      </a:lnTo>
                      <a:lnTo>
                        <a:pt x="668" y="122"/>
                      </a:lnTo>
                      <a:lnTo>
                        <a:pt x="666" y="122"/>
                      </a:lnTo>
                      <a:lnTo>
                        <a:pt x="664" y="121"/>
                      </a:lnTo>
                      <a:lnTo>
                        <a:pt x="663" y="118"/>
                      </a:lnTo>
                      <a:lnTo>
                        <a:pt x="663" y="115"/>
                      </a:lnTo>
                      <a:lnTo>
                        <a:pt x="664" y="112"/>
                      </a:lnTo>
                      <a:lnTo>
                        <a:pt x="665" y="109"/>
                      </a:lnTo>
                      <a:lnTo>
                        <a:pt x="667" y="108"/>
                      </a:lnTo>
                      <a:lnTo>
                        <a:pt x="670" y="108"/>
                      </a:lnTo>
                      <a:lnTo>
                        <a:pt x="672" y="109"/>
                      </a:lnTo>
                      <a:lnTo>
                        <a:pt x="673" y="111"/>
                      </a:lnTo>
                      <a:lnTo>
                        <a:pt x="674" y="114"/>
                      </a:lnTo>
                      <a:lnTo>
                        <a:pt x="674" y="116"/>
                      </a:lnTo>
                      <a:lnTo>
                        <a:pt x="674" y="119"/>
                      </a:lnTo>
                      <a:lnTo>
                        <a:pt x="673" y="121"/>
                      </a:lnTo>
                      <a:close/>
                      <a:moveTo>
                        <a:pt x="628" y="166"/>
                      </a:moveTo>
                      <a:lnTo>
                        <a:pt x="565" y="230"/>
                      </a:lnTo>
                      <a:lnTo>
                        <a:pt x="563" y="231"/>
                      </a:lnTo>
                      <a:lnTo>
                        <a:pt x="561" y="231"/>
                      </a:lnTo>
                      <a:lnTo>
                        <a:pt x="558" y="231"/>
                      </a:lnTo>
                      <a:lnTo>
                        <a:pt x="557" y="228"/>
                      </a:lnTo>
                      <a:lnTo>
                        <a:pt x="556" y="225"/>
                      </a:lnTo>
                      <a:lnTo>
                        <a:pt x="556" y="224"/>
                      </a:lnTo>
                      <a:lnTo>
                        <a:pt x="556" y="221"/>
                      </a:lnTo>
                      <a:lnTo>
                        <a:pt x="557" y="218"/>
                      </a:lnTo>
                      <a:lnTo>
                        <a:pt x="621" y="155"/>
                      </a:lnTo>
                      <a:lnTo>
                        <a:pt x="622" y="153"/>
                      </a:lnTo>
                      <a:lnTo>
                        <a:pt x="624" y="153"/>
                      </a:lnTo>
                      <a:lnTo>
                        <a:pt x="626" y="155"/>
                      </a:lnTo>
                      <a:lnTo>
                        <a:pt x="629" y="156"/>
                      </a:lnTo>
                      <a:lnTo>
                        <a:pt x="630" y="159"/>
                      </a:lnTo>
                      <a:lnTo>
                        <a:pt x="630" y="162"/>
                      </a:lnTo>
                      <a:lnTo>
                        <a:pt x="629" y="164"/>
                      </a:lnTo>
                      <a:lnTo>
                        <a:pt x="628" y="166"/>
                      </a:lnTo>
                      <a:close/>
                      <a:moveTo>
                        <a:pt x="520" y="275"/>
                      </a:moveTo>
                      <a:lnTo>
                        <a:pt x="520" y="275"/>
                      </a:lnTo>
                      <a:lnTo>
                        <a:pt x="518" y="276"/>
                      </a:lnTo>
                      <a:lnTo>
                        <a:pt x="516" y="276"/>
                      </a:lnTo>
                      <a:lnTo>
                        <a:pt x="514" y="275"/>
                      </a:lnTo>
                      <a:lnTo>
                        <a:pt x="512" y="274"/>
                      </a:lnTo>
                      <a:lnTo>
                        <a:pt x="511" y="271"/>
                      </a:lnTo>
                      <a:lnTo>
                        <a:pt x="511" y="268"/>
                      </a:lnTo>
                      <a:lnTo>
                        <a:pt x="512" y="266"/>
                      </a:lnTo>
                      <a:lnTo>
                        <a:pt x="513" y="264"/>
                      </a:lnTo>
                      <a:lnTo>
                        <a:pt x="515" y="262"/>
                      </a:lnTo>
                      <a:lnTo>
                        <a:pt x="518" y="262"/>
                      </a:lnTo>
                      <a:lnTo>
                        <a:pt x="519" y="264"/>
                      </a:lnTo>
                      <a:lnTo>
                        <a:pt x="521" y="265"/>
                      </a:lnTo>
                      <a:lnTo>
                        <a:pt x="522" y="268"/>
                      </a:lnTo>
                      <a:lnTo>
                        <a:pt x="522" y="271"/>
                      </a:lnTo>
                      <a:lnTo>
                        <a:pt x="522" y="272"/>
                      </a:lnTo>
                      <a:lnTo>
                        <a:pt x="520" y="275"/>
                      </a:lnTo>
                      <a:close/>
                      <a:moveTo>
                        <a:pt x="476" y="320"/>
                      </a:moveTo>
                      <a:lnTo>
                        <a:pt x="413" y="384"/>
                      </a:lnTo>
                      <a:lnTo>
                        <a:pt x="411" y="385"/>
                      </a:lnTo>
                      <a:lnTo>
                        <a:pt x="409" y="385"/>
                      </a:lnTo>
                      <a:lnTo>
                        <a:pt x="407" y="384"/>
                      </a:lnTo>
                      <a:lnTo>
                        <a:pt x="404" y="383"/>
                      </a:lnTo>
                      <a:lnTo>
                        <a:pt x="403" y="380"/>
                      </a:lnTo>
                      <a:lnTo>
                        <a:pt x="403" y="377"/>
                      </a:lnTo>
                      <a:lnTo>
                        <a:pt x="404" y="374"/>
                      </a:lnTo>
                      <a:lnTo>
                        <a:pt x="405" y="373"/>
                      </a:lnTo>
                      <a:lnTo>
                        <a:pt x="468" y="309"/>
                      </a:lnTo>
                      <a:lnTo>
                        <a:pt x="470" y="308"/>
                      </a:lnTo>
                      <a:lnTo>
                        <a:pt x="472" y="308"/>
                      </a:lnTo>
                      <a:lnTo>
                        <a:pt x="475" y="309"/>
                      </a:lnTo>
                      <a:lnTo>
                        <a:pt x="477" y="310"/>
                      </a:lnTo>
                      <a:lnTo>
                        <a:pt x="477" y="313"/>
                      </a:lnTo>
                      <a:lnTo>
                        <a:pt x="478" y="316"/>
                      </a:lnTo>
                      <a:lnTo>
                        <a:pt x="477" y="317"/>
                      </a:lnTo>
                      <a:lnTo>
                        <a:pt x="476" y="320"/>
                      </a:lnTo>
                      <a:close/>
                      <a:moveTo>
                        <a:pt x="370" y="428"/>
                      </a:moveTo>
                      <a:lnTo>
                        <a:pt x="370" y="428"/>
                      </a:lnTo>
                      <a:lnTo>
                        <a:pt x="368" y="431"/>
                      </a:lnTo>
                      <a:lnTo>
                        <a:pt x="366" y="431"/>
                      </a:lnTo>
                      <a:lnTo>
                        <a:pt x="363" y="431"/>
                      </a:lnTo>
                      <a:lnTo>
                        <a:pt x="362" y="431"/>
                      </a:lnTo>
                      <a:lnTo>
                        <a:pt x="360" y="428"/>
                      </a:lnTo>
                      <a:lnTo>
                        <a:pt x="359" y="425"/>
                      </a:lnTo>
                      <a:lnTo>
                        <a:pt x="359" y="422"/>
                      </a:lnTo>
                      <a:lnTo>
                        <a:pt x="360" y="419"/>
                      </a:lnTo>
                      <a:lnTo>
                        <a:pt x="362" y="418"/>
                      </a:lnTo>
                      <a:lnTo>
                        <a:pt x="365" y="417"/>
                      </a:lnTo>
                      <a:lnTo>
                        <a:pt x="367" y="417"/>
                      </a:lnTo>
                      <a:lnTo>
                        <a:pt x="368" y="418"/>
                      </a:lnTo>
                      <a:lnTo>
                        <a:pt x="370" y="421"/>
                      </a:lnTo>
                      <a:lnTo>
                        <a:pt x="370" y="422"/>
                      </a:lnTo>
                      <a:lnTo>
                        <a:pt x="370" y="425"/>
                      </a:lnTo>
                      <a:lnTo>
                        <a:pt x="370" y="428"/>
                      </a:lnTo>
                      <a:close/>
                      <a:moveTo>
                        <a:pt x="337" y="487"/>
                      </a:moveTo>
                      <a:lnTo>
                        <a:pt x="293" y="571"/>
                      </a:lnTo>
                      <a:lnTo>
                        <a:pt x="291" y="574"/>
                      </a:lnTo>
                      <a:lnTo>
                        <a:pt x="289" y="574"/>
                      </a:lnTo>
                      <a:lnTo>
                        <a:pt x="286" y="575"/>
                      </a:lnTo>
                      <a:lnTo>
                        <a:pt x="285" y="574"/>
                      </a:lnTo>
                      <a:lnTo>
                        <a:pt x="283" y="571"/>
                      </a:lnTo>
                      <a:lnTo>
                        <a:pt x="282" y="568"/>
                      </a:lnTo>
                      <a:lnTo>
                        <a:pt x="282" y="567"/>
                      </a:lnTo>
                      <a:lnTo>
                        <a:pt x="283" y="564"/>
                      </a:lnTo>
                      <a:lnTo>
                        <a:pt x="328" y="480"/>
                      </a:lnTo>
                      <a:lnTo>
                        <a:pt x="329" y="477"/>
                      </a:lnTo>
                      <a:lnTo>
                        <a:pt x="332" y="476"/>
                      </a:lnTo>
                      <a:lnTo>
                        <a:pt x="334" y="476"/>
                      </a:lnTo>
                      <a:lnTo>
                        <a:pt x="336" y="477"/>
                      </a:lnTo>
                      <a:lnTo>
                        <a:pt x="337" y="480"/>
                      </a:lnTo>
                      <a:lnTo>
                        <a:pt x="338" y="482"/>
                      </a:lnTo>
                      <a:lnTo>
                        <a:pt x="338" y="485"/>
                      </a:lnTo>
                      <a:lnTo>
                        <a:pt x="337" y="487"/>
                      </a:lnTo>
                      <a:close/>
                      <a:moveTo>
                        <a:pt x="260" y="632"/>
                      </a:moveTo>
                      <a:lnTo>
                        <a:pt x="260" y="632"/>
                      </a:lnTo>
                      <a:lnTo>
                        <a:pt x="259" y="633"/>
                      </a:lnTo>
                      <a:lnTo>
                        <a:pt x="257" y="635"/>
                      </a:lnTo>
                      <a:lnTo>
                        <a:pt x="255" y="635"/>
                      </a:lnTo>
                      <a:lnTo>
                        <a:pt x="252" y="633"/>
                      </a:lnTo>
                      <a:lnTo>
                        <a:pt x="251" y="630"/>
                      </a:lnTo>
                      <a:lnTo>
                        <a:pt x="250" y="629"/>
                      </a:lnTo>
                      <a:lnTo>
                        <a:pt x="250" y="626"/>
                      </a:lnTo>
                      <a:lnTo>
                        <a:pt x="251" y="623"/>
                      </a:lnTo>
                      <a:lnTo>
                        <a:pt x="252" y="620"/>
                      </a:lnTo>
                      <a:lnTo>
                        <a:pt x="255" y="620"/>
                      </a:lnTo>
                      <a:lnTo>
                        <a:pt x="257" y="620"/>
                      </a:lnTo>
                      <a:lnTo>
                        <a:pt x="259" y="622"/>
                      </a:lnTo>
                      <a:lnTo>
                        <a:pt x="260" y="623"/>
                      </a:lnTo>
                      <a:lnTo>
                        <a:pt x="261" y="626"/>
                      </a:lnTo>
                      <a:lnTo>
                        <a:pt x="261" y="629"/>
                      </a:lnTo>
                      <a:lnTo>
                        <a:pt x="260" y="632"/>
                      </a:lnTo>
                      <a:close/>
                      <a:moveTo>
                        <a:pt x="229" y="691"/>
                      </a:moveTo>
                      <a:lnTo>
                        <a:pt x="183" y="775"/>
                      </a:lnTo>
                      <a:lnTo>
                        <a:pt x="182" y="776"/>
                      </a:lnTo>
                      <a:lnTo>
                        <a:pt x="180" y="778"/>
                      </a:lnTo>
                      <a:lnTo>
                        <a:pt x="178" y="778"/>
                      </a:lnTo>
                      <a:lnTo>
                        <a:pt x="175" y="776"/>
                      </a:lnTo>
                      <a:lnTo>
                        <a:pt x="174" y="775"/>
                      </a:lnTo>
                      <a:lnTo>
                        <a:pt x="173" y="772"/>
                      </a:lnTo>
                      <a:lnTo>
                        <a:pt x="173" y="769"/>
                      </a:lnTo>
                      <a:lnTo>
                        <a:pt x="174" y="766"/>
                      </a:lnTo>
                      <a:lnTo>
                        <a:pt x="219" y="683"/>
                      </a:lnTo>
                      <a:lnTo>
                        <a:pt x="221" y="681"/>
                      </a:lnTo>
                      <a:lnTo>
                        <a:pt x="223" y="680"/>
                      </a:lnTo>
                      <a:lnTo>
                        <a:pt x="225" y="680"/>
                      </a:lnTo>
                      <a:lnTo>
                        <a:pt x="227" y="681"/>
                      </a:lnTo>
                      <a:lnTo>
                        <a:pt x="229" y="683"/>
                      </a:lnTo>
                      <a:lnTo>
                        <a:pt x="230" y="686"/>
                      </a:lnTo>
                      <a:lnTo>
                        <a:pt x="230" y="688"/>
                      </a:lnTo>
                      <a:lnTo>
                        <a:pt x="229" y="691"/>
                      </a:lnTo>
                      <a:close/>
                      <a:moveTo>
                        <a:pt x="151" y="834"/>
                      </a:moveTo>
                      <a:lnTo>
                        <a:pt x="151" y="834"/>
                      </a:lnTo>
                      <a:lnTo>
                        <a:pt x="149" y="836"/>
                      </a:lnTo>
                      <a:lnTo>
                        <a:pt x="148" y="837"/>
                      </a:lnTo>
                      <a:lnTo>
                        <a:pt x="146" y="837"/>
                      </a:lnTo>
                      <a:lnTo>
                        <a:pt x="144" y="836"/>
                      </a:lnTo>
                      <a:lnTo>
                        <a:pt x="141" y="834"/>
                      </a:lnTo>
                      <a:lnTo>
                        <a:pt x="141" y="831"/>
                      </a:lnTo>
                      <a:lnTo>
                        <a:pt x="141" y="829"/>
                      </a:lnTo>
                      <a:lnTo>
                        <a:pt x="142" y="826"/>
                      </a:lnTo>
                      <a:lnTo>
                        <a:pt x="144" y="824"/>
                      </a:lnTo>
                      <a:lnTo>
                        <a:pt x="146" y="823"/>
                      </a:lnTo>
                      <a:lnTo>
                        <a:pt x="148" y="823"/>
                      </a:lnTo>
                      <a:lnTo>
                        <a:pt x="150" y="824"/>
                      </a:lnTo>
                      <a:lnTo>
                        <a:pt x="151" y="826"/>
                      </a:lnTo>
                      <a:lnTo>
                        <a:pt x="153" y="829"/>
                      </a:lnTo>
                      <a:lnTo>
                        <a:pt x="153" y="831"/>
                      </a:lnTo>
                      <a:lnTo>
                        <a:pt x="151" y="834"/>
                      </a:lnTo>
                      <a:close/>
                      <a:moveTo>
                        <a:pt x="132" y="899"/>
                      </a:moveTo>
                      <a:lnTo>
                        <a:pt x="107" y="996"/>
                      </a:lnTo>
                      <a:lnTo>
                        <a:pt x="106" y="997"/>
                      </a:lnTo>
                      <a:lnTo>
                        <a:pt x="104" y="1000"/>
                      </a:lnTo>
                      <a:lnTo>
                        <a:pt x="103" y="1000"/>
                      </a:lnTo>
                      <a:lnTo>
                        <a:pt x="100" y="1000"/>
                      </a:lnTo>
                      <a:lnTo>
                        <a:pt x="98" y="999"/>
                      </a:lnTo>
                      <a:lnTo>
                        <a:pt x="97" y="996"/>
                      </a:lnTo>
                      <a:lnTo>
                        <a:pt x="96" y="993"/>
                      </a:lnTo>
                      <a:lnTo>
                        <a:pt x="96" y="990"/>
                      </a:lnTo>
                      <a:lnTo>
                        <a:pt x="121" y="895"/>
                      </a:lnTo>
                      <a:lnTo>
                        <a:pt x="122" y="892"/>
                      </a:lnTo>
                      <a:lnTo>
                        <a:pt x="124" y="891"/>
                      </a:lnTo>
                      <a:lnTo>
                        <a:pt x="127" y="889"/>
                      </a:lnTo>
                      <a:lnTo>
                        <a:pt x="129" y="891"/>
                      </a:lnTo>
                      <a:lnTo>
                        <a:pt x="130" y="892"/>
                      </a:lnTo>
                      <a:lnTo>
                        <a:pt x="132" y="894"/>
                      </a:lnTo>
                      <a:lnTo>
                        <a:pt x="132" y="897"/>
                      </a:lnTo>
                      <a:lnTo>
                        <a:pt x="132" y="899"/>
                      </a:lnTo>
                      <a:close/>
                      <a:moveTo>
                        <a:pt x="89" y="1064"/>
                      </a:moveTo>
                      <a:lnTo>
                        <a:pt x="89" y="1064"/>
                      </a:lnTo>
                      <a:lnTo>
                        <a:pt x="88" y="1066"/>
                      </a:lnTo>
                      <a:lnTo>
                        <a:pt x="87" y="1068"/>
                      </a:lnTo>
                      <a:lnTo>
                        <a:pt x="85" y="1068"/>
                      </a:lnTo>
                      <a:lnTo>
                        <a:pt x="82" y="1068"/>
                      </a:lnTo>
                      <a:lnTo>
                        <a:pt x="80" y="1066"/>
                      </a:lnTo>
                      <a:lnTo>
                        <a:pt x="79" y="1065"/>
                      </a:lnTo>
                      <a:lnTo>
                        <a:pt x="78" y="1062"/>
                      </a:lnTo>
                      <a:lnTo>
                        <a:pt x="79" y="1059"/>
                      </a:lnTo>
                      <a:lnTo>
                        <a:pt x="80" y="1057"/>
                      </a:lnTo>
                      <a:lnTo>
                        <a:pt x="81" y="1055"/>
                      </a:lnTo>
                      <a:lnTo>
                        <a:pt x="83" y="1054"/>
                      </a:lnTo>
                      <a:lnTo>
                        <a:pt x="86" y="1055"/>
                      </a:lnTo>
                      <a:lnTo>
                        <a:pt x="88" y="1057"/>
                      </a:lnTo>
                      <a:lnTo>
                        <a:pt x="89" y="1058"/>
                      </a:lnTo>
                      <a:lnTo>
                        <a:pt x="90" y="1061"/>
                      </a:lnTo>
                      <a:lnTo>
                        <a:pt x="89" y="1064"/>
                      </a:lnTo>
                      <a:close/>
                      <a:moveTo>
                        <a:pt x="72" y="1132"/>
                      </a:moveTo>
                      <a:lnTo>
                        <a:pt x="47" y="1228"/>
                      </a:lnTo>
                      <a:lnTo>
                        <a:pt x="46" y="1231"/>
                      </a:lnTo>
                      <a:lnTo>
                        <a:pt x="44" y="1232"/>
                      </a:lnTo>
                      <a:lnTo>
                        <a:pt x="43" y="1232"/>
                      </a:lnTo>
                      <a:lnTo>
                        <a:pt x="40" y="1232"/>
                      </a:lnTo>
                      <a:lnTo>
                        <a:pt x="38" y="1231"/>
                      </a:lnTo>
                      <a:lnTo>
                        <a:pt x="37" y="1229"/>
                      </a:lnTo>
                      <a:lnTo>
                        <a:pt x="36" y="1226"/>
                      </a:lnTo>
                      <a:lnTo>
                        <a:pt x="36" y="1224"/>
                      </a:lnTo>
                      <a:lnTo>
                        <a:pt x="61" y="1127"/>
                      </a:lnTo>
                      <a:lnTo>
                        <a:pt x="62" y="1125"/>
                      </a:lnTo>
                      <a:lnTo>
                        <a:pt x="64" y="1123"/>
                      </a:lnTo>
                      <a:lnTo>
                        <a:pt x="65" y="1123"/>
                      </a:lnTo>
                      <a:lnTo>
                        <a:pt x="69" y="1123"/>
                      </a:lnTo>
                      <a:lnTo>
                        <a:pt x="70" y="1125"/>
                      </a:lnTo>
                      <a:lnTo>
                        <a:pt x="71" y="1126"/>
                      </a:lnTo>
                      <a:lnTo>
                        <a:pt x="72" y="1129"/>
                      </a:lnTo>
                      <a:lnTo>
                        <a:pt x="72" y="1132"/>
                      </a:lnTo>
                      <a:close/>
                      <a:moveTo>
                        <a:pt x="29" y="1296"/>
                      </a:moveTo>
                      <a:lnTo>
                        <a:pt x="29" y="1296"/>
                      </a:lnTo>
                      <a:lnTo>
                        <a:pt x="28" y="1299"/>
                      </a:lnTo>
                      <a:lnTo>
                        <a:pt x="27" y="1300"/>
                      </a:lnTo>
                      <a:lnTo>
                        <a:pt x="24" y="1302"/>
                      </a:lnTo>
                      <a:lnTo>
                        <a:pt x="22" y="1302"/>
                      </a:lnTo>
                      <a:lnTo>
                        <a:pt x="20" y="1300"/>
                      </a:lnTo>
                      <a:lnTo>
                        <a:pt x="19" y="1297"/>
                      </a:lnTo>
                      <a:lnTo>
                        <a:pt x="18" y="1294"/>
                      </a:lnTo>
                      <a:lnTo>
                        <a:pt x="19" y="1292"/>
                      </a:lnTo>
                      <a:lnTo>
                        <a:pt x="20" y="1289"/>
                      </a:lnTo>
                      <a:lnTo>
                        <a:pt x="21" y="1287"/>
                      </a:lnTo>
                      <a:lnTo>
                        <a:pt x="23" y="1287"/>
                      </a:lnTo>
                      <a:lnTo>
                        <a:pt x="26" y="1287"/>
                      </a:lnTo>
                      <a:lnTo>
                        <a:pt x="28" y="1289"/>
                      </a:lnTo>
                      <a:lnTo>
                        <a:pt x="29" y="1290"/>
                      </a:lnTo>
                      <a:lnTo>
                        <a:pt x="30" y="1293"/>
                      </a:lnTo>
                      <a:lnTo>
                        <a:pt x="29" y="1296"/>
                      </a:lnTo>
                      <a:close/>
                      <a:moveTo>
                        <a:pt x="12" y="1365"/>
                      </a:moveTo>
                      <a:lnTo>
                        <a:pt x="11" y="1368"/>
                      </a:lnTo>
                      <a:lnTo>
                        <a:pt x="10" y="1371"/>
                      </a:lnTo>
                      <a:lnTo>
                        <a:pt x="7" y="1372"/>
                      </a:lnTo>
                      <a:lnTo>
                        <a:pt x="6" y="1374"/>
                      </a:lnTo>
                      <a:lnTo>
                        <a:pt x="4" y="1372"/>
                      </a:lnTo>
                      <a:lnTo>
                        <a:pt x="2" y="1371"/>
                      </a:lnTo>
                      <a:lnTo>
                        <a:pt x="1" y="1370"/>
                      </a:lnTo>
                      <a:lnTo>
                        <a:pt x="0" y="1367"/>
                      </a:lnTo>
                      <a:lnTo>
                        <a:pt x="0" y="1364"/>
                      </a:lnTo>
                      <a:lnTo>
                        <a:pt x="1" y="1361"/>
                      </a:lnTo>
                      <a:lnTo>
                        <a:pt x="2" y="1358"/>
                      </a:lnTo>
                      <a:lnTo>
                        <a:pt x="4" y="1357"/>
                      </a:lnTo>
                      <a:lnTo>
                        <a:pt x="5" y="1355"/>
                      </a:lnTo>
                      <a:lnTo>
                        <a:pt x="7" y="1355"/>
                      </a:lnTo>
                      <a:lnTo>
                        <a:pt x="10" y="1357"/>
                      </a:lnTo>
                      <a:lnTo>
                        <a:pt x="11" y="1360"/>
                      </a:lnTo>
                      <a:lnTo>
                        <a:pt x="12" y="1362"/>
                      </a:lnTo>
                      <a:lnTo>
                        <a:pt x="12" y="1365"/>
                      </a:lnTo>
                      <a:close/>
                    </a:path>
                  </a:pathLst>
                </a:custGeom>
                <a:solidFill>
                  <a:srgbClr val="008000"/>
                </a:solidFill>
                <a:ln w="1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12"/>
                <p:cNvSpPr/>
                <p:nvPr/>
              </p:nvSpPr>
              <p:spPr>
                <a:xfrm>
                  <a:off x="5326560" y="2902320"/>
                  <a:ext cx="1148760" cy="88920"/>
                </a:xfrm>
                <a:custGeom>
                  <a:avLst/>
                  <a:gdLst>
                    <a:gd name="textAreaLeft" fmla="*/ 0 w 1148760"/>
                    <a:gd name="textAreaRight" fmla="*/ 1149120 w 1148760"/>
                    <a:gd name="textAreaTop" fmla="*/ 0 h 88920"/>
                    <a:gd name="textAreaBottom" fmla="*/ 89280 h 88920"/>
                  </a:gdLst>
                  <a:ahLst/>
                  <a:rect l="textAreaLeft" t="textAreaTop" r="textAreaRight" b="textAreaBottom"/>
                  <a:pathLst>
                    <a:path w="2824" h="227">
                      <a:moveTo>
                        <a:pt x="2818" y="14"/>
                      </a:moveTo>
                      <a:lnTo>
                        <a:pt x="2737" y="20"/>
                      </a:lnTo>
                      <a:lnTo>
                        <a:pt x="2735" y="19"/>
                      </a:lnTo>
                      <a:lnTo>
                        <a:pt x="2734" y="17"/>
                      </a:lnTo>
                      <a:lnTo>
                        <a:pt x="2733" y="16"/>
                      </a:lnTo>
                      <a:lnTo>
                        <a:pt x="2732" y="13"/>
                      </a:lnTo>
                      <a:lnTo>
                        <a:pt x="2732" y="10"/>
                      </a:lnTo>
                      <a:lnTo>
                        <a:pt x="2733" y="7"/>
                      </a:lnTo>
                      <a:lnTo>
                        <a:pt x="2735" y="6"/>
                      </a:lnTo>
                      <a:lnTo>
                        <a:pt x="2737" y="5"/>
                      </a:lnTo>
                      <a:lnTo>
                        <a:pt x="2818" y="0"/>
                      </a:lnTo>
                      <a:lnTo>
                        <a:pt x="2820" y="0"/>
                      </a:lnTo>
                      <a:lnTo>
                        <a:pt x="2823" y="2"/>
                      </a:lnTo>
                      <a:lnTo>
                        <a:pt x="2824" y="5"/>
                      </a:lnTo>
                      <a:lnTo>
                        <a:pt x="2824" y="7"/>
                      </a:lnTo>
                      <a:lnTo>
                        <a:pt x="2824" y="10"/>
                      </a:lnTo>
                      <a:lnTo>
                        <a:pt x="2823" y="12"/>
                      </a:lnTo>
                      <a:lnTo>
                        <a:pt x="2820" y="13"/>
                      </a:lnTo>
                      <a:lnTo>
                        <a:pt x="2818" y="14"/>
                      </a:lnTo>
                      <a:close/>
                      <a:moveTo>
                        <a:pt x="2681" y="23"/>
                      </a:moveTo>
                      <a:lnTo>
                        <a:pt x="2681" y="23"/>
                      </a:lnTo>
                      <a:lnTo>
                        <a:pt x="2679" y="23"/>
                      </a:lnTo>
                      <a:lnTo>
                        <a:pt x="2676" y="22"/>
                      </a:lnTo>
                      <a:lnTo>
                        <a:pt x="2675" y="19"/>
                      </a:lnTo>
                      <a:lnTo>
                        <a:pt x="2674" y="16"/>
                      </a:lnTo>
                      <a:lnTo>
                        <a:pt x="2675" y="13"/>
                      </a:lnTo>
                      <a:lnTo>
                        <a:pt x="2676" y="12"/>
                      </a:lnTo>
                      <a:lnTo>
                        <a:pt x="2677" y="9"/>
                      </a:lnTo>
                      <a:lnTo>
                        <a:pt x="2680" y="9"/>
                      </a:lnTo>
                      <a:lnTo>
                        <a:pt x="2682" y="9"/>
                      </a:lnTo>
                      <a:lnTo>
                        <a:pt x="2684" y="10"/>
                      </a:lnTo>
                      <a:lnTo>
                        <a:pt x="2685" y="13"/>
                      </a:lnTo>
                      <a:lnTo>
                        <a:pt x="2686" y="16"/>
                      </a:lnTo>
                      <a:lnTo>
                        <a:pt x="2685" y="19"/>
                      </a:lnTo>
                      <a:lnTo>
                        <a:pt x="2684" y="20"/>
                      </a:lnTo>
                      <a:lnTo>
                        <a:pt x="2683" y="23"/>
                      </a:lnTo>
                      <a:lnTo>
                        <a:pt x="2681" y="23"/>
                      </a:lnTo>
                      <a:close/>
                      <a:moveTo>
                        <a:pt x="2623" y="27"/>
                      </a:moveTo>
                      <a:lnTo>
                        <a:pt x="2543" y="31"/>
                      </a:lnTo>
                      <a:lnTo>
                        <a:pt x="2540" y="31"/>
                      </a:lnTo>
                      <a:lnTo>
                        <a:pt x="2538" y="30"/>
                      </a:lnTo>
                      <a:lnTo>
                        <a:pt x="2537" y="27"/>
                      </a:lnTo>
                      <a:lnTo>
                        <a:pt x="2537" y="24"/>
                      </a:lnTo>
                      <a:lnTo>
                        <a:pt x="2537" y="22"/>
                      </a:lnTo>
                      <a:lnTo>
                        <a:pt x="2538" y="20"/>
                      </a:lnTo>
                      <a:lnTo>
                        <a:pt x="2539" y="19"/>
                      </a:lnTo>
                      <a:lnTo>
                        <a:pt x="2541" y="17"/>
                      </a:lnTo>
                      <a:lnTo>
                        <a:pt x="2622" y="13"/>
                      </a:lnTo>
                      <a:lnTo>
                        <a:pt x="2624" y="13"/>
                      </a:lnTo>
                      <a:lnTo>
                        <a:pt x="2626" y="14"/>
                      </a:lnTo>
                      <a:lnTo>
                        <a:pt x="2628" y="16"/>
                      </a:lnTo>
                      <a:lnTo>
                        <a:pt x="2629" y="19"/>
                      </a:lnTo>
                      <a:lnTo>
                        <a:pt x="2628" y="22"/>
                      </a:lnTo>
                      <a:lnTo>
                        <a:pt x="2626" y="24"/>
                      </a:lnTo>
                      <a:lnTo>
                        <a:pt x="2625" y="26"/>
                      </a:lnTo>
                      <a:lnTo>
                        <a:pt x="2623" y="27"/>
                      </a:lnTo>
                      <a:close/>
                      <a:moveTo>
                        <a:pt x="2485" y="36"/>
                      </a:moveTo>
                      <a:lnTo>
                        <a:pt x="2485" y="36"/>
                      </a:lnTo>
                      <a:lnTo>
                        <a:pt x="2482" y="34"/>
                      </a:lnTo>
                      <a:lnTo>
                        <a:pt x="2480" y="33"/>
                      </a:lnTo>
                      <a:lnTo>
                        <a:pt x="2479" y="31"/>
                      </a:lnTo>
                      <a:lnTo>
                        <a:pt x="2479" y="29"/>
                      </a:lnTo>
                      <a:lnTo>
                        <a:pt x="2479" y="26"/>
                      </a:lnTo>
                      <a:lnTo>
                        <a:pt x="2480" y="23"/>
                      </a:lnTo>
                      <a:lnTo>
                        <a:pt x="2482" y="22"/>
                      </a:lnTo>
                      <a:lnTo>
                        <a:pt x="2485" y="22"/>
                      </a:lnTo>
                      <a:lnTo>
                        <a:pt x="2487" y="22"/>
                      </a:lnTo>
                      <a:lnTo>
                        <a:pt x="2488" y="23"/>
                      </a:lnTo>
                      <a:lnTo>
                        <a:pt x="2490" y="26"/>
                      </a:lnTo>
                      <a:lnTo>
                        <a:pt x="2490" y="29"/>
                      </a:lnTo>
                      <a:lnTo>
                        <a:pt x="2490" y="30"/>
                      </a:lnTo>
                      <a:lnTo>
                        <a:pt x="2489" y="33"/>
                      </a:lnTo>
                      <a:lnTo>
                        <a:pt x="2487" y="34"/>
                      </a:lnTo>
                      <a:lnTo>
                        <a:pt x="2485" y="36"/>
                      </a:lnTo>
                      <a:close/>
                      <a:moveTo>
                        <a:pt x="2427" y="39"/>
                      </a:moveTo>
                      <a:lnTo>
                        <a:pt x="2426" y="39"/>
                      </a:lnTo>
                      <a:lnTo>
                        <a:pt x="2348" y="50"/>
                      </a:lnTo>
                      <a:lnTo>
                        <a:pt x="2345" y="50"/>
                      </a:lnTo>
                      <a:lnTo>
                        <a:pt x="2343" y="48"/>
                      </a:lnTo>
                      <a:lnTo>
                        <a:pt x="2342" y="47"/>
                      </a:lnTo>
                      <a:lnTo>
                        <a:pt x="2341" y="44"/>
                      </a:lnTo>
                      <a:lnTo>
                        <a:pt x="2342" y="41"/>
                      </a:lnTo>
                      <a:lnTo>
                        <a:pt x="2343" y="39"/>
                      </a:lnTo>
                      <a:lnTo>
                        <a:pt x="2344" y="37"/>
                      </a:lnTo>
                      <a:lnTo>
                        <a:pt x="2346" y="36"/>
                      </a:lnTo>
                      <a:lnTo>
                        <a:pt x="2426" y="24"/>
                      </a:lnTo>
                      <a:lnTo>
                        <a:pt x="2427" y="24"/>
                      </a:lnTo>
                      <a:lnTo>
                        <a:pt x="2429" y="26"/>
                      </a:lnTo>
                      <a:lnTo>
                        <a:pt x="2431" y="27"/>
                      </a:lnTo>
                      <a:lnTo>
                        <a:pt x="2433" y="29"/>
                      </a:lnTo>
                      <a:lnTo>
                        <a:pt x="2433" y="31"/>
                      </a:lnTo>
                      <a:lnTo>
                        <a:pt x="2433" y="34"/>
                      </a:lnTo>
                      <a:lnTo>
                        <a:pt x="2431" y="37"/>
                      </a:lnTo>
                      <a:lnTo>
                        <a:pt x="2429" y="39"/>
                      </a:lnTo>
                      <a:lnTo>
                        <a:pt x="2427" y="39"/>
                      </a:lnTo>
                      <a:close/>
                      <a:moveTo>
                        <a:pt x="2291" y="58"/>
                      </a:moveTo>
                      <a:lnTo>
                        <a:pt x="2291" y="58"/>
                      </a:lnTo>
                      <a:lnTo>
                        <a:pt x="2289" y="58"/>
                      </a:lnTo>
                      <a:lnTo>
                        <a:pt x="2286" y="57"/>
                      </a:lnTo>
                      <a:lnTo>
                        <a:pt x="2285" y="56"/>
                      </a:lnTo>
                      <a:lnTo>
                        <a:pt x="2284" y="53"/>
                      </a:lnTo>
                      <a:lnTo>
                        <a:pt x="2284" y="50"/>
                      </a:lnTo>
                      <a:lnTo>
                        <a:pt x="2285" y="47"/>
                      </a:lnTo>
                      <a:lnTo>
                        <a:pt x="2286" y="46"/>
                      </a:lnTo>
                      <a:lnTo>
                        <a:pt x="2289" y="44"/>
                      </a:lnTo>
                      <a:lnTo>
                        <a:pt x="2291" y="44"/>
                      </a:lnTo>
                      <a:lnTo>
                        <a:pt x="2293" y="46"/>
                      </a:lnTo>
                      <a:lnTo>
                        <a:pt x="2294" y="48"/>
                      </a:lnTo>
                      <a:lnTo>
                        <a:pt x="2295" y="51"/>
                      </a:lnTo>
                      <a:lnTo>
                        <a:pt x="2295" y="54"/>
                      </a:lnTo>
                      <a:lnTo>
                        <a:pt x="2294" y="56"/>
                      </a:lnTo>
                      <a:lnTo>
                        <a:pt x="2293" y="58"/>
                      </a:lnTo>
                      <a:lnTo>
                        <a:pt x="2291" y="58"/>
                      </a:lnTo>
                      <a:close/>
                      <a:moveTo>
                        <a:pt x="2233" y="67"/>
                      </a:moveTo>
                      <a:lnTo>
                        <a:pt x="2154" y="78"/>
                      </a:lnTo>
                      <a:lnTo>
                        <a:pt x="2150" y="78"/>
                      </a:lnTo>
                      <a:lnTo>
                        <a:pt x="2149" y="77"/>
                      </a:lnTo>
                      <a:lnTo>
                        <a:pt x="2147" y="75"/>
                      </a:lnTo>
                      <a:lnTo>
                        <a:pt x="2147" y="73"/>
                      </a:lnTo>
                      <a:lnTo>
                        <a:pt x="2147" y="70"/>
                      </a:lnTo>
                      <a:lnTo>
                        <a:pt x="2148" y="67"/>
                      </a:lnTo>
                      <a:lnTo>
                        <a:pt x="2149" y="65"/>
                      </a:lnTo>
                      <a:lnTo>
                        <a:pt x="2151" y="64"/>
                      </a:lnTo>
                      <a:lnTo>
                        <a:pt x="2232" y="53"/>
                      </a:lnTo>
                      <a:lnTo>
                        <a:pt x="2234" y="53"/>
                      </a:lnTo>
                      <a:lnTo>
                        <a:pt x="2236" y="54"/>
                      </a:lnTo>
                      <a:lnTo>
                        <a:pt x="2238" y="56"/>
                      </a:lnTo>
                      <a:lnTo>
                        <a:pt x="2239" y="58"/>
                      </a:lnTo>
                      <a:lnTo>
                        <a:pt x="2238" y="61"/>
                      </a:lnTo>
                      <a:lnTo>
                        <a:pt x="2238" y="64"/>
                      </a:lnTo>
                      <a:lnTo>
                        <a:pt x="2235" y="65"/>
                      </a:lnTo>
                      <a:lnTo>
                        <a:pt x="2233" y="67"/>
                      </a:lnTo>
                      <a:close/>
                      <a:moveTo>
                        <a:pt x="2096" y="87"/>
                      </a:moveTo>
                      <a:lnTo>
                        <a:pt x="2096" y="87"/>
                      </a:lnTo>
                      <a:lnTo>
                        <a:pt x="2094" y="87"/>
                      </a:lnTo>
                      <a:lnTo>
                        <a:pt x="2091" y="85"/>
                      </a:lnTo>
                      <a:lnTo>
                        <a:pt x="2090" y="82"/>
                      </a:lnTo>
                      <a:lnTo>
                        <a:pt x="2089" y="81"/>
                      </a:lnTo>
                      <a:lnTo>
                        <a:pt x="2090" y="77"/>
                      </a:lnTo>
                      <a:lnTo>
                        <a:pt x="2090" y="75"/>
                      </a:lnTo>
                      <a:lnTo>
                        <a:pt x="2092" y="73"/>
                      </a:lnTo>
                      <a:lnTo>
                        <a:pt x="2095" y="73"/>
                      </a:lnTo>
                      <a:lnTo>
                        <a:pt x="2097" y="73"/>
                      </a:lnTo>
                      <a:lnTo>
                        <a:pt x="2099" y="74"/>
                      </a:lnTo>
                      <a:lnTo>
                        <a:pt x="2100" y="75"/>
                      </a:lnTo>
                      <a:lnTo>
                        <a:pt x="2102" y="78"/>
                      </a:lnTo>
                      <a:lnTo>
                        <a:pt x="2100" y="81"/>
                      </a:lnTo>
                      <a:lnTo>
                        <a:pt x="2099" y="84"/>
                      </a:lnTo>
                      <a:lnTo>
                        <a:pt x="2098" y="85"/>
                      </a:lnTo>
                      <a:lnTo>
                        <a:pt x="2096" y="87"/>
                      </a:lnTo>
                      <a:close/>
                      <a:moveTo>
                        <a:pt x="2039" y="95"/>
                      </a:moveTo>
                      <a:lnTo>
                        <a:pt x="1959" y="107"/>
                      </a:lnTo>
                      <a:lnTo>
                        <a:pt x="1956" y="107"/>
                      </a:lnTo>
                      <a:lnTo>
                        <a:pt x="1954" y="105"/>
                      </a:lnTo>
                      <a:lnTo>
                        <a:pt x="1953" y="102"/>
                      </a:lnTo>
                      <a:lnTo>
                        <a:pt x="1952" y="99"/>
                      </a:lnTo>
                      <a:lnTo>
                        <a:pt x="1952" y="97"/>
                      </a:lnTo>
                      <a:lnTo>
                        <a:pt x="1953" y="95"/>
                      </a:lnTo>
                      <a:lnTo>
                        <a:pt x="1955" y="92"/>
                      </a:lnTo>
                      <a:lnTo>
                        <a:pt x="1958" y="92"/>
                      </a:lnTo>
                      <a:lnTo>
                        <a:pt x="2037" y="81"/>
                      </a:lnTo>
                      <a:lnTo>
                        <a:pt x="2039" y="81"/>
                      </a:lnTo>
                      <a:lnTo>
                        <a:pt x="2041" y="82"/>
                      </a:lnTo>
                      <a:lnTo>
                        <a:pt x="2043" y="84"/>
                      </a:lnTo>
                      <a:lnTo>
                        <a:pt x="2044" y="87"/>
                      </a:lnTo>
                      <a:lnTo>
                        <a:pt x="2044" y="90"/>
                      </a:lnTo>
                      <a:lnTo>
                        <a:pt x="2043" y="92"/>
                      </a:lnTo>
                      <a:lnTo>
                        <a:pt x="2040" y="94"/>
                      </a:lnTo>
                      <a:lnTo>
                        <a:pt x="2039" y="95"/>
                      </a:lnTo>
                      <a:close/>
                      <a:moveTo>
                        <a:pt x="1901" y="115"/>
                      </a:moveTo>
                      <a:lnTo>
                        <a:pt x="1901" y="115"/>
                      </a:lnTo>
                      <a:lnTo>
                        <a:pt x="1899" y="115"/>
                      </a:lnTo>
                      <a:lnTo>
                        <a:pt x="1897" y="114"/>
                      </a:lnTo>
                      <a:lnTo>
                        <a:pt x="1895" y="111"/>
                      </a:lnTo>
                      <a:lnTo>
                        <a:pt x="1895" y="108"/>
                      </a:lnTo>
                      <a:lnTo>
                        <a:pt x="1895" y="105"/>
                      </a:lnTo>
                      <a:lnTo>
                        <a:pt x="1896" y="102"/>
                      </a:lnTo>
                      <a:lnTo>
                        <a:pt x="1897" y="101"/>
                      </a:lnTo>
                      <a:lnTo>
                        <a:pt x="1900" y="101"/>
                      </a:lnTo>
                      <a:lnTo>
                        <a:pt x="1902" y="101"/>
                      </a:lnTo>
                      <a:lnTo>
                        <a:pt x="1904" y="102"/>
                      </a:lnTo>
                      <a:lnTo>
                        <a:pt x="1905" y="104"/>
                      </a:lnTo>
                      <a:lnTo>
                        <a:pt x="1907" y="107"/>
                      </a:lnTo>
                      <a:lnTo>
                        <a:pt x="1907" y="109"/>
                      </a:lnTo>
                      <a:lnTo>
                        <a:pt x="1905" y="112"/>
                      </a:lnTo>
                      <a:lnTo>
                        <a:pt x="1903" y="114"/>
                      </a:lnTo>
                      <a:lnTo>
                        <a:pt x="1901" y="115"/>
                      </a:lnTo>
                      <a:close/>
                      <a:moveTo>
                        <a:pt x="1844" y="124"/>
                      </a:moveTo>
                      <a:lnTo>
                        <a:pt x="1764" y="135"/>
                      </a:lnTo>
                      <a:lnTo>
                        <a:pt x="1761" y="135"/>
                      </a:lnTo>
                      <a:lnTo>
                        <a:pt x="1760" y="133"/>
                      </a:lnTo>
                      <a:lnTo>
                        <a:pt x="1758" y="131"/>
                      </a:lnTo>
                      <a:lnTo>
                        <a:pt x="1758" y="128"/>
                      </a:lnTo>
                      <a:lnTo>
                        <a:pt x="1758" y="125"/>
                      </a:lnTo>
                      <a:lnTo>
                        <a:pt x="1759" y="122"/>
                      </a:lnTo>
                      <a:lnTo>
                        <a:pt x="1760" y="121"/>
                      </a:lnTo>
                      <a:lnTo>
                        <a:pt x="1763" y="121"/>
                      </a:lnTo>
                      <a:lnTo>
                        <a:pt x="1843" y="108"/>
                      </a:lnTo>
                      <a:lnTo>
                        <a:pt x="1845" y="109"/>
                      </a:lnTo>
                      <a:lnTo>
                        <a:pt x="1846" y="111"/>
                      </a:lnTo>
                      <a:lnTo>
                        <a:pt x="1849" y="112"/>
                      </a:lnTo>
                      <a:lnTo>
                        <a:pt x="1849" y="115"/>
                      </a:lnTo>
                      <a:lnTo>
                        <a:pt x="1849" y="118"/>
                      </a:lnTo>
                      <a:lnTo>
                        <a:pt x="1848" y="121"/>
                      </a:lnTo>
                      <a:lnTo>
                        <a:pt x="1846" y="122"/>
                      </a:lnTo>
                      <a:lnTo>
                        <a:pt x="1844" y="124"/>
                      </a:lnTo>
                      <a:close/>
                      <a:moveTo>
                        <a:pt x="1707" y="143"/>
                      </a:moveTo>
                      <a:lnTo>
                        <a:pt x="1707" y="143"/>
                      </a:lnTo>
                      <a:lnTo>
                        <a:pt x="1705" y="142"/>
                      </a:lnTo>
                      <a:lnTo>
                        <a:pt x="1703" y="140"/>
                      </a:lnTo>
                      <a:lnTo>
                        <a:pt x="1701" y="139"/>
                      </a:lnTo>
                      <a:lnTo>
                        <a:pt x="1700" y="136"/>
                      </a:lnTo>
                      <a:lnTo>
                        <a:pt x="1700" y="133"/>
                      </a:lnTo>
                      <a:lnTo>
                        <a:pt x="1701" y="131"/>
                      </a:lnTo>
                      <a:lnTo>
                        <a:pt x="1704" y="129"/>
                      </a:lnTo>
                      <a:lnTo>
                        <a:pt x="1706" y="128"/>
                      </a:lnTo>
                      <a:lnTo>
                        <a:pt x="1708" y="129"/>
                      </a:lnTo>
                      <a:lnTo>
                        <a:pt x="1709" y="129"/>
                      </a:lnTo>
                      <a:lnTo>
                        <a:pt x="1712" y="132"/>
                      </a:lnTo>
                      <a:lnTo>
                        <a:pt x="1712" y="135"/>
                      </a:lnTo>
                      <a:lnTo>
                        <a:pt x="1712" y="138"/>
                      </a:lnTo>
                      <a:lnTo>
                        <a:pt x="1710" y="140"/>
                      </a:lnTo>
                      <a:lnTo>
                        <a:pt x="1709" y="142"/>
                      </a:lnTo>
                      <a:lnTo>
                        <a:pt x="1707" y="143"/>
                      </a:lnTo>
                      <a:close/>
                      <a:moveTo>
                        <a:pt x="1649" y="150"/>
                      </a:moveTo>
                      <a:lnTo>
                        <a:pt x="1570" y="162"/>
                      </a:lnTo>
                      <a:lnTo>
                        <a:pt x="1568" y="162"/>
                      </a:lnTo>
                      <a:lnTo>
                        <a:pt x="1565" y="160"/>
                      </a:lnTo>
                      <a:lnTo>
                        <a:pt x="1564" y="159"/>
                      </a:lnTo>
                      <a:lnTo>
                        <a:pt x="1563" y="156"/>
                      </a:lnTo>
                      <a:lnTo>
                        <a:pt x="1563" y="153"/>
                      </a:lnTo>
                      <a:lnTo>
                        <a:pt x="1564" y="150"/>
                      </a:lnTo>
                      <a:lnTo>
                        <a:pt x="1566" y="149"/>
                      </a:lnTo>
                      <a:lnTo>
                        <a:pt x="1569" y="148"/>
                      </a:lnTo>
                      <a:lnTo>
                        <a:pt x="1648" y="136"/>
                      </a:lnTo>
                      <a:lnTo>
                        <a:pt x="1650" y="136"/>
                      </a:lnTo>
                      <a:lnTo>
                        <a:pt x="1653" y="138"/>
                      </a:lnTo>
                      <a:lnTo>
                        <a:pt x="1654" y="140"/>
                      </a:lnTo>
                      <a:lnTo>
                        <a:pt x="1655" y="143"/>
                      </a:lnTo>
                      <a:lnTo>
                        <a:pt x="1655" y="146"/>
                      </a:lnTo>
                      <a:lnTo>
                        <a:pt x="1654" y="148"/>
                      </a:lnTo>
                      <a:lnTo>
                        <a:pt x="1652" y="150"/>
                      </a:lnTo>
                      <a:lnTo>
                        <a:pt x="1649" y="150"/>
                      </a:lnTo>
                      <a:close/>
                      <a:moveTo>
                        <a:pt x="1512" y="170"/>
                      </a:moveTo>
                      <a:lnTo>
                        <a:pt x="1512" y="170"/>
                      </a:lnTo>
                      <a:lnTo>
                        <a:pt x="1510" y="170"/>
                      </a:lnTo>
                      <a:lnTo>
                        <a:pt x="1508" y="169"/>
                      </a:lnTo>
                      <a:lnTo>
                        <a:pt x="1506" y="167"/>
                      </a:lnTo>
                      <a:lnTo>
                        <a:pt x="1506" y="165"/>
                      </a:lnTo>
                      <a:lnTo>
                        <a:pt x="1506" y="162"/>
                      </a:lnTo>
                      <a:lnTo>
                        <a:pt x="1508" y="159"/>
                      </a:lnTo>
                      <a:lnTo>
                        <a:pt x="1509" y="157"/>
                      </a:lnTo>
                      <a:lnTo>
                        <a:pt x="1511" y="156"/>
                      </a:lnTo>
                      <a:lnTo>
                        <a:pt x="1513" y="156"/>
                      </a:lnTo>
                      <a:lnTo>
                        <a:pt x="1515" y="157"/>
                      </a:lnTo>
                      <a:lnTo>
                        <a:pt x="1517" y="160"/>
                      </a:lnTo>
                      <a:lnTo>
                        <a:pt x="1518" y="163"/>
                      </a:lnTo>
                      <a:lnTo>
                        <a:pt x="1518" y="166"/>
                      </a:lnTo>
                      <a:lnTo>
                        <a:pt x="1517" y="167"/>
                      </a:lnTo>
                      <a:lnTo>
                        <a:pt x="1514" y="170"/>
                      </a:lnTo>
                      <a:lnTo>
                        <a:pt x="1512" y="170"/>
                      </a:lnTo>
                      <a:close/>
                      <a:moveTo>
                        <a:pt x="1455" y="179"/>
                      </a:moveTo>
                      <a:lnTo>
                        <a:pt x="1375" y="190"/>
                      </a:lnTo>
                      <a:lnTo>
                        <a:pt x="1373" y="190"/>
                      </a:lnTo>
                      <a:lnTo>
                        <a:pt x="1370" y="189"/>
                      </a:lnTo>
                      <a:lnTo>
                        <a:pt x="1369" y="187"/>
                      </a:lnTo>
                      <a:lnTo>
                        <a:pt x="1368" y="184"/>
                      </a:lnTo>
                      <a:lnTo>
                        <a:pt x="1369" y="182"/>
                      </a:lnTo>
                      <a:lnTo>
                        <a:pt x="1370" y="179"/>
                      </a:lnTo>
                      <a:lnTo>
                        <a:pt x="1372" y="177"/>
                      </a:lnTo>
                      <a:lnTo>
                        <a:pt x="1374" y="176"/>
                      </a:lnTo>
                      <a:lnTo>
                        <a:pt x="1454" y="165"/>
                      </a:lnTo>
                      <a:lnTo>
                        <a:pt x="1457" y="165"/>
                      </a:lnTo>
                      <a:lnTo>
                        <a:pt x="1458" y="166"/>
                      </a:lnTo>
                      <a:lnTo>
                        <a:pt x="1460" y="167"/>
                      </a:lnTo>
                      <a:lnTo>
                        <a:pt x="1460" y="170"/>
                      </a:lnTo>
                      <a:lnTo>
                        <a:pt x="1460" y="173"/>
                      </a:lnTo>
                      <a:lnTo>
                        <a:pt x="1459" y="176"/>
                      </a:lnTo>
                      <a:lnTo>
                        <a:pt x="1458" y="177"/>
                      </a:lnTo>
                      <a:lnTo>
                        <a:pt x="1455" y="179"/>
                      </a:lnTo>
                      <a:close/>
                      <a:moveTo>
                        <a:pt x="1318" y="199"/>
                      </a:moveTo>
                      <a:lnTo>
                        <a:pt x="1318" y="199"/>
                      </a:lnTo>
                      <a:lnTo>
                        <a:pt x="1316" y="199"/>
                      </a:lnTo>
                      <a:lnTo>
                        <a:pt x="1314" y="197"/>
                      </a:lnTo>
                      <a:lnTo>
                        <a:pt x="1313" y="194"/>
                      </a:lnTo>
                      <a:lnTo>
                        <a:pt x="1311" y="193"/>
                      </a:lnTo>
                      <a:lnTo>
                        <a:pt x="1311" y="189"/>
                      </a:lnTo>
                      <a:lnTo>
                        <a:pt x="1313" y="187"/>
                      </a:lnTo>
                      <a:lnTo>
                        <a:pt x="1314" y="184"/>
                      </a:lnTo>
                      <a:lnTo>
                        <a:pt x="1316" y="184"/>
                      </a:lnTo>
                      <a:lnTo>
                        <a:pt x="1318" y="184"/>
                      </a:lnTo>
                      <a:lnTo>
                        <a:pt x="1320" y="186"/>
                      </a:lnTo>
                      <a:lnTo>
                        <a:pt x="1322" y="187"/>
                      </a:lnTo>
                      <a:lnTo>
                        <a:pt x="1323" y="190"/>
                      </a:lnTo>
                      <a:lnTo>
                        <a:pt x="1323" y="193"/>
                      </a:lnTo>
                      <a:lnTo>
                        <a:pt x="1322" y="196"/>
                      </a:lnTo>
                      <a:lnTo>
                        <a:pt x="1320" y="197"/>
                      </a:lnTo>
                      <a:lnTo>
                        <a:pt x="1318" y="199"/>
                      </a:lnTo>
                      <a:close/>
                      <a:moveTo>
                        <a:pt x="1260" y="207"/>
                      </a:moveTo>
                      <a:lnTo>
                        <a:pt x="1181" y="218"/>
                      </a:lnTo>
                      <a:lnTo>
                        <a:pt x="1178" y="218"/>
                      </a:lnTo>
                      <a:lnTo>
                        <a:pt x="1177" y="217"/>
                      </a:lnTo>
                      <a:lnTo>
                        <a:pt x="1174" y="214"/>
                      </a:lnTo>
                      <a:lnTo>
                        <a:pt x="1174" y="211"/>
                      </a:lnTo>
                      <a:lnTo>
                        <a:pt x="1174" y="208"/>
                      </a:lnTo>
                      <a:lnTo>
                        <a:pt x="1175" y="207"/>
                      </a:lnTo>
                      <a:lnTo>
                        <a:pt x="1177" y="204"/>
                      </a:lnTo>
                      <a:lnTo>
                        <a:pt x="1179" y="204"/>
                      </a:lnTo>
                      <a:lnTo>
                        <a:pt x="1259" y="193"/>
                      </a:lnTo>
                      <a:lnTo>
                        <a:pt x="1262" y="193"/>
                      </a:lnTo>
                      <a:lnTo>
                        <a:pt x="1264" y="194"/>
                      </a:lnTo>
                      <a:lnTo>
                        <a:pt x="1265" y="196"/>
                      </a:lnTo>
                      <a:lnTo>
                        <a:pt x="1266" y="199"/>
                      </a:lnTo>
                      <a:lnTo>
                        <a:pt x="1265" y="201"/>
                      </a:lnTo>
                      <a:lnTo>
                        <a:pt x="1265" y="204"/>
                      </a:lnTo>
                      <a:lnTo>
                        <a:pt x="1263" y="206"/>
                      </a:lnTo>
                      <a:lnTo>
                        <a:pt x="1260" y="207"/>
                      </a:lnTo>
                      <a:close/>
                      <a:moveTo>
                        <a:pt x="1122" y="225"/>
                      </a:moveTo>
                      <a:lnTo>
                        <a:pt x="1122" y="225"/>
                      </a:lnTo>
                      <a:lnTo>
                        <a:pt x="1120" y="224"/>
                      </a:lnTo>
                      <a:lnTo>
                        <a:pt x="1119" y="223"/>
                      </a:lnTo>
                      <a:lnTo>
                        <a:pt x="1118" y="221"/>
                      </a:lnTo>
                      <a:lnTo>
                        <a:pt x="1116" y="218"/>
                      </a:lnTo>
                      <a:lnTo>
                        <a:pt x="1118" y="216"/>
                      </a:lnTo>
                      <a:lnTo>
                        <a:pt x="1119" y="213"/>
                      </a:lnTo>
                      <a:lnTo>
                        <a:pt x="1120" y="211"/>
                      </a:lnTo>
                      <a:lnTo>
                        <a:pt x="1122" y="211"/>
                      </a:lnTo>
                      <a:lnTo>
                        <a:pt x="1124" y="211"/>
                      </a:lnTo>
                      <a:lnTo>
                        <a:pt x="1127" y="213"/>
                      </a:lnTo>
                      <a:lnTo>
                        <a:pt x="1128" y="216"/>
                      </a:lnTo>
                      <a:lnTo>
                        <a:pt x="1128" y="218"/>
                      </a:lnTo>
                      <a:lnTo>
                        <a:pt x="1128" y="221"/>
                      </a:lnTo>
                      <a:lnTo>
                        <a:pt x="1127" y="223"/>
                      </a:lnTo>
                      <a:lnTo>
                        <a:pt x="1124" y="224"/>
                      </a:lnTo>
                      <a:lnTo>
                        <a:pt x="1122" y="225"/>
                      </a:lnTo>
                      <a:close/>
                      <a:moveTo>
                        <a:pt x="1065" y="225"/>
                      </a:moveTo>
                      <a:lnTo>
                        <a:pt x="984" y="225"/>
                      </a:lnTo>
                      <a:lnTo>
                        <a:pt x="982" y="224"/>
                      </a:lnTo>
                      <a:lnTo>
                        <a:pt x="980" y="223"/>
                      </a:lnTo>
                      <a:lnTo>
                        <a:pt x="979" y="221"/>
                      </a:lnTo>
                      <a:lnTo>
                        <a:pt x="978" y="218"/>
                      </a:lnTo>
                      <a:lnTo>
                        <a:pt x="979" y="216"/>
                      </a:lnTo>
                      <a:lnTo>
                        <a:pt x="980" y="213"/>
                      </a:lnTo>
                      <a:lnTo>
                        <a:pt x="982" y="211"/>
                      </a:lnTo>
                      <a:lnTo>
                        <a:pt x="984" y="211"/>
                      </a:lnTo>
                      <a:lnTo>
                        <a:pt x="1065" y="211"/>
                      </a:lnTo>
                      <a:lnTo>
                        <a:pt x="1068" y="211"/>
                      </a:lnTo>
                      <a:lnTo>
                        <a:pt x="1069" y="213"/>
                      </a:lnTo>
                      <a:lnTo>
                        <a:pt x="1070" y="216"/>
                      </a:lnTo>
                      <a:lnTo>
                        <a:pt x="1071" y="218"/>
                      </a:lnTo>
                      <a:lnTo>
                        <a:pt x="1070" y="221"/>
                      </a:lnTo>
                      <a:lnTo>
                        <a:pt x="1069" y="223"/>
                      </a:lnTo>
                      <a:lnTo>
                        <a:pt x="1068" y="224"/>
                      </a:lnTo>
                      <a:lnTo>
                        <a:pt x="1065" y="225"/>
                      </a:lnTo>
                      <a:close/>
                      <a:moveTo>
                        <a:pt x="927" y="225"/>
                      </a:moveTo>
                      <a:lnTo>
                        <a:pt x="927" y="225"/>
                      </a:lnTo>
                      <a:lnTo>
                        <a:pt x="925" y="224"/>
                      </a:lnTo>
                      <a:lnTo>
                        <a:pt x="923" y="223"/>
                      </a:lnTo>
                      <a:lnTo>
                        <a:pt x="921" y="221"/>
                      </a:lnTo>
                      <a:lnTo>
                        <a:pt x="921" y="218"/>
                      </a:lnTo>
                      <a:lnTo>
                        <a:pt x="921" y="216"/>
                      </a:lnTo>
                      <a:lnTo>
                        <a:pt x="923" y="213"/>
                      </a:lnTo>
                      <a:lnTo>
                        <a:pt x="925" y="211"/>
                      </a:lnTo>
                      <a:lnTo>
                        <a:pt x="927" y="211"/>
                      </a:lnTo>
                      <a:lnTo>
                        <a:pt x="929" y="211"/>
                      </a:lnTo>
                      <a:lnTo>
                        <a:pt x="931" y="213"/>
                      </a:lnTo>
                      <a:lnTo>
                        <a:pt x="932" y="216"/>
                      </a:lnTo>
                      <a:lnTo>
                        <a:pt x="933" y="218"/>
                      </a:lnTo>
                      <a:lnTo>
                        <a:pt x="932" y="221"/>
                      </a:lnTo>
                      <a:lnTo>
                        <a:pt x="931" y="223"/>
                      </a:lnTo>
                      <a:lnTo>
                        <a:pt x="929" y="224"/>
                      </a:lnTo>
                      <a:lnTo>
                        <a:pt x="927" y="225"/>
                      </a:lnTo>
                      <a:close/>
                      <a:moveTo>
                        <a:pt x="869" y="225"/>
                      </a:moveTo>
                      <a:lnTo>
                        <a:pt x="789" y="225"/>
                      </a:lnTo>
                      <a:lnTo>
                        <a:pt x="787" y="225"/>
                      </a:lnTo>
                      <a:lnTo>
                        <a:pt x="784" y="223"/>
                      </a:lnTo>
                      <a:lnTo>
                        <a:pt x="783" y="221"/>
                      </a:lnTo>
                      <a:lnTo>
                        <a:pt x="783" y="218"/>
                      </a:lnTo>
                      <a:lnTo>
                        <a:pt x="783" y="216"/>
                      </a:lnTo>
                      <a:lnTo>
                        <a:pt x="784" y="213"/>
                      </a:lnTo>
                      <a:lnTo>
                        <a:pt x="787" y="211"/>
                      </a:lnTo>
                      <a:lnTo>
                        <a:pt x="789" y="211"/>
                      </a:lnTo>
                      <a:lnTo>
                        <a:pt x="869" y="211"/>
                      </a:lnTo>
                      <a:lnTo>
                        <a:pt x="872" y="211"/>
                      </a:lnTo>
                      <a:lnTo>
                        <a:pt x="873" y="213"/>
                      </a:lnTo>
                      <a:lnTo>
                        <a:pt x="874" y="216"/>
                      </a:lnTo>
                      <a:lnTo>
                        <a:pt x="875" y="218"/>
                      </a:lnTo>
                      <a:lnTo>
                        <a:pt x="875" y="221"/>
                      </a:lnTo>
                      <a:lnTo>
                        <a:pt x="873" y="223"/>
                      </a:lnTo>
                      <a:lnTo>
                        <a:pt x="872" y="224"/>
                      </a:lnTo>
                      <a:lnTo>
                        <a:pt x="869" y="225"/>
                      </a:lnTo>
                      <a:close/>
                      <a:moveTo>
                        <a:pt x="731" y="225"/>
                      </a:moveTo>
                      <a:lnTo>
                        <a:pt x="731" y="225"/>
                      </a:lnTo>
                      <a:lnTo>
                        <a:pt x="729" y="225"/>
                      </a:lnTo>
                      <a:lnTo>
                        <a:pt x="726" y="224"/>
                      </a:lnTo>
                      <a:lnTo>
                        <a:pt x="725" y="221"/>
                      </a:lnTo>
                      <a:lnTo>
                        <a:pt x="725" y="218"/>
                      </a:lnTo>
                      <a:lnTo>
                        <a:pt x="725" y="216"/>
                      </a:lnTo>
                      <a:lnTo>
                        <a:pt x="726" y="213"/>
                      </a:lnTo>
                      <a:lnTo>
                        <a:pt x="729" y="211"/>
                      </a:lnTo>
                      <a:lnTo>
                        <a:pt x="731" y="211"/>
                      </a:lnTo>
                      <a:lnTo>
                        <a:pt x="733" y="211"/>
                      </a:lnTo>
                      <a:lnTo>
                        <a:pt x="736" y="213"/>
                      </a:lnTo>
                      <a:lnTo>
                        <a:pt x="737" y="216"/>
                      </a:lnTo>
                      <a:lnTo>
                        <a:pt x="737" y="218"/>
                      </a:lnTo>
                      <a:lnTo>
                        <a:pt x="737" y="221"/>
                      </a:lnTo>
                      <a:lnTo>
                        <a:pt x="736" y="224"/>
                      </a:lnTo>
                      <a:lnTo>
                        <a:pt x="733" y="225"/>
                      </a:lnTo>
                      <a:lnTo>
                        <a:pt x="731" y="225"/>
                      </a:lnTo>
                      <a:close/>
                      <a:moveTo>
                        <a:pt x="673" y="225"/>
                      </a:moveTo>
                      <a:lnTo>
                        <a:pt x="593" y="225"/>
                      </a:lnTo>
                      <a:lnTo>
                        <a:pt x="590" y="225"/>
                      </a:lnTo>
                      <a:lnTo>
                        <a:pt x="588" y="224"/>
                      </a:lnTo>
                      <a:lnTo>
                        <a:pt x="587" y="221"/>
                      </a:lnTo>
                      <a:lnTo>
                        <a:pt x="587" y="218"/>
                      </a:lnTo>
                      <a:lnTo>
                        <a:pt x="587" y="216"/>
                      </a:lnTo>
                      <a:lnTo>
                        <a:pt x="588" y="213"/>
                      </a:lnTo>
                      <a:lnTo>
                        <a:pt x="590" y="211"/>
                      </a:lnTo>
                      <a:lnTo>
                        <a:pt x="593" y="211"/>
                      </a:lnTo>
                      <a:lnTo>
                        <a:pt x="673" y="211"/>
                      </a:lnTo>
                      <a:lnTo>
                        <a:pt x="675" y="211"/>
                      </a:lnTo>
                      <a:lnTo>
                        <a:pt x="678" y="213"/>
                      </a:lnTo>
                      <a:lnTo>
                        <a:pt x="679" y="216"/>
                      </a:lnTo>
                      <a:lnTo>
                        <a:pt x="679" y="218"/>
                      </a:lnTo>
                      <a:lnTo>
                        <a:pt x="679" y="221"/>
                      </a:lnTo>
                      <a:lnTo>
                        <a:pt x="678" y="224"/>
                      </a:lnTo>
                      <a:lnTo>
                        <a:pt x="675" y="225"/>
                      </a:lnTo>
                      <a:lnTo>
                        <a:pt x="673" y="225"/>
                      </a:lnTo>
                      <a:close/>
                      <a:moveTo>
                        <a:pt x="535" y="225"/>
                      </a:moveTo>
                      <a:lnTo>
                        <a:pt x="535" y="225"/>
                      </a:lnTo>
                      <a:lnTo>
                        <a:pt x="533" y="225"/>
                      </a:lnTo>
                      <a:lnTo>
                        <a:pt x="532" y="224"/>
                      </a:lnTo>
                      <a:lnTo>
                        <a:pt x="530" y="221"/>
                      </a:lnTo>
                      <a:lnTo>
                        <a:pt x="529" y="218"/>
                      </a:lnTo>
                      <a:lnTo>
                        <a:pt x="530" y="216"/>
                      </a:lnTo>
                      <a:lnTo>
                        <a:pt x="532" y="214"/>
                      </a:lnTo>
                      <a:lnTo>
                        <a:pt x="533" y="211"/>
                      </a:lnTo>
                      <a:lnTo>
                        <a:pt x="535" y="211"/>
                      </a:lnTo>
                      <a:lnTo>
                        <a:pt x="537" y="211"/>
                      </a:lnTo>
                      <a:lnTo>
                        <a:pt x="539" y="214"/>
                      </a:lnTo>
                      <a:lnTo>
                        <a:pt x="541" y="216"/>
                      </a:lnTo>
                      <a:lnTo>
                        <a:pt x="541" y="218"/>
                      </a:lnTo>
                      <a:lnTo>
                        <a:pt x="541" y="221"/>
                      </a:lnTo>
                      <a:lnTo>
                        <a:pt x="539" y="224"/>
                      </a:lnTo>
                      <a:lnTo>
                        <a:pt x="537" y="225"/>
                      </a:lnTo>
                      <a:lnTo>
                        <a:pt x="535" y="225"/>
                      </a:lnTo>
                      <a:close/>
                      <a:moveTo>
                        <a:pt x="477" y="225"/>
                      </a:moveTo>
                      <a:lnTo>
                        <a:pt x="397" y="225"/>
                      </a:lnTo>
                      <a:lnTo>
                        <a:pt x="394" y="225"/>
                      </a:lnTo>
                      <a:lnTo>
                        <a:pt x="393" y="224"/>
                      </a:lnTo>
                      <a:lnTo>
                        <a:pt x="392" y="221"/>
                      </a:lnTo>
                      <a:lnTo>
                        <a:pt x="391" y="218"/>
                      </a:lnTo>
                      <a:lnTo>
                        <a:pt x="392" y="216"/>
                      </a:lnTo>
                      <a:lnTo>
                        <a:pt x="393" y="214"/>
                      </a:lnTo>
                      <a:lnTo>
                        <a:pt x="394" y="213"/>
                      </a:lnTo>
                      <a:lnTo>
                        <a:pt x="397" y="211"/>
                      </a:lnTo>
                      <a:lnTo>
                        <a:pt x="477" y="211"/>
                      </a:lnTo>
                      <a:lnTo>
                        <a:pt x="479" y="211"/>
                      </a:lnTo>
                      <a:lnTo>
                        <a:pt x="482" y="214"/>
                      </a:lnTo>
                      <a:lnTo>
                        <a:pt x="483" y="216"/>
                      </a:lnTo>
                      <a:lnTo>
                        <a:pt x="483" y="218"/>
                      </a:lnTo>
                      <a:lnTo>
                        <a:pt x="483" y="221"/>
                      </a:lnTo>
                      <a:lnTo>
                        <a:pt x="482" y="224"/>
                      </a:lnTo>
                      <a:lnTo>
                        <a:pt x="479" y="225"/>
                      </a:lnTo>
                      <a:lnTo>
                        <a:pt x="477" y="225"/>
                      </a:lnTo>
                      <a:close/>
                      <a:moveTo>
                        <a:pt x="339" y="225"/>
                      </a:moveTo>
                      <a:lnTo>
                        <a:pt x="339" y="225"/>
                      </a:lnTo>
                      <a:lnTo>
                        <a:pt x="337" y="225"/>
                      </a:lnTo>
                      <a:lnTo>
                        <a:pt x="335" y="224"/>
                      </a:lnTo>
                      <a:lnTo>
                        <a:pt x="334" y="221"/>
                      </a:lnTo>
                      <a:lnTo>
                        <a:pt x="333" y="218"/>
                      </a:lnTo>
                      <a:lnTo>
                        <a:pt x="334" y="216"/>
                      </a:lnTo>
                      <a:lnTo>
                        <a:pt x="335" y="214"/>
                      </a:lnTo>
                      <a:lnTo>
                        <a:pt x="337" y="213"/>
                      </a:lnTo>
                      <a:lnTo>
                        <a:pt x="339" y="211"/>
                      </a:lnTo>
                      <a:lnTo>
                        <a:pt x="341" y="213"/>
                      </a:lnTo>
                      <a:lnTo>
                        <a:pt x="343" y="214"/>
                      </a:lnTo>
                      <a:lnTo>
                        <a:pt x="344" y="216"/>
                      </a:lnTo>
                      <a:lnTo>
                        <a:pt x="346" y="218"/>
                      </a:lnTo>
                      <a:lnTo>
                        <a:pt x="344" y="221"/>
                      </a:lnTo>
                      <a:lnTo>
                        <a:pt x="343" y="224"/>
                      </a:lnTo>
                      <a:lnTo>
                        <a:pt x="341" y="225"/>
                      </a:lnTo>
                      <a:lnTo>
                        <a:pt x="339" y="225"/>
                      </a:lnTo>
                      <a:close/>
                      <a:moveTo>
                        <a:pt x="282" y="225"/>
                      </a:moveTo>
                      <a:lnTo>
                        <a:pt x="202" y="227"/>
                      </a:lnTo>
                      <a:lnTo>
                        <a:pt x="199" y="225"/>
                      </a:lnTo>
                      <a:lnTo>
                        <a:pt x="197" y="224"/>
                      </a:lnTo>
                      <a:lnTo>
                        <a:pt x="196" y="221"/>
                      </a:lnTo>
                      <a:lnTo>
                        <a:pt x="195" y="218"/>
                      </a:lnTo>
                      <a:lnTo>
                        <a:pt x="196" y="216"/>
                      </a:lnTo>
                      <a:lnTo>
                        <a:pt x="197" y="214"/>
                      </a:lnTo>
                      <a:lnTo>
                        <a:pt x="199" y="213"/>
                      </a:lnTo>
                      <a:lnTo>
                        <a:pt x="202" y="211"/>
                      </a:lnTo>
                      <a:lnTo>
                        <a:pt x="282" y="211"/>
                      </a:lnTo>
                      <a:lnTo>
                        <a:pt x="284" y="213"/>
                      </a:lnTo>
                      <a:lnTo>
                        <a:pt x="286" y="214"/>
                      </a:lnTo>
                      <a:lnTo>
                        <a:pt x="287" y="216"/>
                      </a:lnTo>
                      <a:lnTo>
                        <a:pt x="288" y="218"/>
                      </a:lnTo>
                      <a:lnTo>
                        <a:pt x="287" y="221"/>
                      </a:lnTo>
                      <a:lnTo>
                        <a:pt x="286" y="224"/>
                      </a:lnTo>
                      <a:lnTo>
                        <a:pt x="284" y="225"/>
                      </a:lnTo>
                      <a:lnTo>
                        <a:pt x="282" y="225"/>
                      </a:lnTo>
                      <a:close/>
                      <a:moveTo>
                        <a:pt x="144" y="227"/>
                      </a:moveTo>
                      <a:lnTo>
                        <a:pt x="144" y="227"/>
                      </a:lnTo>
                      <a:lnTo>
                        <a:pt x="142" y="225"/>
                      </a:lnTo>
                      <a:lnTo>
                        <a:pt x="139" y="224"/>
                      </a:lnTo>
                      <a:lnTo>
                        <a:pt x="138" y="221"/>
                      </a:lnTo>
                      <a:lnTo>
                        <a:pt x="138" y="220"/>
                      </a:lnTo>
                      <a:lnTo>
                        <a:pt x="138" y="217"/>
                      </a:lnTo>
                      <a:lnTo>
                        <a:pt x="139" y="214"/>
                      </a:lnTo>
                      <a:lnTo>
                        <a:pt x="142" y="213"/>
                      </a:lnTo>
                      <a:lnTo>
                        <a:pt x="144" y="211"/>
                      </a:lnTo>
                      <a:lnTo>
                        <a:pt x="146" y="213"/>
                      </a:lnTo>
                      <a:lnTo>
                        <a:pt x="147" y="214"/>
                      </a:lnTo>
                      <a:lnTo>
                        <a:pt x="148" y="217"/>
                      </a:lnTo>
                      <a:lnTo>
                        <a:pt x="149" y="220"/>
                      </a:lnTo>
                      <a:lnTo>
                        <a:pt x="148" y="221"/>
                      </a:lnTo>
                      <a:lnTo>
                        <a:pt x="147" y="224"/>
                      </a:lnTo>
                      <a:lnTo>
                        <a:pt x="146" y="225"/>
                      </a:lnTo>
                      <a:lnTo>
                        <a:pt x="144" y="227"/>
                      </a:lnTo>
                      <a:close/>
                      <a:moveTo>
                        <a:pt x="86" y="227"/>
                      </a:moveTo>
                      <a:lnTo>
                        <a:pt x="6" y="227"/>
                      </a:lnTo>
                      <a:lnTo>
                        <a:pt x="3" y="225"/>
                      </a:lnTo>
                      <a:lnTo>
                        <a:pt x="1" y="224"/>
                      </a:lnTo>
                      <a:lnTo>
                        <a:pt x="0" y="223"/>
                      </a:lnTo>
                      <a:lnTo>
                        <a:pt x="0" y="220"/>
                      </a:lnTo>
                      <a:lnTo>
                        <a:pt x="0" y="217"/>
                      </a:lnTo>
                      <a:lnTo>
                        <a:pt x="1" y="214"/>
                      </a:lnTo>
                      <a:lnTo>
                        <a:pt x="3" y="213"/>
                      </a:lnTo>
                      <a:lnTo>
                        <a:pt x="6" y="213"/>
                      </a:lnTo>
                      <a:lnTo>
                        <a:pt x="86" y="211"/>
                      </a:lnTo>
                      <a:lnTo>
                        <a:pt x="88" y="213"/>
                      </a:lnTo>
                      <a:lnTo>
                        <a:pt x="91" y="214"/>
                      </a:lnTo>
                      <a:lnTo>
                        <a:pt x="92" y="217"/>
                      </a:lnTo>
                      <a:lnTo>
                        <a:pt x="92" y="220"/>
                      </a:lnTo>
                      <a:lnTo>
                        <a:pt x="92" y="221"/>
                      </a:lnTo>
                      <a:lnTo>
                        <a:pt x="91" y="224"/>
                      </a:lnTo>
                      <a:lnTo>
                        <a:pt x="88" y="225"/>
                      </a:lnTo>
                      <a:lnTo>
                        <a:pt x="86" y="227"/>
                      </a:lnTo>
                      <a:close/>
                    </a:path>
                  </a:pathLst>
                </a:custGeom>
                <a:solidFill>
                  <a:srgbClr val="008000"/>
                </a:solidFill>
                <a:ln w="1440">
                  <a:solidFill>
                    <a:srgbClr val="008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 name="Rectangle 113"/>
                <p:cNvSpPr/>
                <p:nvPr/>
              </p:nvSpPr>
              <p:spPr>
                <a:xfrm>
                  <a:off x="5744880" y="3173040"/>
                  <a:ext cx="277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Arial"/>
                  </a:endParaRPr>
                </a:p>
              </p:txBody>
            </p:sp>
            <p:sp>
              <p:nvSpPr>
                <p:cNvPr id="217" name="Freeform 114"/>
                <p:cNvSpPr/>
                <p:nvPr/>
              </p:nvSpPr>
              <p:spPr>
                <a:xfrm>
                  <a:off x="5002560" y="275652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path>
                  </a:pathLst>
                </a:custGeom>
                <a:no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AutoShape 116"/>
              <p:cNvSpPr/>
              <p:nvPr/>
            </p:nvSpPr>
            <p:spPr>
              <a:xfrm>
                <a:off x="4973760" y="2516400"/>
                <a:ext cx="2220840" cy="546120"/>
              </a:xfrm>
              <a:prstGeom prst="parallelogram">
                <a:avLst>
                  <a:gd name="adj" fmla="val 10283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19"/>
              <p:cNvSpPr/>
              <p:nvPr/>
            </p:nvSpPr>
            <p:spPr>
              <a:xfrm>
                <a:off x="5541840" y="2822760"/>
                <a:ext cx="68400" cy="68400"/>
              </a:xfrm>
              <a:prstGeom prst="ellipse">
                <a:avLst/>
              </a:prstGeom>
              <a:solidFill>
                <a:srgbClr val="0000ff"/>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19"/>
              <p:cNvSpPr/>
              <p:nvPr/>
            </p:nvSpPr>
            <p:spPr>
              <a:xfrm>
                <a:off x="5837400" y="2741760"/>
                <a:ext cx="68040" cy="68400"/>
              </a:xfrm>
              <a:prstGeom prst="ellipse">
                <a:avLst/>
              </a:prstGeom>
              <a:solidFill>
                <a:srgbClr val="0000ff"/>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19"/>
              <p:cNvSpPr/>
              <p:nvPr/>
            </p:nvSpPr>
            <p:spPr>
              <a:xfrm>
                <a:off x="5702400" y="2606760"/>
                <a:ext cx="68040" cy="68400"/>
              </a:xfrm>
              <a:prstGeom prst="ellipse">
                <a:avLst/>
              </a:prstGeom>
              <a:solidFill>
                <a:srgbClr val="0000ff"/>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19"/>
              <p:cNvSpPr/>
              <p:nvPr/>
            </p:nvSpPr>
            <p:spPr>
              <a:xfrm>
                <a:off x="6197760" y="2876760"/>
                <a:ext cx="68040" cy="68400"/>
              </a:xfrm>
              <a:prstGeom prst="ellipse">
                <a:avLst/>
              </a:prstGeom>
              <a:solidFill>
                <a:srgbClr val="0000ff"/>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19"/>
              <p:cNvSpPr/>
              <p:nvPr/>
            </p:nvSpPr>
            <p:spPr>
              <a:xfrm>
                <a:off x="6647040" y="2741760"/>
                <a:ext cx="68040" cy="68400"/>
              </a:xfrm>
              <a:prstGeom prst="ellipse">
                <a:avLst/>
              </a:prstGeom>
              <a:solidFill>
                <a:srgbClr val="0000ff"/>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7"/>
              <p:cNvSpPr/>
              <p:nvPr/>
            </p:nvSpPr>
            <p:spPr>
              <a:xfrm>
                <a:off x="5208480" y="2459160"/>
                <a:ext cx="1266840" cy="19836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ＧＩＳデータ</a:t>
                </a:r>
                <a:endParaRPr b="0" lang="en-US" sz="1200" spc="-1" strike="noStrike">
                  <a:solidFill>
                    <a:srgbClr val="000000"/>
                  </a:solidFill>
                  <a:latin typeface="Arial"/>
                </a:endParaRPr>
              </a:p>
            </p:txBody>
          </p:sp>
        </p:grpSp>
        <p:pic>
          <p:nvPicPr>
            <p:cNvPr id="225" name="" descr=""/>
            <p:cNvPicPr/>
            <p:nvPr/>
          </p:nvPicPr>
          <p:blipFill>
            <a:blip r:embed="rId1"/>
            <a:stretch/>
          </p:blipFill>
          <p:spPr>
            <a:xfrm>
              <a:off x="2006640" y="2552760"/>
              <a:ext cx="711360" cy="736560"/>
            </a:xfrm>
            <a:prstGeom prst="rect">
              <a:avLst/>
            </a:prstGeom>
            <a:ln w="0">
              <a:noFill/>
            </a:ln>
          </p:spPr>
        </p:pic>
        <p:sp>
          <p:nvSpPr>
            <p:cNvPr id="226" name="Rectangle 17"/>
            <p:cNvSpPr/>
            <p:nvPr/>
          </p:nvSpPr>
          <p:spPr>
            <a:xfrm>
              <a:off x="1662120" y="2370240"/>
              <a:ext cx="1266840" cy="19836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一覧表</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D2C35315-9019-48E4-8ADC-3BC797025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59D7-F884-410F-A95D-F46532A0747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8" name="PlaceHolder 1"/>
          <p:cNvSpPr>
            <a:spLocks noGrp="1"/>
          </p:cNvSpPr>
          <p:nvPr>
            <p:ph/>
          </p:nvPr>
        </p:nvSpPr>
        <p:spPr>
          <a:xfrm>
            <a:off x="323640" y="907920"/>
            <a:ext cx="8507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座標の付与手法</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ＭｉｅＣｌｉｃｋ</a:t>
            </a:r>
            <a:r>
              <a:rPr b="0" lang="en-US" sz="2400" spc="-1" strike="noStrike">
                <a:solidFill>
                  <a:srgbClr val="000000"/>
                </a:solidFill>
                <a:latin typeface="ＭＳ Ｐゴシック"/>
                <a:ea typeface="MS UI Gothic"/>
              </a:rPr>
              <a:t>Maps</a:t>
            </a:r>
            <a:r>
              <a:rPr b="0" lang="ja-JP" sz="2400" spc="-1" strike="noStrike">
                <a:solidFill>
                  <a:srgbClr val="000000"/>
                </a:solidFill>
                <a:latin typeface="ＭＳ Ｐゴシック"/>
                <a:ea typeface="MS UI Gothic"/>
              </a:rPr>
              <a:t>等を利用して座標値を調査</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各市町所有の</a:t>
            </a:r>
            <a:r>
              <a:rPr b="0" lang="en-US" sz="2400" spc="-1" strike="noStrike">
                <a:solidFill>
                  <a:srgbClr val="000000"/>
                </a:solidFill>
                <a:latin typeface="ＭＳ Ｐゴシック"/>
                <a:ea typeface="MS UI Gothic"/>
              </a:rPr>
              <a:t>GIS</a:t>
            </a:r>
            <a:r>
              <a:rPr b="0" lang="ja-JP" sz="2400" spc="-1" strike="noStrike">
                <a:solidFill>
                  <a:srgbClr val="000000"/>
                </a:solidFill>
                <a:latin typeface="ＭＳ Ｐゴシック"/>
                <a:ea typeface="MS UI Gothic"/>
              </a:rPr>
              <a:t>から座標値を取得</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現状の避難所</a:t>
            </a:r>
            <a:r>
              <a:rPr b="0" lang="en-US" sz="2400" spc="-1" strike="noStrike">
                <a:solidFill>
                  <a:srgbClr val="000000"/>
                </a:solidFill>
                <a:latin typeface="ＭＳ Ｐゴシック"/>
                <a:ea typeface="MS UI Gothic"/>
              </a:rPr>
              <a:t>GIS</a:t>
            </a:r>
            <a:r>
              <a:rPr b="0" lang="ja-JP" sz="2400" spc="-1" strike="noStrike">
                <a:solidFill>
                  <a:srgbClr val="000000"/>
                </a:solidFill>
                <a:latin typeface="ＭＳ Ｐゴシック"/>
                <a:ea typeface="MS UI Gothic"/>
              </a:rPr>
              <a:t>データから取得（ただし、位置の正確性については精査する必要あり）</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29"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4879C17-E74B-49BA-98B4-411F73CCBE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30AC-677C-46E3-A748-C711102CD56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1" name="PlaceHolder 1"/>
          <p:cNvSpPr>
            <a:spLocks noGrp="1"/>
          </p:cNvSpPr>
          <p:nvPr>
            <p:ph/>
          </p:nvPr>
        </p:nvSpPr>
        <p:spPr>
          <a:xfrm>
            <a:off x="323640" y="907920"/>
            <a:ext cx="8507160" cy="1944720"/>
          </a:xfrm>
          <a:prstGeom prst="rect">
            <a:avLst/>
          </a:prstGeom>
          <a:noFill/>
          <a:ln w="0">
            <a:noFill/>
          </a:ln>
        </p:spPr>
        <p:txBody>
          <a:bodyPr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MS UI Gothic"/>
              </a:rPr>
              <a:t>ＭｉｅＣｌｉｃｋ</a:t>
            </a:r>
            <a:r>
              <a:rPr b="0" lang="en-US" sz="2800" spc="-1" strike="noStrike">
                <a:solidFill>
                  <a:srgbClr val="000000"/>
                </a:solidFill>
                <a:latin typeface="HGPｺﾞｼｯｸE"/>
                <a:ea typeface="MS UI Gothic"/>
              </a:rPr>
              <a:t>Maps</a:t>
            </a:r>
            <a:r>
              <a:rPr b="0" lang="ja-JP" sz="2800" spc="-1" strike="noStrike">
                <a:solidFill>
                  <a:srgbClr val="000000"/>
                </a:solidFill>
                <a:latin typeface="HGPｺﾞｼｯｸE"/>
                <a:ea typeface="MS UI Gothic"/>
              </a:rPr>
              <a:t>等を利用して座標値を調査</a:t>
            </a:r>
            <a:endParaRPr b="0" lang="en-US" sz="2800" spc="-1" strike="noStrike">
              <a:solidFill>
                <a:srgbClr val="000000"/>
              </a:solidFill>
              <a:latin typeface="HGPｺﾞｼｯｸE"/>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ＭｉｅＣｌｉｃｋ</a:t>
            </a:r>
            <a:r>
              <a:rPr b="0" lang="en-US" sz="2400" spc="-1" strike="noStrike">
                <a:solidFill>
                  <a:srgbClr val="000000"/>
                </a:solidFill>
                <a:latin typeface="ＭＳ Ｐゴシック"/>
                <a:ea typeface="MS UI Gothic"/>
              </a:rPr>
              <a:t>Maps</a:t>
            </a:r>
            <a:r>
              <a:rPr b="0" lang="ja-JP" sz="2400" spc="-1" strike="noStrike">
                <a:solidFill>
                  <a:srgbClr val="000000"/>
                </a:solidFill>
                <a:latin typeface="ＭＳ Ｐゴシック"/>
                <a:ea typeface="MS UI Gothic"/>
              </a:rPr>
              <a:t>上で該当箇所に地図を移動し、表示されている座標値を、そのままコピーします。</a:t>
            </a:r>
            <a:endParaRPr b="0" lang="en-US" sz="2400" spc="-1" strike="noStrike">
              <a:solidFill>
                <a:srgbClr val="000000"/>
              </a:solidFill>
              <a:latin typeface="ＭＳ Ｐゴシック"/>
            </a:endParaRPr>
          </a:p>
          <a:p>
            <a:pPr lvl="1" marL="743040" indent="-285840">
              <a:lnSpc>
                <a:spcPct val="9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避難所の数に比例して、作業のボリュームが増大してしまうこととなりますが、確実な方法といえます。</a:t>
            </a:r>
            <a:endParaRPr b="0" lang="en-US" sz="2400" spc="-1" strike="noStrike">
              <a:solidFill>
                <a:srgbClr val="000000"/>
              </a:solidFill>
              <a:latin typeface="ＭＳ Ｐゴシック"/>
            </a:endParaRPr>
          </a:p>
        </p:txBody>
      </p:sp>
      <p:sp>
        <p:nvSpPr>
          <p:cNvPr id="232"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pic>
        <p:nvPicPr>
          <p:cNvPr id="233" name="" descr=""/>
          <p:cNvPicPr/>
          <p:nvPr/>
        </p:nvPicPr>
        <p:blipFill>
          <a:blip r:embed="rId1"/>
          <a:stretch/>
        </p:blipFill>
        <p:spPr>
          <a:xfrm>
            <a:off x="900000" y="3068640"/>
            <a:ext cx="3400560" cy="2879640"/>
          </a:xfrm>
          <a:prstGeom prst="rect">
            <a:avLst/>
          </a:prstGeom>
          <a:ln w="0">
            <a:noFill/>
          </a:ln>
        </p:spPr>
      </p:pic>
      <p:pic>
        <p:nvPicPr>
          <p:cNvPr id="234" name="" descr=""/>
          <p:cNvPicPr/>
          <p:nvPr/>
        </p:nvPicPr>
        <p:blipFill>
          <a:blip r:embed="rId2"/>
          <a:stretch/>
        </p:blipFill>
        <p:spPr>
          <a:xfrm>
            <a:off x="4932360" y="3068640"/>
            <a:ext cx="3398760" cy="2879640"/>
          </a:xfrm>
          <a:prstGeom prst="rect">
            <a:avLst/>
          </a:prstGeom>
          <a:ln w="0">
            <a:noFill/>
          </a:ln>
        </p:spPr>
      </p:pic>
      <p:sp>
        <p:nvSpPr>
          <p:cNvPr id="235" name=""/>
          <p:cNvSpPr/>
          <p:nvPr/>
        </p:nvSpPr>
        <p:spPr>
          <a:xfrm>
            <a:off x="4351320" y="4394160"/>
            <a:ext cx="538200" cy="432000"/>
          </a:xfrm>
          <a:prstGeom prst="rightArrow">
            <a:avLst>
              <a:gd name="adj1" fmla="val 49454"/>
              <a:gd name="adj2" fmla="val 64212"/>
            </a:avLst>
          </a:prstGeom>
          <a:solidFill>
            <a:srgbClr val="bbe0e3"/>
          </a:solidFill>
          <a:ln w="0">
            <a:noFill/>
          </a:ln>
          <a:effectLst>
            <a:outerShdw dist="17819" dir="2700000" blurRad="0" rotWithShape="0">
              <a:srgbClr val="6f8587">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2994120" y="3519360"/>
            <a:ext cx="215640" cy="106560"/>
          </a:xfrm>
          <a:prstGeom prst="rect">
            <a:avLst/>
          </a:prstGeom>
          <a:noFill/>
          <a:ln w="255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7515360" y="4471920"/>
            <a:ext cx="736560" cy="474840"/>
          </a:xfrm>
          <a:prstGeom prst="rect">
            <a:avLst/>
          </a:prstGeom>
          <a:noFill/>
          <a:ln w="255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225E522-ACC9-4B6E-86D9-208711D36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7CDB-7460-476E-BAB8-18CEF374522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9" name="PlaceHolder 1"/>
          <p:cNvSpPr>
            <a:spLocks noGrp="1"/>
          </p:cNvSpPr>
          <p:nvPr>
            <p:ph/>
          </p:nvPr>
        </p:nvSpPr>
        <p:spPr>
          <a:xfrm>
            <a:off x="323640" y="907920"/>
            <a:ext cx="8507160" cy="37483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MS UI Gothic"/>
              </a:rPr>
              <a:t>各市町所有の</a:t>
            </a:r>
            <a:r>
              <a:rPr b="0" lang="en-US" sz="2800" spc="-1" strike="noStrike">
                <a:solidFill>
                  <a:srgbClr val="000000"/>
                </a:solidFill>
                <a:latin typeface="HGPｺﾞｼｯｸE"/>
                <a:ea typeface="MS UI Gothic"/>
              </a:rPr>
              <a:t>GIS</a:t>
            </a:r>
            <a:r>
              <a:rPr b="0" lang="ja-JP" sz="2800" spc="-1" strike="noStrike">
                <a:solidFill>
                  <a:srgbClr val="000000"/>
                </a:solidFill>
                <a:latin typeface="HGPｺﾞｼｯｸE"/>
                <a:ea typeface="MS UI Gothic"/>
              </a:rPr>
              <a:t>から座標値を取得</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既に各市町で利用している</a:t>
            </a:r>
            <a:r>
              <a:rPr b="0" lang="en-US" sz="2400" spc="-1" strike="noStrike">
                <a:solidFill>
                  <a:srgbClr val="000000"/>
                </a:solidFill>
                <a:latin typeface="ＭＳ Ｐゴシック"/>
                <a:ea typeface="MS UI Gothic"/>
              </a:rPr>
              <a:t>GIS</a:t>
            </a:r>
            <a:r>
              <a:rPr b="0" lang="ja-JP" sz="2400" spc="-1" strike="noStrike">
                <a:solidFill>
                  <a:srgbClr val="000000"/>
                </a:solidFill>
                <a:latin typeface="ＭＳ Ｐゴシック"/>
                <a:ea typeface="MS UI Gothic"/>
              </a:rPr>
              <a:t>上で避難所の図形が管理されている場合は、</a:t>
            </a:r>
            <a:r>
              <a:rPr b="0" lang="en-US" sz="2400" spc="-1" strike="noStrike">
                <a:solidFill>
                  <a:srgbClr val="000000"/>
                </a:solidFill>
                <a:latin typeface="ＭＳ Ｐゴシック"/>
                <a:ea typeface="MS UI Gothic"/>
              </a:rPr>
              <a:t>GIS</a:t>
            </a:r>
            <a:r>
              <a:rPr b="0" lang="ja-JP" sz="2400" spc="-1" strike="noStrike">
                <a:solidFill>
                  <a:srgbClr val="000000"/>
                </a:solidFill>
                <a:latin typeface="ＭＳ Ｐゴシック"/>
                <a:ea typeface="MS UI Gothic"/>
              </a:rPr>
              <a:t>から、避難所の座標値を出力することが有効で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すでに運用されているデータですので、非常に正確な値を抽出することができ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また、そのデータの原典としては、地域防災計画の避難所一覧またはハザードマップが大部分であると考えられるため、</a:t>
            </a:r>
            <a:r>
              <a:rPr b="0" lang="en-US" sz="2400" spc="-1" strike="noStrike">
                <a:solidFill>
                  <a:srgbClr val="000000"/>
                </a:solidFill>
                <a:latin typeface="ＭＳ Ｐゴシック"/>
                <a:ea typeface="MS UI Gothic"/>
              </a:rPr>
              <a:t>Excel</a:t>
            </a:r>
            <a:r>
              <a:rPr b="0" lang="ja-JP" sz="2400" spc="-1" strike="noStrike">
                <a:solidFill>
                  <a:srgbClr val="000000"/>
                </a:solidFill>
                <a:latin typeface="ＭＳ Ｐゴシック"/>
                <a:ea typeface="MS UI Gothic"/>
              </a:rPr>
              <a:t>との結合も容易であるといえます。</a:t>
            </a:r>
            <a:endParaRPr b="0" lang="en-US" sz="2400" spc="-1" strike="noStrike">
              <a:solidFill>
                <a:srgbClr val="000000"/>
              </a:solidFill>
              <a:latin typeface="ＭＳ Ｐゴシック"/>
            </a:endParaRPr>
          </a:p>
        </p:txBody>
      </p:sp>
      <p:sp>
        <p:nvSpPr>
          <p:cNvPr id="240"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241" name="AutoShape 54"/>
          <p:cNvSpPr/>
          <p:nvPr/>
        </p:nvSpPr>
        <p:spPr>
          <a:xfrm>
            <a:off x="1609560" y="5116680"/>
            <a:ext cx="1524240" cy="830160"/>
          </a:xfrm>
          <a:prstGeom prst="can">
            <a:avLst>
              <a:gd name="adj" fmla="val 25000"/>
            </a:avLst>
          </a:prstGeom>
          <a:solidFill>
            <a:srgbClr val="ffffc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運用中の</a:t>
            </a:r>
            <a:r>
              <a:rPr b="0" lang="en-US" sz="1400" spc="-1" strike="noStrike">
                <a:solidFill>
                  <a:srgbClr val="000000"/>
                </a:solidFill>
                <a:latin typeface="MS UI Gothic"/>
                <a:ea typeface="MS UI Gothic"/>
              </a:rPr>
              <a:t>GIS</a:t>
            </a:r>
            <a:r>
              <a:rPr b="0" lang="ja-JP" sz="1400" spc="-1" strike="noStrike">
                <a:solidFill>
                  <a:srgbClr val="000000"/>
                </a:solidFill>
                <a:latin typeface="MS UI Gothic"/>
                <a:ea typeface="MS UI Gothic"/>
              </a:rPr>
              <a:t>データ</a:t>
            </a:r>
            <a:endParaRPr b="0" lang="en-US" sz="1400" spc="-1" strike="noStrike">
              <a:solidFill>
                <a:srgbClr val="000000"/>
              </a:solidFill>
              <a:latin typeface="Arial"/>
            </a:endParaRPr>
          </a:p>
        </p:txBody>
      </p:sp>
      <p:pic>
        <p:nvPicPr>
          <p:cNvPr id="242" name="" descr=""/>
          <p:cNvPicPr/>
          <p:nvPr/>
        </p:nvPicPr>
        <p:blipFill>
          <a:blip r:embed="rId1"/>
          <a:stretch/>
        </p:blipFill>
        <p:spPr>
          <a:xfrm>
            <a:off x="4152960" y="5181480"/>
            <a:ext cx="711000" cy="736560"/>
          </a:xfrm>
          <a:prstGeom prst="rect">
            <a:avLst/>
          </a:prstGeom>
          <a:ln w="0">
            <a:noFill/>
          </a:ln>
        </p:spPr>
      </p:pic>
      <p:sp>
        <p:nvSpPr>
          <p:cNvPr id="243" name=""/>
          <p:cNvSpPr/>
          <p:nvPr/>
        </p:nvSpPr>
        <p:spPr>
          <a:xfrm>
            <a:off x="3450240" y="5307480"/>
            <a:ext cx="363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a:t>
            </a:r>
            <a:endParaRPr b="0" lang="en-US" sz="2400" spc="-1" strike="noStrike">
              <a:solidFill>
                <a:srgbClr val="000000"/>
              </a:solidFill>
              <a:latin typeface="Arial"/>
            </a:endParaRPr>
          </a:p>
        </p:txBody>
      </p:sp>
      <p:sp>
        <p:nvSpPr>
          <p:cNvPr id="244" name=""/>
          <p:cNvSpPr/>
          <p:nvPr/>
        </p:nvSpPr>
        <p:spPr>
          <a:xfrm>
            <a:off x="5443560" y="5359320"/>
            <a:ext cx="538200" cy="432000"/>
          </a:xfrm>
          <a:prstGeom prst="rightArrow">
            <a:avLst>
              <a:gd name="adj1" fmla="val 49454"/>
              <a:gd name="adj2" fmla="val 64212"/>
            </a:avLst>
          </a:prstGeom>
          <a:solidFill>
            <a:srgbClr val="bbe0e3"/>
          </a:solidFill>
          <a:ln w="0">
            <a:noFill/>
          </a:ln>
          <a:effectLst>
            <a:outerShdw dist="17819" dir="2700000" blurRad="0" rotWithShape="0">
              <a:srgbClr val="6f8587">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45" name="" descr=""/>
          <p:cNvPicPr/>
          <p:nvPr/>
        </p:nvPicPr>
        <p:blipFill>
          <a:blip r:embed="rId2"/>
          <a:stretch/>
        </p:blipFill>
        <p:spPr>
          <a:xfrm>
            <a:off x="6832440" y="5168880"/>
            <a:ext cx="711360" cy="736560"/>
          </a:xfrm>
          <a:prstGeom prst="rect">
            <a:avLst/>
          </a:prstGeom>
          <a:ln w="0">
            <a:noFill/>
          </a:ln>
        </p:spPr>
      </p:pic>
      <p:sp>
        <p:nvSpPr>
          <p:cNvPr id="246" name="Rectangle 17"/>
          <p:cNvSpPr/>
          <p:nvPr/>
        </p:nvSpPr>
        <p:spPr>
          <a:xfrm>
            <a:off x="3935520" y="5811840"/>
            <a:ext cx="1266840" cy="19836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一覧</a:t>
            </a:r>
            <a:endParaRPr b="0" lang="en-US" sz="1200" spc="-1" strike="noStrike">
              <a:solidFill>
                <a:srgbClr val="000000"/>
              </a:solidFill>
              <a:latin typeface="Arial"/>
            </a:endParaRPr>
          </a:p>
        </p:txBody>
      </p:sp>
      <p:sp>
        <p:nvSpPr>
          <p:cNvPr id="247" name="Rectangle 17"/>
          <p:cNvSpPr/>
          <p:nvPr/>
        </p:nvSpPr>
        <p:spPr>
          <a:xfrm>
            <a:off x="6221520" y="5824440"/>
            <a:ext cx="1863720" cy="23652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座標値付の避難所一覧</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2B3EF77-EE22-437C-8E06-0AC80585C7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9E0C-0F67-48C8-B877-4041DE692FA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323640" y="907920"/>
            <a:ext cx="8507160" cy="37483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MS UI Gothic"/>
              </a:rPr>
              <a:t>現状の避難所</a:t>
            </a:r>
            <a:r>
              <a:rPr b="0" lang="en-US" sz="2800" spc="-1" strike="noStrike">
                <a:solidFill>
                  <a:srgbClr val="000000"/>
                </a:solidFill>
                <a:latin typeface="HGPｺﾞｼｯｸE"/>
                <a:ea typeface="MS UI Gothic"/>
              </a:rPr>
              <a:t>GIS</a:t>
            </a:r>
            <a:r>
              <a:rPr b="0" lang="ja-JP" sz="2800" spc="-1" strike="noStrike">
                <a:solidFill>
                  <a:srgbClr val="000000"/>
                </a:solidFill>
                <a:latin typeface="HGPｺﾞｼｯｸE"/>
                <a:ea typeface="MS UI Gothic"/>
              </a:rPr>
              <a:t>データから取得</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現状の避難所</a:t>
            </a:r>
            <a:r>
              <a:rPr b="0" lang="en-US" sz="2400" spc="-1" strike="noStrike">
                <a:solidFill>
                  <a:srgbClr val="000000"/>
                </a:solidFill>
                <a:latin typeface="ＭＳ Ｐゴシック"/>
                <a:ea typeface="MS UI Gothic"/>
              </a:rPr>
              <a:t>GIS</a:t>
            </a:r>
            <a:r>
              <a:rPr b="0" lang="ja-JP" sz="2400" spc="-1" strike="noStrike">
                <a:solidFill>
                  <a:srgbClr val="000000"/>
                </a:solidFill>
                <a:latin typeface="ＭＳ Ｐゴシック"/>
                <a:ea typeface="MS UI Gothic"/>
              </a:rPr>
              <a:t>データから座標値を出力する方法で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ただし、全ての避難所位置について、再度、見直すことが必要となり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また、各市町が管理している避難所一覧とも、必ずしも連携が可能となるということも断言できません。</a:t>
            </a:r>
            <a:endParaRPr b="0" lang="en-US" sz="2400" spc="-1" strike="noStrike">
              <a:solidFill>
                <a:srgbClr val="000000"/>
              </a:solidFill>
              <a:latin typeface="ＭＳ Ｐゴシック"/>
            </a:endParaRPr>
          </a:p>
        </p:txBody>
      </p:sp>
      <p:sp>
        <p:nvSpPr>
          <p:cNvPr id="250"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251" name="AutoShape 54"/>
          <p:cNvSpPr/>
          <p:nvPr/>
        </p:nvSpPr>
        <p:spPr>
          <a:xfrm>
            <a:off x="1444680" y="4519440"/>
            <a:ext cx="1523880" cy="830520"/>
          </a:xfrm>
          <a:prstGeom prst="can">
            <a:avLst>
              <a:gd name="adj" fmla="val 25000"/>
            </a:avLst>
          </a:prstGeom>
          <a:solidFill>
            <a:srgbClr val="ffffc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避難所</a:t>
            </a:r>
            <a:r>
              <a:rPr b="0" lang="en-US" sz="1400" spc="-1" strike="noStrike">
                <a:solidFill>
                  <a:srgbClr val="000000"/>
                </a:solidFill>
                <a:latin typeface="MS UI Gothic"/>
                <a:ea typeface="MS UI Gothic"/>
              </a:rPr>
              <a:t>GIS</a:t>
            </a:r>
            <a:r>
              <a:rPr b="0" lang="ja-JP" sz="1400" spc="-1" strike="noStrike">
                <a:solidFill>
                  <a:srgbClr val="000000"/>
                </a:solidFill>
                <a:latin typeface="MS UI Gothic"/>
                <a:ea typeface="MS UI Gothic"/>
              </a:rPr>
              <a:t>データ</a:t>
            </a:r>
            <a:endParaRPr b="0" lang="en-US" sz="1400" spc="-1" strike="noStrike">
              <a:solidFill>
                <a:srgbClr val="000000"/>
              </a:solidFill>
              <a:latin typeface="Arial"/>
            </a:endParaRPr>
          </a:p>
        </p:txBody>
      </p:sp>
      <p:pic>
        <p:nvPicPr>
          <p:cNvPr id="252" name="" descr=""/>
          <p:cNvPicPr/>
          <p:nvPr/>
        </p:nvPicPr>
        <p:blipFill>
          <a:blip r:embed="rId1"/>
          <a:stretch/>
        </p:blipFill>
        <p:spPr>
          <a:xfrm>
            <a:off x="3987720" y="4584600"/>
            <a:ext cx="711360" cy="736560"/>
          </a:xfrm>
          <a:prstGeom prst="rect">
            <a:avLst/>
          </a:prstGeom>
          <a:ln w="0">
            <a:noFill/>
          </a:ln>
        </p:spPr>
      </p:pic>
      <p:sp>
        <p:nvSpPr>
          <p:cNvPr id="253" name=""/>
          <p:cNvSpPr/>
          <p:nvPr/>
        </p:nvSpPr>
        <p:spPr>
          <a:xfrm>
            <a:off x="3247200" y="4710600"/>
            <a:ext cx="363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a:t>
            </a:r>
            <a:endParaRPr b="0" lang="en-US" sz="2400" spc="-1" strike="noStrike">
              <a:solidFill>
                <a:srgbClr val="000000"/>
              </a:solidFill>
              <a:latin typeface="Arial"/>
            </a:endParaRPr>
          </a:p>
        </p:txBody>
      </p:sp>
      <p:sp>
        <p:nvSpPr>
          <p:cNvPr id="254" name=""/>
          <p:cNvSpPr/>
          <p:nvPr/>
        </p:nvSpPr>
        <p:spPr>
          <a:xfrm>
            <a:off x="5278320" y="4762440"/>
            <a:ext cx="538200" cy="432000"/>
          </a:xfrm>
          <a:prstGeom prst="rightArrow">
            <a:avLst>
              <a:gd name="adj1" fmla="val 49454"/>
              <a:gd name="adj2" fmla="val 64212"/>
            </a:avLst>
          </a:prstGeom>
          <a:solidFill>
            <a:srgbClr val="bbe0e3"/>
          </a:solidFill>
          <a:ln w="0">
            <a:noFill/>
          </a:ln>
          <a:effectLst>
            <a:outerShdw dist="17819" dir="2700000" blurRad="0" rotWithShape="0">
              <a:srgbClr val="6f8587">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55" name="" descr=""/>
          <p:cNvPicPr/>
          <p:nvPr/>
        </p:nvPicPr>
        <p:blipFill>
          <a:blip r:embed="rId2"/>
          <a:stretch/>
        </p:blipFill>
        <p:spPr>
          <a:xfrm>
            <a:off x="6667560" y="4572000"/>
            <a:ext cx="711000" cy="736560"/>
          </a:xfrm>
          <a:prstGeom prst="rect">
            <a:avLst/>
          </a:prstGeom>
          <a:ln w="0">
            <a:noFill/>
          </a:ln>
        </p:spPr>
      </p:pic>
      <p:sp>
        <p:nvSpPr>
          <p:cNvPr id="256" name="Rectangle 17"/>
          <p:cNvSpPr/>
          <p:nvPr/>
        </p:nvSpPr>
        <p:spPr>
          <a:xfrm>
            <a:off x="3770280" y="5214960"/>
            <a:ext cx="1266840" cy="19836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一覧</a:t>
            </a:r>
            <a:endParaRPr b="0" lang="en-US" sz="1200" spc="-1" strike="noStrike">
              <a:solidFill>
                <a:srgbClr val="000000"/>
              </a:solidFill>
              <a:latin typeface="Arial"/>
            </a:endParaRPr>
          </a:p>
        </p:txBody>
      </p:sp>
      <p:sp>
        <p:nvSpPr>
          <p:cNvPr id="257" name="Rectangle 17"/>
          <p:cNvSpPr/>
          <p:nvPr/>
        </p:nvSpPr>
        <p:spPr>
          <a:xfrm>
            <a:off x="6056280" y="5227560"/>
            <a:ext cx="1863720" cy="23652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座標値付の避難所一覧</a:t>
            </a:r>
            <a:endParaRPr b="0" lang="en-US" sz="1200" spc="-1" strike="noStrike">
              <a:solidFill>
                <a:srgbClr val="000000"/>
              </a:solidFill>
              <a:latin typeface="Arial"/>
            </a:endParaRPr>
          </a:p>
        </p:txBody>
      </p:sp>
      <p:sp>
        <p:nvSpPr>
          <p:cNvPr id="258" name=""/>
          <p:cNvSpPr/>
          <p:nvPr/>
        </p:nvSpPr>
        <p:spPr>
          <a:xfrm>
            <a:off x="4140360" y="5994360"/>
            <a:ext cx="2387520" cy="711360"/>
          </a:xfrm>
          <a:prstGeom prst="borderCallout2">
            <a:avLst>
              <a:gd name="adj1" fmla="val 18750"/>
              <a:gd name="adj2" fmla="val -8333"/>
              <a:gd name="adj3" fmla="val 16069"/>
              <a:gd name="adj4" fmla="val -15958"/>
              <a:gd name="adj5" fmla="val -125000"/>
              <a:gd name="adj6" fmla="val -29254"/>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の連携がうまくいかない可能性があります</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D7AD45-9E2B-4C84-9400-C7471A204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A9DC-5F11-45D6-A917-644380EE0D2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0" name="PlaceHolder 1"/>
          <p:cNvSpPr>
            <a:spLocks noGrp="1"/>
          </p:cNvSpPr>
          <p:nvPr>
            <p:ph/>
          </p:nvPr>
        </p:nvSpPr>
        <p:spPr>
          <a:xfrm>
            <a:off x="323640" y="907560"/>
            <a:ext cx="8507160" cy="20862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来年度の流れ</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MS UI Gothic"/>
              </a:rPr>
              <a:t>来年度は、ガイドラインの適用は行わず、避難所データの位置精度を向上させることに注力し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61"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262" name=""/>
          <p:cNvSpPr/>
          <p:nvPr/>
        </p:nvSpPr>
        <p:spPr>
          <a:xfrm>
            <a:off x="603360" y="2801880"/>
            <a:ext cx="2447640" cy="3622680"/>
          </a:xfrm>
          <a:custGeom>
            <a:avLst/>
            <a:gdLst>
              <a:gd name="textAreaLeft" fmla="*/ 119160 w 2447640"/>
              <a:gd name="textAreaRight" fmla="*/ 2328480 w 2447640"/>
              <a:gd name="textAreaTop" fmla="*/ 119160 h 3622680"/>
              <a:gd name="textAreaBottom" fmla="*/ 3503520 h 3622680"/>
            </a:gdLst>
            <a:ahLst/>
            <a:rect l="textAreaLeft" t="textAreaTop" r="textAreaRight" b="textAreaBottom"/>
            <a:pathLst>
              <a:path w="21600" h="31968">
                <a:moveTo>
                  <a:pt x="3600" y="0"/>
                </a:moveTo>
                <a:arcTo wR="3600" hR="3600" stAng="16200000" swAng="-5400000"/>
                <a:lnTo>
                  <a:pt x="0" y="28368"/>
                </a:lnTo>
                <a:arcTo wR="3600" hR="3600" stAng="10800000" swAng="-5400000"/>
                <a:lnTo>
                  <a:pt x="18000" y="31968"/>
                </a:lnTo>
                <a:arcTo wR="3600" hR="3600" stAng="5400000" swAng="-5400000"/>
                <a:lnTo>
                  <a:pt x="21600" y="3600"/>
                </a:lnTo>
                <a:arcTo wR="3600" hR="3600" stAng="0" swAng="-5400000"/>
                <a:close/>
              </a:path>
            </a:pathLst>
          </a:custGeom>
          <a:solidFill>
            <a:srgbClr val="ffe6cd"/>
          </a:solidFill>
          <a:ln w="0">
            <a:noFill/>
          </a:ln>
          <a:effectLst>
            <a:outerShdw dist="17819" dir="2700000" blurRad="0" rotWithShape="0">
              <a:srgbClr val="98897a"/>
            </a:outerShdw>
          </a:effectLst>
        </p:spPr>
        <p:style>
          <a:lnRef idx="0"/>
          <a:fillRef idx="0"/>
          <a:effectRef idx="0"/>
          <a:fontRef idx="minor"/>
        </p:style>
        <p:txBody>
          <a:bodyPr wrap="none" lIns="18000" rIns="18000" tIns="18000" bIns="18000" anchor="ctr">
            <a:noAutofit/>
          </a:bodyPr>
          <a:p>
            <a:endParaRPr b="0" lang="en-US" sz="1800" spc="-1" strike="noStrike">
              <a:solidFill>
                <a:srgbClr val="000000"/>
              </a:solidFill>
              <a:latin typeface="Arial"/>
            </a:endParaRPr>
          </a:p>
        </p:txBody>
      </p:sp>
      <p:sp>
        <p:nvSpPr>
          <p:cNvPr id="263" name=""/>
          <p:cNvSpPr/>
          <p:nvPr/>
        </p:nvSpPr>
        <p:spPr>
          <a:xfrm>
            <a:off x="3193920" y="2801880"/>
            <a:ext cx="2449800" cy="3622680"/>
          </a:xfrm>
          <a:custGeom>
            <a:avLst/>
            <a:gdLst>
              <a:gd name="textAreaLeft" fmla="*/ 119520 w 2449800"/>
              <a:gd name="textAreaRight" fmla="*/ 2330280 w 2449800"/>
              <a:gd name="textAreaTop" fmla="*/ 119520 h 3622680"/>
              <a:gd name="textAreaBottom" fmla="*/ 3503160 h 3622680"/>
            </a:gdLst>
            <a:ahLst/>
            <a:rect l="textAreaLeft" t="textAreaTop" r="textAreaRight" b="textAreaBottom"/>
            <a:pathLst>
              <a:path w="21600" h="31940">
                <a:moveTo>
                  <a:pt x="3600" y="0"/>
                </a:moveTo>
                <a:arcTo wR="3600" hR="3600" stAng="16200000" swAng="-5400000"/>
                <a:lnTo>
                  <a:pt x="0" y="28340"/>
                </a:lnTo>
                <a:arcTo wR="3600" hR="3600" stAng="10800000" swAng="-5400000"/>
                <a:lnTo>
                  <a:pt x="18000" y="31940"/>
                </a:lnTo>
                <a:arcTo wR="3600" hR="3600" stAng="5400000" swAng="-5400000"/>
                <a:lnTo>
                  <a:pt x="21600" y="3600"/>
                </a:lnTo>
                <a:arcTo wR="3600" hR="3600" stAng="0" swAng="-5400000"/>
                <a:close/>
              </a:path>
            </a:pathLst>
          </a:custGeom>
          <a:solidFill>
            <a:srgbClr val="c5e2ff"/>
          </a:solidFill>
          <a:ln w="0">
            <a:noFill/>
          </a:ln>
          <a:effectLst>
            <a:outerShdw dist="17819" dir="2700000" blurRad="0" rotWithShape="0">
              <a:srgbClr val="758798"/>
            </a:outerShdw>
          </a:effectLst>
        </p:spPr>
        <p:style>
          <a:lnRef idx="0"/>
          <a:fillRef idx="0"/>
          <a:effectRef idx="0"/>
          <a:fontRef idx="minor"/>
        </p:style>
        <p:txBody>
          <a:bodyPr wrap="none" lIns="18000" rIns="18000" tIns="18000" bIns="18000" anchor="ctr">
            <a:noAutofit/>
          </a:bodyPr>
          <a:p>
            <a:endParaRPr b="0" lang="en-US" sz="1800" spc="-1" strike="noStrike">
              <a:solidFill>
                <a:srgbClr val="000000"/>
              </a:solidFill>
              <a:latin typeface="Arial"/>
            </a:endParaRPr>
          </a:p>
        </p:txBody>
      </p:sp>
      <p:sp>
        <p:nvSpPr>
          <p:cNvPr id="264" name=""/>
          <p:cNvSpPr/>
          <p:nvPr/>
        </p:nvSpPr>
        <p:spPr>
          <a:xfrm>
            <a:off x="5786280" y="2801880"/>
            <a:ext cx="2449800" cy="3622680"/>
          </a:xfrm>
          <a:custGeom>
            <a:avLst/>
            <a:gdLst>
              <a:gd name="textAreaLeft" fmla="*/ 119520 w 2449800"/>
              <a:gd name="textAreaRight" fmla="*/ 2330280 w 2449800"/>
              <a:gd name="textAreaTop" fmla="*/ 119520 h 3622680"/>
              <a:gd name="textAreaBottom" fmla="*/ 3503160 h 3622680"/>
            </a:gdLst>
            <a:ahLst/>
            <a:rect l="textAreaLeft" t="textAreaTop" r="textAreaRight" b="textAreaBottom"/>
            <a:pathLst>
              <a:path w="21600" h="31940">
                <a:moveTo>
                  <a:pt x="3600" y="0"/>
                </a:moveTo>
                <a:arcTo wR="3600" hR="3600" stAng="16200000" swAng="-5400000"/>
                <a:lnTo>
                  <a:pt x="0" y="28340"/>
                </a:lnTo>
                <a:arcTo wR="3600" hR="3600" stAng="10800000" swAng="-5400000"/>
                <a:lnTo>
                  <a:pt x="18000" y="31940"/>
                </a:lnTo>
                <a:arcTo wR="3600" hR="3600" stAng="5400000" swAng="-5400000"/>
                <a:lnTo>
                  <a:pt x="21600" y="3600"/>
                </a:lnTo>
                <a:arcTo wR="3600" hR="3600" stAng="0" swAng="-5400000"/>
                <a:close/>
              </a:path>
            </a:pathLst>
          </a:custGeom>
          <a:solidFill>
            <a:srgbClr val="b7e7cf"/>
          </a:solidFill>
          <a:ln w="0">
            <a:noFill/>
          </a:ln>
          <a:effectLst>
            <a:outerShdw dist="17819" dir="2700000" blurRad="0" rotWithShape="0">
              <a:srgbClr val="6d8a7b"/>
            </a:outerShdw>
          </a:effectLst>
        </p:spPr>
        <p:style>
          <a:lnRef idx="0"/>
          <a:fillRef idx="0"/>
          <a:effectRef idx="0"/>
          <a:fontRef idx="minor"/>
        </p:style>
        <p:txBody>
          <a:bodyPr wrap="none" lIns="18000" rIns="18000" tIns="18000" bIns="18000" anchor="ctr">
            <a:noAutofit/>
          </a:bodyPr>
          <a:p>
            <a:endParaRPr b="0" lang="en-US" sz="1800" spc="-1" strike="noStrike">
              <a:solidFill>
                <a:srgbClr val="000000"/>
              </a:solidFill>
              <a:latin typeface="Arial"/>
            </a:endParaRPr>
          </a:p>
        </p:txBody>
      </p:sp>
      <p:sp>
        <p:nvSpPr>
          <p:cNvPr id="265" name=""/>
          <p:cNvSpPr/>
          <p:nvPr/>
        </p:nvSpPr>
        <p:spPr>
          <a:xfrm>
            <a:off x="746280" y="366552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一覧への座標付与</a:t>
            </a:r>
            <a:endParaRPr b="0" lang="en-US" sz="1400" spc="-1" strike="noStrike">
              <a:solidFill>
                <a:srgbClr val="000000"/>
              </a:solidFill>
              <a:latin typeface="Arial"/>
            </a:endParaRPr>
          </a:p>
        </p:txBody>
      </p:sp>
      <p:sp>
        <p:nvSpPr>
          <p:cNvPr id="266" name=""/>
          <p:cNvSpPr/>
          <p:nvPr/>
        </p:nvSpPr>
        <p:spPr>
          <a:xfrm>
            <a:off x="746280" y="438948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一覧提供</a:t>
            </a:r>
            <a:endParaRPr b="0" lang="en-US" sz="1400" spc="-1" strike="noStrike">
              <a:solidFill>
                <a:srgbClr val="000000"/>
              </a:solidFill>
              <a:latin typeface="Arial"/>
            </a:endParaRPr>
          </a:p>
        </p:txBody>
      </p:sp>
      <p:sp>
        <p:nvSpPr>
          <p:cNvPr id="267" name=""/>
          <p:cNvSpPr/>
          <p:nvPr/>
        </p:nvSpPr>
        <p:spPr>
          <a:xfrm>
            <a:off x="5931000" y="512748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MieClickMaps</a:t>
            </a:r>
            <a:r>
              <a:rPr b="1" lang="ja-JP" sz="1400" spc="-1" strike="noStrike">
                <a:solidFill>
                  <a:srgbClr val="000000"/>
                </a:solidFill>
                <a:latin typeface="MS UI Gothic"/>
                <a:ea typeface="MS UI Gothic"/>
              </a:rPr>
              <a:t>へ搭載</a:t>
            </a:r>
            <a:r>
              <a:rPr b="1" lang="ja-JP" sz="1400" spc="-1" strike="noStrike">
                <a:solidFill>
                  <a:srgbClr val="000000"/>
                </a:solidFill>
                <a:latin typeface="Arial"/>
                <a:ea typeface="MS UI Gothic"/>
              </a:rPr>
              <a:t>作業</a:t>
            </a:r>
            <a:endParaRPr b="0" lang="en-US" sz="1400" spc="-1" strike="noStrike">
              <a:solidFill>
                <a:srgbClr val="000000"/>
              </a:solidFill>
              <a:latin typeface="Arial"/>
            </a:endParaRPr>
          </a:p>
        </p:txBody>
      </p:sp>
      <p:pic>
        <p:nvPicPr>
          <p:cNvPr id="268" name="" descr=""/>
          <p:cNvPicPr/>
          <p:nvPr/>
        </p:nvPicPr>
        <p:blipFill>
          <a:blip r:embed="rId1"/>
          <a:stretch/>
        </p:blipFill>
        <p:spPr>
          <a:xfrm>
            <a:off x="1252440" y="3089160"/>
            <a:ext cx="1081080" cy="517680"/>
          </a:xfrm>
          <a:prstGeom prst="rect">
            <a:avLst/>
          </a:prstGeom>
          <a:ln w="0">
            <a:noFill/>
          </a:ln>
        </p:spPr>
      </p:pic>
      <p:pic>
        <p:nvPicPr>
          <p:cNvPr id="269" name="" descr=""/>
          <p:cNvPicPr/>
          <p:nvPr/>
        </p:nvPicPr>
        <p:blipFill>
          <a:blip r:embed="rId2"/>
          <a:stretch/>
        </p:blipFill>
        <p:spPr>
          <a:xfrm>
            <a:off x="3914640" y="3089160"/>
            <a:ext cx="1108080" cy="517680"/>
          </a:xfrm>
          <a:prstGeom prst="rect">
            <a:avLst/>
          </a:prstGeom>
          <a:ln w="0">
            <a:noFill/>
          </a:ln>
        </p:spPr>
      </p:pic>
      <p:sp>
        <p:nvSpPr>
          <p:cNvPr id="270" name=""/>
          <p:cNvSpPr/>
          <p:nvPr/>
        </p:nvSpPr>
        <p:spPr>
          <a:xfrm>
            <a:off x="1036800" y="2801880"/>
            <a:ext cx="1511280" cy="27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市町</a:t>
            </a:r>
            <a:endParaRPr b="0" lang="en-US" sz="1600" spc="-1" strike="noStrike">
              <a:solidFill>
                <a:srgbClr val="000000"/>
              </a:solidFill>
              <a:latin typeface="Arial"/>
            </a:endParaRPr>
          </a:p>
        </p:txBody>
      </p:sp>
      <p:sp>
        <p:nvSpPr>
          <p:cNvPr id="271" name=""/>
          <p:cNvSpPr/>
          <p:nvPr/>
        </p:nvSpPr>
        <p:spPr>
          <a:xfrm>
            <a:off x="3699000" y="2801880"/>
            <a:ext cx="1511280" cy="27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自治会館組合</a:t>
            </a:r>
            <a:endParaRPr b="0" lang="en-US" sz="1600" spc="-1" strike="noStrike">
              <a:solidFill>
                <a:srgbClr val="000000"/>
              </a:solidFill>
              <a:latin typeface="Arial"/>
            </a:endParaRPr>
          </a:p>
        </p:txBody>
      </p:sp>
      <p:pic>
        <p:nvPicPr>
          <p:cNvPr id="272" name="" descr=""/>
          <p:cNvPicPr/>
          <p:nvPr/>
        </p:nvPicPr>
        <p:blipFill>
          <a:blip r:embed="rId3"/>
          <a:stretch/>
        </p:blipFill>
        <p:spPr>
          <a:xfrm>
            <a:off x="6507000" y="3089160"/>
            <a:ext cx="1108080" cy="517680"/>
          </a:xfrm>
          <a:prstGeom prst="rect">
            <a:avLst/>
          </a:prstGeom>
          <a:ln w="0">
            <a:noFill/>
          </a:ln>
        </p:spPr>
      </p:pic>
      <p:sp>
        <p:nvSpPr>
          <p:cNvPr id="273" name=""/>
          <p:cNvSpPr/>
          <p:nvPr/>
        </p:nvSpPr>
        <p:spPr>
          <a:xfrm>
            <a:off x="6291360" y="2801880"/>
            <a:ext cx="1511280" cy="27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三重県</a:t>
            </a:r>
            <a:endParaRPr b="0" lang="en-US" sz="1600" spc="-1" strike="noStrike">
              <a:solidFill>
                <a:srgbClr val="000000"/>
              </a:solidFill>
              <a:latin typeface="Arial"/>
            </a:endParaRPr>
          </a:p>
        </p:txBody>
      </p:sp>
      <p:sp>
        <p:nvSpPr>
          <p:cNvPr id="274" name=""/>
          <p:cNvSpPr/>
          <p:nvPr/>
        </p:nvSpPr>
        <p:spPr>
          <a:xfrm>
            <a:off x="7047000" y="5440320"/>
            <a:ext cx="0" cy="432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75" name=""/>
          <p:cNvSpPr/>
          <p:nvPr/>
        </p:nvSpPr>
        <p:spPr>
          <a:xfrm>
            <a:off x="2979720" y="4535640"/>
            <a:ext cx="27144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76" name=""/>
          <p:cNvSpPr/>
          <p:nvPr/>
        </p:nvSpPr>
        <p:spPr>
          <a:xfrm>
            <a:off x="5931000" y="366552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の集約依頼</a:t>
            </a:r>
            <a:endParaRPr b="0" lang="en-US" sz="1400" spc="-1" strike="noStrike">
              <a:solidFill>
                <a:srgbClr val="000000"/>
              </a:solidFill>
              <a:latin typeface="Arial"/>
            </a:endParaRPr>
          </a:p>
        </p:txBody>
      </p:sp>
      <p:sp>
        <p:nvSpPr>
          <p:cNvPr id="277" name=""/>
          <p:cNvSpPr/>
          <p:nvPr/>
        </p:nvSpPr>
        <p:spPr>
          <a:xfrm flipH="1">
            <a:off x="2979720" y="3809880"/>
            <a:ext cx="295128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78" name=""/>
          <p:cNvSpPr/>
          <p:nvPr/>
        </p:nvSpPr>
        <p:spPr>
          <a:xfrm>
            <a:off x="3298680" y="512604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UI Gothic"/>
              </a:rPr>
              <a:t>GIS</a:t>
            </a:r>
            <a:r>
              <a:rPr b="1" lang="ja-JP" sz="1400" spc="-1" strike="noStrike">
                <a:solidFill>
                  <a:srgbClr val="000000"/>
                </a:solidFill>
                <a:latin typeface="Arial"/>
                <a:ea typeface="MS UI Gothic"/>
              </a:rPr>
              <a:t>データ化</a:t>
            </a:r>
            <a:endParaRPr b="0" lang="en-US" sz="1400" spc="-1" strike="noStrike">
              <a:solidFill>
                <a:srgbClr val="000000"/>
              </a:solidFill>
              <a:latin typeface="Arial"/>
            </a:endParaRPr>
          </a:p>
        </p:txBody>
      </p:sp>
      <p:sp>
        <p:nvSpPr>
          <p:cNvPr id="279" name=""/>
          <p:cNvSpPr/>
          <p:nvPr/>
        </p:nvSpPr>
        <p:spPr>
          <a:xfrm>
            <a:off x="5545080" y="5272200"/>
            <a:ext cx="39852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80" name=""/>
          <p:cNvSpPr/>
          <p:nvPr/>
        </p:nvSpPr>
        <p:spPr>
          <a:xfrm>
            <a:off x="3273480" y="438948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集約</a:t>
            </a:r>
            <a:endParaRPr b="0" lang="en-US" sz="1400" spc="-1" strike="noStrike">
              <a:solidFill>
                <a:srgbClr val="000000"/>
              </a:solidFill>
              <a:latin typeface="Arial"/>
            </a:endParaRPr>
          </a:p>
        </p:txBody>
      </p:sp>
      <p:sp>
        <p:nvSpPr>
          <p:cNvPr id="281" name=""/>
          <p:cNvSpPr/>
          <p:nvPr/>
        </p:nvSpPr>
        <p:spPr>
          <a:xfrm>
            <a:off x="4354560" y="4678200"/>
            <a:ext cx="0" cy="432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82" name=""/>
          <p:cNvSpPr/>
          <p:nvPr/>
        </p:nvSpPr>
        <p:spPr>
          <a:xfrm>
            <a:off x="5931000" y="588960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シミュレーションへ活用</a:t>
            </a:r>
            <a:endParaRPr b="0" lang="en-US" sz="1400" spc="-1" strike="noStrike">
              <a:solidFill>
                <a:srgbClr val="000000"/>
              </a:solidFill>
              <a:latin typeface="Arial"/>
            </a:endParaRPr>
          </a:p>
        </p:txBody>
      </p:sp>
      <p:sp>
        <p:nvSpPr>
          <p:cNvPr id="283" name=""/>
          <p:cNvSpPr/>
          <p:nvPr/>
        </p:nvSpPr>
        <p:spPr>
          <a:xfrm>
            <a:off x="746280" y="511344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フィードバックデータ受領</a:t>
            </a:r>
            <a:endParaRPr b="0" lang="en-US" sz="1400" spc="-1" strike="noStrike">
              <a:solidFill>
                <a:srgbClr val="000000"/>
              </a:solidFill>
              <a:latin typeface="Arial"/>
            </a:endParaRPr>
          </a:p>
        </p:txBody>
      </p:sp>
      <p:sp>
        <p:nvSpPr>
          <p:cNvPr id="284" name=""/>
          <p:cNvSpPr/>
          <p:nvPr/>
        </p:nvSpPr>
        <p:spPr>
          <a:xfrm>
            <a:off x="746280" y="587520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フィードバックデータ受領</a:t>
            </a:r>
            <a:endParaRPr b="0" lang="en-US" sz="1400" spc="-1" strike="noStrike">
              <a:solidFill>
                <a:srgbClr val="000000"/>
              </a:solidFill>
              <a:latin typeface="Arial"/>
            </a:endParaRPr>
          </a:p>
        </p:txBody>
      </p:sp>
      <p:sp>
        <p:nvSpPr>
          <p:cNvPr id="285" name=""/>
          <p:cNvSpPr/>
          <p:nvPr/>
        </p:nvSpPr>
        <p:spPr>
          <a:xfrm flipH="1">
            <a:off x="2979720" y="6019920"/>
            <a:ext cx="295128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86" name=""/>
          <p:cNvSpPr/>
          <p:nvPr/>
        </p:nvSpPr>
        <p:spPr>
          <a:xfrm flipH="1">
            <a:off x="2979360" y="5257800"/>
            <a:ext cx="32220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287" name=""/>
          <p:cNvSpPr/>
          <p:nvPr/>
        </p:nvSpPr>
        <p:spPr>
          <a:xfrm>
            <a:off x="1865160" y="3967200"/>
            <a:ext cx="0" cy="43164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755DA9-AB3D-4AD8-A55F-AB247C5E0D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23F7-7762-4048-9B76-28C1251117D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89" name="PlaceHolder 1"/>
          <p:cNvSpPr>
            <a:spLocks noGrp="1"/>
          </p:cNvSpPr>
          <p:nvPr>
            <p:ph/>
          </p:nvPr>
        </p:nvSpPr>
        <p:spPr>
          <a:xfrm>
            <a:off x="323640" y="781200"/>
            <a:ext cx="8507160" cy="20858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再来年度以降の流れ</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90"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291" name=""/>
          <p:cNvSpPr/>
          <p:nvPr/>
        </p:nvSpPr>
        <p:spPr>
          <a:xfrm>
            <a:off x="450720" y="1442880"/>
            <a:ext cx="2448000" cy="5185080"/>
          </a:xfrm>
          <a:custGeom>
            <a:avLst/>
            <a:gdLst>
              <a:gd name="textAreaLeft" fmla="*/ 119520 w 2448000"/>
              <a:gd name="textAreaRight" fmla="*/ 2328480 w 2448000"/>
              <a:gd name="textAreaTop" fmla="*/ 119520 h 5185080"/>
              <a:gd name="textAreaBottom" fmla="*/ 5065560 h 5185080"/>
            </a:gdLst>
            <a:ahLst/>
            <a:rect l="textAreaLeft" t="textAreaTop" r="textAreaRight" b="textAreaBottom"/>
            <a:pathLst>
              <a:path w="21600" h="45747">
                <a:moveTo>
                  <a:pt x="3600" y="0"/>
                </a:moveTo>
                <a:arcTo wR="3600" hR="3600" stAng="16200000" swAng="-5400000"/>
                <a:lnTo>
                  <a:pt x="0" y="42147"/>
                </a:lnTo>
                <a:arcTo wR="3600" hR="3600" stAng="10800000" swAng="-5400000"/>
                <a:lnTo>
                  <a:pt x="18000" y="45747"/>
                </a:lnTo>
                <a:arcTo wR="3600" hR="3600" stAng="5400000" swAng="-5400000"/>
                <a:lnTo>
                  <a:pt x="21600" y="3600"/>
                </a:lnTo>
                <a:arcTo wR="3600" hR="3600" stAng="0" swAng="-5400000"/>
                <a:close/>
              </a:path>
            </a:pathLst>
          </a:custGeom>
          <a:solidFill>
            <a:srgbClr val="ffe6cd"/>
          </a:solidFill>
          <a:ln w="0">
            <a:noFill/>
          </a:ln>
          <a:effectLst>
            <a:outerShdw dist="17819" dir="2700000" blurRad="0" rotWithShape="0">
              <a:srgbClr val="98897a"/>
            </a:outerShdw>
          </a:effectLst>
        </p:spPr>
        <p:style>
          <a:lnRef idx="0"/>
          <a:fillRef idx="0"/>
          <a:effectRef idx="0"/>
          <a:fontRef idx="minor"/>
        </p:style>
        <p:txBody>
          <a:bodyPr wrap="none" lIns="18000" rIns="18000" tIns="18000" bIns="18000" anchor="ctr">
            <a:noAutofit/>
          </a:bodyPr>
          <a:p>
            <a:endParaRPr b="0" lang="en-US" sz="1800" spc="-1" strike="noStrike">
              <a:solidFill>
                <a:srgbClr val="000000"/>
              </a:solidFill>
              <a:latin typeface="Arial"/>
            </a:endParaRPr>
          </a:p>
        </p:txBody>
      </p:sp>
      <p:sp>
        <p:nvSpPr>
          <p:cNvPr id="292" name=""/>
          <p:cNvSpPr/>
          <p:nvPr/>
        </p:nvSpPr>
        <p:spPr>
          <a:xfrm>
            <a:off x="3041640" y="1442880"/>
            <a:ext cx="2449440" cy="5185080"/>
          </a:xfrm>
          <a:custGeom>
            <a:avLst/>
            <a:gdLst>
              <a:gd name="textAreaLeft" fmla="*/ 119520 w 2449440"/>
              <a:gd name="textAreaRight" fmla="*/ 2329920 w 2449440"/>
              <a:gd name="textAreaTop" fmla="*/ 119520 h 5185080"/>
              <a:gd name="textAreaBottom" fmla="*/ 5065560 h 5185080"/>
            </a:gdLst>
            <a:ahLst/>
            <a:rect l="textAreaLeft" t="textAreaTop" r="textAreaRight" b="textAreaBottom"/>
            <a:pathLst>
              <a:path w="21600" h="45720">
                <a:moveTo>
                  <a:pt x="3600" y="0"/>
                </a:moveTo>
                <a:arcTo wR="3600" hR="3600" stAng="16200000" swAng="-5400000"/>
                <a:lnTo>
                  <a:pt x="0" y="42120"/>
                </a:lnTo>
                <a:arcTo wR="3600" hR="3600" stAng="10800000" swAng="-5400000"/>
                <a:lnTo>
                  <a:pt x="18000" y="45720"/>
                </a:lnTo>
                <a:arcTo wR="3600" hR="3600" stAng="5400000" swAng="-5400000"/>
                <a:lnTo>
                  <a:pt x="21600" y="3600"/>
                </a:lnTo>
                <a:arcTo wR="3600" hR="3600" stAng="0" swAng="-5400000"/>
                <a:close/>
              </a:path>
            </a:pathLst>
          </a:custGeom>
          <a:solidFill>
            <a:srgbClr val="c5e2ff"/>
          </a:solidFill>
          <a:ln w="0">
            <a:noFill/>
          </a:ln>
          <a:effectLst>
            <a:outerShdw dist="17819" dir="2700000" blurRad="0" rotWithShape="0">
              <a:srgbClr val="758798"/>
            </a:outerShdw>
          </a:effectLst>
        </p:spPr>
        <p:style>
          <a:lnRef idx="0"/>
          <a:fillRef idx="0"/>
          <a:effectRef idx="0"/>
          <a:fontRef idx="minor"/>
        </p:style>
        <p:txBody>
          <a:bodyPr wrap="none" lIns="18000" rIns="18000" tIns="18000" bIns="18000" anchor="ctr">
            <a:noAutofit/>
          </a:bodyPr>
          <a:p>
            <a:endParaRPr b="0" lang="en-US" sz="1800" spc="-1" strike="noStrike">
              <a:solidFill>
                <a:srgbClr val="000000"/>
              </a:solidFill>
              <a:latin typeface="Arial"/>
            </a:endParaRPr>
          </a:p>
        </p:txBody>
      </p:sp>
      <p:sp>
        <p:nvSpPr>
          <p:cNvPr id="293" name=""/>
          <p:cNvSpPr/>
          <p:nvPr/>
        </p:nvSpPr>
        <p:spPr>
          <a:xfrm>
            <a:off x="5634000" y="1442880"/>
            <a:ext cx="2449440" cy="5185080"/>
          </a:xfrm>
          <a:custGeom>
            <a:avLst/>
            <a:gdLst>
              <a:gd name="textAreaLeft" fmla="*/ 119520 w 2449440"/>
              <a:gd name="textAreaRight" fmla="*/ 2329920 w 2449440"/>
              <a:gd name="textAreaTop" fmla="*/ 119520 h 5185080"/>
              <a:gd name="textAreaBottom" fmla="*/ 5065560 h 5185080"/>
            </a:gdLst>
            <a:ahLst/>
            <a:rect l="textAreaLeft" t="textAreaTop" r="textAreaRight" b="textAreaBottom"/>
            <a:pathLst>
              <a:path w="21600" h="45720">
                <a:moveTo>
                  <a:pt x="3600" y="0"/>
                </a:moveTo>
                <a:arcTo wR="3600" hR="3600" stAng="16200000" swAng="-5400000"/>
                <a:lnTo>
                  <a:pt x="0" y="42120"/>
                </a:lnTo>
                <a:arcTo wR="3600" hR="3600" stAng="10800000" swAng="-5400000"/>
                <a:lnTo>
                  <a:pt x="18000" y="45720"/>
                </a:lnTo>
                <a:arcTo wR="3600" hR="3600" stAng="5400000" swAng="-5400000"/>
                <a:lnTo>
                  <a:pt x="21600" y="3600"/>
                </a:lnTo>
                <a:arcTo wR="3600" hR="3600" stAng="0" swAng="-5400000"/>
                <a:close/>
              </a:path>
            </a:pathLst>
          </a:custGeom>
          <a:solidFill>
            <a:srgbClr val="b7e7cf"/>
          </a:solidFill>
          <a:ln w="0">
            <a:noFill/>
          </a:ln>
          <a:effectLst>
            <a:outerShdw dist="17819" dir="2700000" blurRad="0" rotWithShape="0">
              <a:srgbClr val="6d8a7b"/>
            </a:outerShdw>
          </a:effectLst>
        </p:spPr>
        <p:style>
          <a:lnRef idx="0"/>
          <a:fillRef idx="0"/>
          <a:effectRef idx="0"/>
          <a:fontRef idx="minor"/>
        </p:style>
        <p:txBody>
          <a:bodyPr wrap="none" lIns="18000" rIns="18000" tIns="18000" bIns="18000" anchor="ctr">
            <a:noAutofit/>
          </a:bodyPr>
          <a:p>
            <a:endParaRPr b="0" lang="en-US" sz="1800" spc="-1" strike="noStrike">
              <a:solidFill>
                <a:srgbClr val="000000"/>
              </a:solidFill>
              <a:latin typeface="Arial"/>
            </a:endParaRPr>
          </a:p>
        </p:txBody>
      </p:sp>
      <p:sp>
        <p:nvSpPr>
          <p:cNvPr id="294" name=""/>
          <p:cNvSpPr/>
          <p:nvPr/>
        </p:nvSpPr>
        <p:spPr>
          <a:xfrm>
            <a:off x="593640" y="230652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変更の庁内情報収集</a:t>
            </a:r>
            <a:endParaRPr b="0" lang="en-US" sz="1400" spc="-1" strike="noStrike">
              <a:solidFill>
                <a:srgbClr val="000000"/>
              </a:solidFill>
              <a:latin typeface="Arial"/>
            </a:endParaRPr>
          </a:p>
        </p:txBody>
      </p:sp>
      <p:sp>
        <p:nvSpPr>
          <p:cNvPr id="295" name=""/>
          <p:cNvSpPr/>
          <p:nvPr/>
        </p:nvSpPr>
        <p:spPr>
          <a:xfrm>
            <a:off x="593640" y="280980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更新作業</a:t>
            </a:r>
            <a:endParaRPr b="0" lang="en-US" sz="1400" spc="-1" strike="noStrike">
              <a:solidFill>
                <a:srgbClr val="000000"/>
              </a:solidFill>
              <a:latin typeface="Arial"/>
            </a:endParaRPr>
          </a:p>
        </p:txBody>
      </p:sp>
      <p:sp>
        <p:nvSpPr>
          <p:cNvPr id="296" name=""/>
          <p:cNvSpPr/>
          <p:nvPr/>
        </p:nvSpPr>
        <p:spPr>
          <a:xfrm>
            <a:off x="593640" y="331488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検査</a:t>
            </a:r>
            <a:endParaRPr b="0" lang="en-US" sz="1400" spc="-1" strike="noStrike">
              <a:solidFill>
                <a:srgbClr val="000000"/>
              </a:solidFill>
              <a:latin typeface="Arial"/>
            </a:endParaRPr>
          </a:p>
        </p:txBody>
      </p:sp>
      <p:sp>
        <p:nvSpPr>
          <p:cNvPr id="297" name=""/>
          <p:cNvSpPr/>
          <p:nvPr/>
        </p:nvSpPr>
        <p:spPr>
          <a:xfrm>
            <a:off x="593640" y="381780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提供</a:t>
            </a:r>
            <a:endParaRPr b="0" lang="en-US" sz="1400" spc="-1" strike="noStrike">
              <a:solidFill>
                <a:srgbClr val="000000"/>
              </a:solidFill>
              <a:latin typeface="Arial"/>
            </a:endParaRPr>
          </a:p>
        </p:txBody>
      </p:sp>
      <p:sp>
        <p:nvSpPr>
          <p:cNvPr id="298" name=""/>
          <p:cNvSpPr/>
          <p:nvPr/>
        </p:nvSpPr>
        <p:spPr>
          <a:xfrm>
            <a:off x="3174840" y="3819600"/>
            <a:ext cx="483552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集約</a:t>
            </a:r>
            <a:endParaRPr b="0" lang="en-US" sz="1400" spc="-1" strike="noStrike">
              <a:solidFill>
                <a:srgbClr val="000000"/>
              </a:solidFill>
              <a:latin typeface="Arial"/>
            </a:endParaRPr>
          </a:p>
        </p:txBody>
      </p:sp>
      <p:sp>
        <p:nvSpPr>
          <p:cNvPr id="299" name=""/>
          <p:cNvSpPr/>
          <p:nvPr/>
        </p:nvSpPr>
        <p:spPr>
          <a:xfrm>
            <a:off x="3174840" y="4324320"/>
            <a:ext cx="483552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仕様確認</a:t>
            </a:r>
            <a:endParaRPr b="0" lang="en-US" sz="1400" spc="-1" strike="noStrike">
              <a:solidFill>
                <a:srgbClr val="000000"/>
              </a:solidFill>
              <a:latin typeface="Arial"/>
            </a:endParaRPr>
          </a:p>
        </p:txBody>
      </p:sp>
      <p:sp>
        <p:nvSpPr>
          <p:cNvPr id="300" name=""/>
          <p:cNvSpPr/>
          <p:nvPr/>
        </p:nvSpPr>
        <p:spPr>
          <a:xfrm>
            <a:off x="5778360" y="619272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公開</a:t>
            </a:r>
            <a:endParaRPr b="0" lang="en-US" sz="1400" spc="-1" strike="noStrike">
              <a:solidFill>
                <a:srgbClr val="000000"/>
              </a:solidFill>
              <a:latin typeface="Arial"/>
            </a:endParaRPr>
          </a:p>
        </p:txBody>
      </p:sp>
      <p:sp>
        <p:nvSpPr>
          <p:cNvPr id="301" name=""/>
          <p:cNvSpPr/>
          <p:nvPr/>
        </p:nvSpPr>
        <p:spPr>
          <a:xfrm>
            <a:off x="5778360" y="533088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MieClickMaps</a:t>
            </a:r>
            <a:r>
              <a:rPr b="1" lang="ja-JP" sz="1400" spc="-1" strike="noStrike">
                <a:solidFill>
                  <a:srgbClr val="000000"/>
                </a:solidFill>
                <a:latin typeface="MS UI Gothic"/>
                <a:ea typeface="MS UI Gothic"/>
              </a:rPr>
              <a:t>へ搭載</a:t>
            </a:r>
            <a:r>
              <a:rPr b="1" lang="ja-JP" sz="1400" spc="-1" strike="noStrike">
                <a:solidFill>
                  <a:srgbClr val="000000"/>
                </a:solidFill>
                <a:latin typeface="Arial"/>
                <a:ea typeface="MS UI Gothic"/>
              </a:rPr>
              <a:t>作業</a:t>
            </a:r>
            <a:endParaRPr b="0" lang="en-US" sz="1400" spc="-1" strike="noStrike">
              <a:solidFill>
                <a:srgbClr val="000000"/>
              </a:solidFill>
              <a:latin typeface="Arial"/>
            </a:endParaRPr>
          </a:p>
        </p:txBody>
      </p:sp>
      <p:pic>
        <p:nvPicPr>
          <p:cNvPr id="302" name="" descr=""/>
          <p:cNvPicPr/>
          <p:nvPr/>
        </p:nvPicPr>
        <p:blipFill>
          <a:blip r:embed="rId1"/>
          <a:stretch/>
        </p:blipFill>
        <p:spPr>
          <a:xfrm>
            <a:off x="1100160" y="1730520"/>
            <a:ext cx="1081080" cy="517320"/>
          </a:xfrm>
          <a:prstGeom prst="rect">
            <a:avLst/>
          </a:prstGeom>
          <a:ln w="0">
            <a:noFill/>
          </a:ln>
        </p:spPr>
      </p:pic>
      <p:pic>
        <p:nvPicPr>
          <p:cNvPr id="303" name="" descr=""/>
          <p:cNvPicPr/>
          <p:nvPr/>
        </p:nvPicPr>
        <p:blipFill>
          <a:blip r:embed="rId2"/>
          <a:stretch/>
        </p:blipFill>
        <p:spPr>
          <a:xfrm>
            <a:off x="3762360" y="1730520"/>
            <a:ext cx="1108080" cy="517320"/>
          </a:xfrm>
          <a:prstGeom prst="rect">
            <a:avLst/>
          </a:prstGeom>
          <a:ln w="0">
            <a:noFill/>
          </a:ln>
        </p:spPr>
      </p:pic>
      <p:sp>
        <p:nvSpPr>
          <p:cNvPr id="304" name=""/>
          <p:cNvSpPr/>
          <p:nvPr/>
        </p:nvSpPr>
        <p:spPr>
          <a:xfrm>
            <a:off x="884160" y="1442880"/>
            <a:ext cx="1511280" cy="27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市町</a:t>
            </a:r>
            <a:endParaRPr b="0" lang="en-US" sz="1600" spc="-1" strike="noStrike">
              <a:solidFill>
                <a:srgbClr val="000000"/>
              </a:solidFill>
              <a:latin typeface="Arial"/>
            </a:endParaRPr>
          </a:p>
        </p:txBody>
      </p:sp>
      <p:sp>
        <p:nvSpPr>
          <p:cNvPr id="305" name=""/>
          <p:cNvSpPr/>
          <p:nvPr/>
        </p:nvSpPr>
        <p:spPr>
          <a:xfrm>
            <a:off x="3546360" y="1442880"/>
            <a:ext cx="1511280" cy="27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自治会館組合</a:t>
            </a:r>
            <a:endParaRPr b="0" lang="en-US" sz="1600" spc="-1" strike="noStrike">
              <a:solidFill>
                <a:srgbClr val="000000"/>
              </a:solidFill>
              <a:latin typeface="Arial"/>
            </a:endParaRPr>
          </a:p>
        </p:txBody>
      </p:sp>
      <p:pic>
        <p:nvPicPr>
          <p:cNvPr id="306" name="" descr=""/>
          <p:cNvPicPr/>
          <p:nvPr/>
        </p:nvPicPr>
        <p:blipFill>
          <a:blip r:embed="rId3"/>
          <a:stretch/>
        </p:blipFill>
        <p:spPr>
          <a:xfrm>
            <a:off x="6354720" y="1730520"/>
            <a:ext cx="1108080" cy="517320"/>
          </a:xfrm>
          <a:prstGeom prst="rect">
            <a:avLst/>
          </a:prstGeom>
          <a:ln w="0">
            <a:noFill/>
          </a:ln>
        </p:spPr>
      </p:pic>
      <p:sp>
        <p:nvSpPr>
          <p:cNvPr id="307" name=""/>
          <p:cNvSpPr/>
          <p:nvPr/>
        </p:nvSpPr>
        <p:spPr>
          <a:xfrm>
            <a:off x="6138720" y="1442880"/>
            <a:ext cx="1511280" cy="279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三重県</a:t>
            </a:r>
            <a:endParaRPr b="0" lang="en-US" sz="1600" spc="-1" strike="noStrike">
              <a:solidFill>
                <a:srgbClr val="000000"/>
              </a:solidFill>
              <a:latin typeface="Arial"/>
            </a:endParaRPr>
          </a:p>
        </p:txBody>
      </p:sp>
      <p:sp>
        <p:nvSpPr>
          <p:cNvPr id="308" name=""/>
          <p:cNvSpPr/>
          <p:nvPr/>
        </p:nvSpPr>
        <p:spPr>
          <a:xfrm>
            <a:off x="593640" y="4324320"/>
            <a:ext cx="2232000" cy="289080"/>
          </a:xfrm>
          <a:prstGeom prst="rect">
            <a:avLst/>
          </a:prstGeom>
          <a:solidFill>
            <a:srgbClr val="f0f0f0"/>
          </a:solidFill>
          <a:ln w="22320">
            <a:solidFill>
              <a:srgbClr val="4d4d4d"/>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修正</a:t>
            </a:r>
            <a:endParaRPr b="0" lang="en-US" sz="1400" spc="-1" strike="noStrike">
              <a:solidFill>
                <a:srgbClr val="000000"/>
              </a:solidFill>
              <a:latin typeface="Arial"/>
            </a:endParaRPr>
          </a:p>
        </p:txBody>
      </p:sp>
      <p:sp>
        <p:nvSpPr>
          <p:cNvPr id="309" name=""/>
          <p:cNvSpPr/>
          <p:nvPr/>
        </p:nvSpPr>
        <p:spPr>
          <a:xfrm>
            <a:off x="593640" y="4827600"/>
            <a:ext cx="2232000" cy="289080"/>
          </a:xfrm>
          <a:prstGeom prst="rect">
            <a:avLst/>
          </a:prstGeom>
          <a:solidFill>
            <a:srgbClr val="f0f0f0"/>
          </a:solidFill>
          <a:ln w="22320">
            <a:solidFill>
              <a:srgbClr val="4d4d4d"/>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再提供</a:t>
            </a:r>
            <a:endParaRPr b="0" lang="en-US" sz="1400" spc="-1" strike="noStrike">
              <a:solidFill>
                <a:srgbClr val="000000"/>
              </a:solidFill>
              <a:latin typeface="Arial"/>
            </a:endParaRPr>
          </a:p>
        </p:txBody>
      </p:sp>
      <p:sp>
        <p:nvSpPr>
          <p:cNvPr id="310" name=""/>
          <p:cNvSpPr/>
          <p:nvPr/>
        </p:nvSpPr>
        <p:spPr>
          <a:xfrm>
            <a:off x="3174840" y="4827600"/>
            <a:ext cx="483552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管理</a:t>
            </a:r>
            <a:endParaRPr b="0" lang="en-US" sz="1400" spc="-1" strike="noStrike">
              <a:solidFill>
                <a:srgbClr val="000000"/>
              </a:solidFill>
              <a:latin typeface="Arial"/>
            </a:endParaRPr>
          </a:p>
        </p:txBody>
      </p:sp>
      <p:sp>
        <p:nvSpPr>
          <p:cNvPr id="311" name=""/>
          <p:cNvSpPr/>
          <p:nvPr/>
        </p:nvSpPr>
        <p:spPr>
          <a:xfrm>
            <a:off x="593640" y="533088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利活用</a:t>
            </a:r>
            <a:endParaRPr b="0" lang="en-US" sz="1400" spc="-1" strike="noStrike">
              <a:solidFill>
                <a:srgbClr val="000000"/>
              </a:solidFill>
              <a:latin typeface="Arial"/>
            </a:endParaRPr>
          </a:p>
        </p:txBody>
      </p:sp>
      <p:sp>
        <p:nvSpPr>
          <p:cNvPr id="312" name=""/>
          <p:cNvSpPr/>
          <p:nvPr/>
        </p:nvSpPr>
        <p:spPr>
          <a:xfrm>
            <a:off x="1674720" y="2595600"/>
            <a:ext cx="0" cy="216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3" name=""/>
          <p:cNvSpPr/>
          <p:nvPr/>
        </p:nvSpPr>
        <p:spPr>
          <a:xfrm>
            <a:off x="1674720" y="3098880"/>
            <a:ext cx="0" cy="216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4" name=""/>
          <p:cNvSpPr/>
          <p:nvPr/>
        </p:nvSpPr>
        <p:spPr>
          <a:xfrm>
            <a:off x="1674720" y="3603600"/>
            <a:ext cx="0" cy="216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5" name=""/>
          <p:cNvSpPr/>
          <p:nvPr/>
        </p:nvSpPr>
        <p:spPr>
          <a:xfrm>
            <a:off x="5564160" y="4106880"/>
            <a:ext cx="0" cy="216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6" name=""/>
          <p:cNvSpPr/>
          <p:nvPr/>
        </p:nvSpPr>
        <p:spPr>
          <a:xfrm>
            <a:off x="5564160" y="4611600"/>
            <a:ext cx="0" cy="216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7" name=""/>
          <p:cNvSpPr/>
          <p:nvPr/>
        </p:nvSpPr>
        <p:spPr>
          <a:xfrm>
            <a:off x="6859440" y="5978520"/>
            <a:ext cx="0" cy="21600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8" name=""/>
          <p:cNvSpPr/>
          <p:nvPr/>
        </p:nvSpPr>
        <p:spPr>
          <a:xfrm>
            <a:off x="2827440" y="3963960"/>
            <a:ext cx="34740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19" name=""/>
          <p:cNvSpPr/>
          <p:nvPr/>
        </p:nvSpPr>
        <p:spPr>
          <a:xfrm flipH="1">
            <a:off x="2827080" y="4467240"/>
            <a:ext cx="347400" cy="0"/>
          </a:xfrm>
          <a:prstGeom prst="line">
            <a:avLst/>
          </a:prstGeom>
          <a:ln w="22320">
            <a:solidFill>
              <a:srgbClr val="4d4d4d"/>
            </a:solidFill>
            <a:prstDash val="sysDot"/>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20" name=""/>
          <p:cNvSpPr/>
          <p:nvPr/>
        </p:nvSpPr>
        <p:spPr>
          <a:xfrm>
            <a:off x="2827440" y="4971960"/>
            <a:ext cx="360360" cy="0"/>
          </a:xfrm>
          <a:prstGeom prst="line">
            <a:avLst/>
          </a:prstGeom>
          <a:ln w="22320">
            <a:solidFill>
              <a:srgbClr val="4d4d4d"/>
            </a:solidFill>
            <a:prstDash val="sysDot"/>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21" name=""/>
          <p:cNvSpPr/>
          <p:nvPr/>
        </p:nvSpPr>
        <p:spPr>
          <a:xfrm>
            <a:off x="1674720" y="4611600"/>
            <a:ext cx="0" cy="216000"/>
          </a:xfrm>
          <a:prstGeom prst="line">
            <a:avLst/>
          </a:prstGeom>
          <a:ln w="22320">
            <a:solidFill>
              <a:srgbClr val="4d4d4d"/>
            </a:solidFill>
            <a:prstDash val="sysDot"/>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22" name=""/>
          <p:cNvSpPr/>
          <p:nvPr/>
        </p:nvSpPr>
        <p:spPr>
          <a:xfrm>
            <a:off x="5778360" y="230652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の集約依頼</a:t>
            </a:r>
            <a:endParaRPr b="0" lang="en-US" sz="1400" spc="-1" strike="noStrike">
              <a:solidFill>
                <a:srgbClr val="000000"/>
              </a:solidFill>
              <a:latin typeface="Arial"/>
            </a:endParaRPr>
          </a:p>
        </p:txBody>
      </p:sp>
      <p:sp>
        <p:nvSpPr>
          <p:cNvPr id="323" name=""/>
          <p:cNvSpPr/>
          <p:nvPr/>
        </p:nvSpPr>
        <p:spPr>
          <a:xfrm flipH="1">
            <a:off x="2827080" y="2451240"/>
            <a:ext cx="2950920" cy="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24" name=""/>
          <p:cNvSpPr/>
          <p:nvPr/>
        </p:nvSpPr>
        <p:spPr>
          <a:xfrm>
            <a:off x="5778360" y="5689440"/>
            <a:ext cx="2232000" cy="28908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防災みえ</a:t>
            </a:r>
            <a:r>
              <a:rPr b="1" lang="en-US" sz="1400" spc="-1" strike="noStrike">
                <a:solidFill>
                  <a:srgbClr val="000000"/>
                </a:solidFill>
                <a:latin typeface="MS UI Gothic"/>
                <a:ea typeface="MS UI Gothic"/>
              </a:rPr>
              <a:t>.jp</a:t>
            </a:r>
            <a:r>
              <a:rPr b="1" lang="ja-JP" sz="1400" spc="-1" strike="noStrike">
                <a:solidFill>
                  <a:srgbClr val="000000"/>
                </a:solidFill>
                <a:latin typeface="MS UI Gothic"/>
                <a:ea typeface="MS UI Gothic"/>
              </a:rPr>
              <a:t>へ搭載作業</a:t>
            </a:r>
            <a:endParaRPr b="0" lang="en-US" sz="1400" spc="-1" strike="noStrike">
              <a:solidFill>
                <a:srgbClr val="000000"/>
              </a:solidFill>
              <a:latin typeface="Arial"/>
            </a:endParaRPr>
          </a:p>
        </p:txBody>
      </p:sp>
      <p:sp>
        <p:nvSpPr>
          <p:cNvPr id="325" name=""/>
          <p:cNvSpPr/>
          <p:nvPr/>
        </p:nvSpPr>
        <p:spPr>
          <a:xfrm>
            <a:off x="6859440" y="5116680"/>
            <a:ext cx="0" cy="215640"/>
          </a:xfrm>
          <a:prstGeom prst="line">
            <a:avLst/>
          </a:prstGeom>
          <a:ln w="22320">
            <a:solidFill>
              <a:srgbClr val="4d4d4d"/>
            </a:solidFill>
            <a:miter/>
            <a:tailEnd len="med" type="triangle" w="lg"/>
          </a:ln>
        </p:spPr>
        <p:style>
          <a:lnRef idx="0"/>
          <a:fillRef idx="0"/>
          <a:effectRef idx="0"/>
          <a:fontRef idx="minor"/>
        </p:style>
        <p:txBody>
          <a:bodyPr lIns="18000" rIns="18000" tIns="18000" bIns="18000" anchor="ctr">
            <a:noAutofit/>
          </a:bodyPr>
          <a:p>
            <a:endParaRPr b="0" lang="en-US" sz="1800" spc="-1" strike="noStrike">
              <a:solidFill>
                <a:srgbClr val="000000"/>
              </a:solidFill>
              <a:latin typeface="Arial"/>
            </a:endParaRPr>
          </a:p>
        </p:txBody>
      </p:sp>
      <p:sp>
        <p:nvSpPr>
          <p:cNvPr id="326" name=""/>
          <p:cNvSpPr/>
          <p:nvPr/>
        </p:nvSpPr>
        <p:spPr>
          <a:xfrm>
            <a:off x="3186000" y="576432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避難所データ利活用事例紹介</a:t>
            </a:r>
            <a:endParaRPr b="0" lang="en-US" sz="1400" spc="-1" strike="noStrike">
              <a:solidFill>
                <a:srgbClr val="000000"/>
              </a:solidFill>
              <a:latin typeface="Arial"/>
            </a:endParaRPr>
          </a:p>
        </p:txBody>
      </p:sp>
      <p:sp>
        <p:nvSpPr>
          <p:cNvPr id="327" name=""/>
          <p:cNvSpPr/>
          <p:nvPr/>
        </p:nvSpPr>
        <p:spPr>
          <a:xfrm>
            <a:off x="3186000" y="5330880"/>
            <a:ext cx="2232000" cy="288720"/>
          </a:xfrm>
          <a:prstGeom prst="rect">
            <a:avLst/>
          </a:prstGeom>
          <a:solidFill>
            <a:srgbClr val="f0f0f0"/>
          </a:solidFill>
          <a:ln w="2232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技術的サポート</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78F8EEC-25D1-46F4-A770-BCE22AE46E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920" y="1196640"/>
            <a:ext cx="8642160" cy="51116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１．これまでの</a:t>
            </a:r>
            <a:r>
              <a:rPr b="0" lang="en-US" sz="4000" spc="-1" strike="noStrike">
                <a:solidFill>
                  <a:srgbClr val="000000"/>
                </a:solidFill>
                <a:latin typeface="HGPｺﾞｼｯｸE"/>
              </a:rPr>
              <a:t>WG</a:t>
            </a:r>
            <a:r>
              <a:rPr b="0" lang="ja-JP" sz="4000" spc="-1" strike="noStrike">
                <a:solidFill>
                  <a:srgbClr val="000000"/>
                </a:solidFill>
                <a:latin typeface="HGPｺﾞｼｯｸE"/>
              </a:rPr>
              <a:t>のおさらい</a:t>
            </a:r>
            <a:endParaRPr b="0" lang="en-US" sz="4000" spc="-1" strike="noStrike">
              <a:solidFill>
                <a:srgbClr val="000000"/>
              </a:solidFill>
              <a:latin typeface="HGPｺﾞｼｯｸE"/>
            </a:endParaRPr>
          </a:p>
        </p:txBody>
      </p:sp>
      <p:sp>
        <p:nvSpPr>
          <p:cNvPr id="3" name="PlaceHolder 2"/>
          <p:cNvSpPr>
            <a:spLocks noGrp="1"/>
          </p:cNvSpPr>
          <p:nvPr>
            <p:ph type="sldNum" idx="3"/>
          </p:nvPr>
        </p:nvSpPr>
        <p:spPr/>
        <p:txBody>
          <a:bodyPr/>
          <a:p>
            <a:fld id="{8F7680CD-013F-4178-AE9E-7BFB0C12F5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250920" y="907920"/>
            <a:ext cx="8642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第</a:t>
            </a:r>
            <a:r>
              <a:rPr b="0" lang="en-US" sz="2800" spc="-1" strike="noStrike">
                <a:solidFill>
                  <a:srgbClr val="000000"/>
                </a:solidFill>
                <a:latin typeface="HGPｺﾞｼｯｸE"/>
              </a:rPr>
              <a:t>2</a:t>
            </a:r>
            <a:r>
              <a:rPr b="0" lang="ja-JP" sz="2800" spc="-1" strike="noStrike">
                <a:solidFill>
                  <a:srgbClr val="000000"/>
                </a:solidFill>
                <a:latin typeface="HGPｺﾞｼｯｸE"/>
              </a:rPr>
              <a:t>～</a:t>
            </a:r>
            <a:r>
              <a:rPr b="0" lang="en-US" sz="2800" spc="-1" strike="noStrike">
                <a:solidFill>
                  <a:srgbClr val="000000"/>
                </a:solidFill>
                <a:latin typeface="HGPｺﾞｼｯｸE"/>
              </a:rPr>
              <a:t>3</a:t>
            </a:r>
            <a:r>
              <a:rPr b="0" lang="ja-JP" sz="2800" spc="-1" strike="noStrike">
                <a:solidFill>
                  <a:srgbClr val="000000"/>
                </a:solidFill>
                <a:latin typeface="HGPｺﾞｼｯｸE"/>
              </a:rPr>
              <a:t>回</a:t>
            </a:r>
            <a:r>
              <a:rPr b="0" lang="en-US" sz="2800" spc="-1" strike="noStrike">
                <a:solidFill>
                  <a:srgbClr val="000000"/>
                </a:solidFill>
                <a:latin typeface="HGPｺﾞｼｯｸE"/>
              </a:rPr>
              <a:t>WG</a:t>
            </a:r>
            <a:r>
              <a:rPr b="0" lang="ja-JP" sz="2800" spc="-1" strike="noStrike">
                <a:solidFill>
                  <a:srgbClr val="000000"/>
                </a:solidFill>
                <a:latin typeface="HGPｺﾞｼｯｸE"/>
              </a:rPr>
              <a:t>およびレビューシートにおいて、以下の事項が課題として挙げられました。本事項を元にガイドラインの改訂を実施しています。</a:t>
            </a:r>
            <a:endParaRPr b="0" lang="en-US" sz="2800" spc="-1" strike="noStrike">
              <a:solidFill>
                <a:srgbClr val="000000"/>
              </a:solidFill>
              <a:latin typeface="HGPｺﾞｼｯｸE"/>
            </a:endParaRPr>
          </a:p>
        </p:txBody>
      </p:sp>
      <p:sp>
        <p:nvSpPr>
          <p:cNvPr id="329"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２．ガイドラインの見直し</a:t>
            </a:r>
            <a:endParaRPr b="0" lang="en-US" sz="2800" spc="-1" strike="noStrike">
              <a:solidFill>
                <a:srgbClr val="000000"/>
              </a:solidFill>
              <a:latin typeface="Arial"/>
            </a:endParaRPr>
          </a:p>
        </p:txBody>
      </p:sp>
      <p:graphicFrame>
        <p:nvGraphicFramePr>
          <p:cNvPr id="330" name=""/>
          <p:cNvGraphicFramePr/>
          <p:nvPr/>
        </p:nvGraphicFramePr>
        <p:xfrm>
          <a:off x="442800" y="2624040"/>
          <a:ext cx="8353440" cy="3576600"/>
        </p:xfrm>
        <a:graphic>
          <a:graphicData uri="http://schemas.openxmlformats.org/drawingml/2006/table">
            <a:tbl>
              <a:tblPr/>
              <a:tblGrid>
                <a:gridCol w="504720"/>
                <a:gridCol w="78487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課題</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①</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避難所情報の変更履歴が正確に収集できなかった</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②</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避難所データ仕様全ての項目の収集は困難</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③</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QGIS</a:t>
                      </a:r>
                      <a:r>
                        <a:rPr b="0" lang="ja-JP" sz="2000" spc="-1" strike="noStrike">
                          <a:solidFill>
                            <a:srgbClr val="000000"/>
                          </a:solidFill>
                          <a:latin typeface="MS UI Gothic"/>
                          <a:ea typeface="MS UI Gothic"/>
                        </a:rPr>
                        <a:t>のインストールには情報セクションの了承を得る必要がある</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④</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既に利用している</a:t>
                      </a:r>
                      <a:r>
                        <a:rPr b="0" lang="en-US" sz="2000" spc="-1" strike="noStrike">
                          <a:solidFill>
                            <a:srgbClr val="000000"/>
                          </a:solidFill>
                          <a:latin typeface="MS UI Gothic"/>
                          <a:ea typeface="MS UI Gothic"/>
                        </a:rPr>
                        <a:t>GIS</a:t>
                      </a:r>
                      <a:r>
                        <a:rPr b="0" lang="ja-JP" sz="2000" spc="-1" strike="noStrike">
                          <a:solidFill>
                            <a:srgbClr val="000000"/>
                          </a:solidFill>
                          <a:latin typeface="MS UI Gothic"/>
                          <a:ea typeface="MS UI Gothic"/>
                        </a:rPr>
                        <a:t>と比較すると、慣れないためか使いづらい</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⑤</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避難所データの位置精度に問題があるため、修正数量が多い</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⑥</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今後、ファイル容量が大きくなれば、メール送信が困難になる</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⑦</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本事業により、県と常に最新の情報を共有できる仕組みの確立が必要</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⑧</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避難所の位置精度の規定がない</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6A39F85-92E6-465D-BDE4-27B137AE9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txBox="1"/>
          <p:nvPr/>
        </p:nvSpPr>
        <p:spPr>
          <a:xfrm>
            <a:off x="250920" y="907920"/>
            <a:ext cx="8642160" cy="5950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避難所の位置精度の規定の追加</a:t>
            </a:r>
            <a:endParaRPr b="0" lang="en-US" sz="2800" spc="-1" strike="noStrike">
              <a:solidFill>
                <a:srgbClr val="000000"/>
              </a:solidFill>
              <a:latin typeface="HGPｺﾞｼｯｸE"/>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避難所データの新規作成、更新時の避難所位置の決定の手法については、作業者により相違が出てきます。</a:t>
            </a: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そこでガイドライン上では、以下のように概ねの位置取得の手法を明記します。</a:t>
            </a:r>
            <a:endParaRPr b="0" lang="en-US" sz="2400" spc="-1" strike="noStrike">
              <a:solidFill>
                <a:srgbClr val="000000"/>
              </a:solidFill>
              <a:latin typeface="ＭＳ Ｐゴシック"/>
            </a:endParaRPr>
          </a:p>
          <a:p>
            <a:pPr lvl="2" marL="1143000" indent="-228600">
              <a:lnSpc>
                <a:spcPct val="10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システム上での地図の縮尺は、概ね</a:t>
            </a:r>
            <a:r>
              <a:rPr b="0" lang="en-US" sz="2000" spc="-1" strike="noStrike">
                <a:solidFill>
                  <a:srgbClr val="000000"/>
                </a:solidFill>
                <a:latin typeface="MS UI Gothic"/>
                <a:ea typeface="MS UI Gothic"/>
              </a:rPr>
              <a:t>2500</a:t>
            </a:r>
            <a:r>
              <a:rPr b="0" lang="ja-JP" sz="2000" spc="-1" strike="noStrike">
                <a:solidFill>
                  <a:srgbClr val="000000"/>
                </a:solidFill>
                <a:latin typeface="MS UI Gothic"/>
                <a:ea typeface="MS UI Gothic"/>
              </a:rPr>
              <a:t>前後で地図表示して作図を行う。</a:t>
            </a:r>
            <a:endParaRPr b="0" lang="en-US" sz="2000" spc="-1" strike="noStrike">
              <a:solidFill>
                <a:srgbClr val="000000"/>
              </a:solidFill>
              <a:latin typeface="ＭＳ Ｐゴシック"/>
            </a:endParaRPr>
          </a:p>
          <a:p>
            <a:pPr lvl="2" marL="1143000" indent="-228600">
              <a:lnSpc>
                <a:spcPct val="10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避難所は、共有</a:t>
            </a:r>
            <a:r>
              <a:rPr b="0" lang="en-US" sz="2000" spc="-1" strike="noStrike">
                <a:solidFill>
                  <a:srgbClr val="000000"/>
                </a:solidFill>
                <a:latin typeface="MS UI Gothic"/>
                <a:ea typeface="MS UI Gothic"/>
              </a:rPr>
              <a:t>DM</a:t>
            </a:r>
            <a:r>
              <a:rPr b="0" lang="ja-JP" sz="2000" spc="-1" strike="noStrike">
                <a:solidFill>
                  <a:srgbClr val="000000"/>
                </a:solidFill>
                <a:latin typeface="MS UI Gothic"/>
                <a:ea typeface="MS UI Gothic"/>
              </a:rPr>
              <a:t>の該当建物内に避難所ポイントを作図するものとする。</a:t>
            </a:r>
            <a:endParaRPr b="0" lang="en-US" sz="2000" spc="-1" strike="noStrike">
              <a:solidFill>
                <a:srgbClr val="000000"/>
              </a:solidFill>
              <a:latin typeface="ＭＳ Ｐゴシック"/>
            </a:endParaRPr>
          </a:p>
          <a:p>
            <a:pPr lvl="2" marL="1143000" indent="-228600">
              <a:lnSpc>
                <a:spcPct val="100000"/>
              </a:lnSpc>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避難場所や経年変化により建物図形が存在しない箇所については、概ね、想定箇所の中央に配置するものとする。</a:t>
            </a:r>
            <a:endParaRPr b="0" lang="en-US" sz="2000" spc="-1" strike="noStrike">
              <a:solidFill>
                <a:srgbClr val="000000"/>
              </a:solidFill>
              <a:latin typeface="ＭＳ Ｐゴシック"/>
            </a:endParaRPr>
          </a:p>
        </p:txBody>
      </p:sp>
      <p:sp>
        <p:nvSpPr>
          <p:cNvPr id="332"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２．ガイドラインの見直し</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755736C-7177-434F-8058-BE61EFAE1F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250920" y="1196640"/>
            <a:ext cx="8642160" cy="51116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３．被災自治体における</a:t>
            </a: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地図の利活用調査</a:t>
            </a: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p:txBody>
      </p:sp>
      <p:sp>
        <p:nvSpPr>
          <p:cNvPr id="3" name="PlaceHolder 2"/>
          <p:cNvSpPr>
            <a:spLocks noGrp="1"/>
          </p:cNvSpPr>
          <p:nvPr>
            <p:ph type="sldNum" idx="3"/>
          </p:nvPr>
        </p:nvSpPr>
        <p:spPr/>
        <p:txBody>
          <a:bodyPr/>
          <a:p>
            <a:fld id="{BE9B9277-DB66-4B49-ADF1-5D94A2297A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28520" y="836640"/>
            <a:ext cx="8785440" cy="51134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被災自治体における</a:t>
            </a:r>
            <a:r>
              <a:rPr b="0" lang="en-US" sz="2800" spc="-1" strike="noStrike">
                <a:solidFill>
                  <a:srgbClr val="000000"/>
                </a:solidFill>
                <a:latin typeface="HGPｺﾞｼｯｸE"/>
              </a:rPr>
              <a:t>GIS</a:t>
            </a:r>
            <a:r>
              <a:rPr b="0" lang="ja-JP" sz="2800" spc="-1" strike="noStrike">
                <a:solidFill>
                  <a:srgbClr val="000000"/>
                </a:solidFill>
                <a:latin typeface="HGPｺﾞｼｯｸE"/>
              </a:rPr>
              <a:t>の利用</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自治会館組合では、台風</a:t>
            </a:r>
            <a:r>
              <a:rPr b="0" lang="en-US" sz="2400" spc="-1" strike="noStrike">
                <a:solidFill>
                  <a:srgbClr val="000000"/>
                </a:solidFill>
                <a:latin typeface="ＭＳ Ｐゴシック"/>
              </a:rPr>
              <a:t>12</a:t>
            </a:r>
            <a:r>
              <a:rPr b="0" lang="ja-JP" sz="2400" spc="-1" strike="noStrike">
                <a:solidFill>
                  <a:srgbClr val="000000"/>
                </a:solidFill>
                <a:latin typeface="ＭＳ Ｐゴシック"/>
              </a:rPr>
              <a:t>号被災自治体（熊野市、御浜町、紀宝町）に対して、民間会社の協力を得、災害時に撮影した航空写真の提供やインターネットを利用した情報閲覧</a:t>
            </a:r>
            <a:r>
              <a:rPr b="0" lang="en-US" sz="2400" spc="-1" strike="noStrike">
                <a:solidFill>
                  <a:srgbClr val="000000"/>
                </a:solidFill>
                <a:latin typeface="ＭＳ Ｐゴシック"/>
              </a:rPr>
              <a:t>GIS</a:t>
            </a:r>
            <a:r>
              <a:rPr b="0" lang="ja-JP" sz="2400" spc="-1" strike="noStrike">
                <a:solidFill>
                  <a:srgbClr val="000000"/>
                </a:solidFill>
                <a:latin typeface="ＭＳ Ｐゴシック"/>
              </a:rPr>
              <a:t>を提供し、被災自治体から、その有効性について評価いただいており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ただし、現状では、以下の点で課題も挙がっているのが実情です。</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被災後の状況を鑑みて、インターネット環境（クラウド）さえあれば動作可能で、特定のプラグインを必要としないシステムが必要</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被災状況を効率的に確認するために動作速度が速いシステムが必要</a:t>
            </a:r>
            <a:endParaRPr b="0" lang="en-US" sz="20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上記を踏まえ、今後、</a:t>
            </a:r>
            <a:r>
              <a:rPr b="0" lang="en-US" sz="2400" spc="-1" strike="noStrike">
                <a:solidFill>
                  <a:srgbClr val="000000"/>
                </a:solidFill>
                <a:latin typeface="ＭＳ Ｐゴシック"/>
              </a:rPr>
              <a:t>GIS</a:t>
            </a:r>
            <a:r>
              <a:rPr b="0" lang="ja-JP" sz="2400" spc="-1" strike="noStrike">
                <a:solidFill>
                  <a:srgbClr val="000000"/>
                </a:solidFill>
                <a:latin typeface="ＭＳ Ｐゴシック"/>
              </a:rPr>
              <a:t>を核として、防災情報の共有</a:t>
            </a:r>
            <a:r>
              <a:rPr b="0" lang="en-US" sz="2400" spc="-1" strike="noStrike">
                <a:solidFill>
                  <a:srgbClr val="000000"/>
                </a:solidFill>
                <a:latin typeface="ＭＳ Ｐゴシック"/>
              </a:rPr>
              <a:t>/</a:t>
            </a:r>
            <a:r>
              <a:rPr b="0" lang="ja-JP" sz="2400" spc="-1" strike="noStrike">
                <a:solidFill>
                  <a:srgbClr val="000000"/>
                </a:solidFill>
                <a:latin typeface="ＭＳ Ｐゴシック"/>
              </a:rPr>
              <a:t>利活用する仕組みを、来年度以降も検討していく予定です。</a:t>
            </a:r>
            <a:endParaRPr b="0" lang="en-US" sz="2400" spc="-1" strike="noStrike">
              <a:solidFill>
                <a:srgbClr val="000000"/>
              </a:solidFill>
              <a:latin typeface="ＭＳ Ｐゴシック"/>
            </a:endParaRPr>
          </a:p>
        </p:txBody>
      </p:sp>
      <p:sp>
        <p:nvSpPr>
          <p:cNvPr id="335" name="Rectangle 2"/>
          <p:cNvSpPr/>
          <p:nvPr/>
        </p:nvSpPr>
        <p:spPr>
          <a:xfrm>
            <a:off x="179280" y="115920"/>
            <a:ext cx="8785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PｺﾞｼｯｸE"/>
                <a:ea typeface="HGPｺﾞｼｯｸE"/>
              </a:rPr>
              <a:t>３．被災自治体における地図の利活用</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E622E79E-9183-4E7C-B75F-903F23BC4B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250920" y="1196640"/>
            <a:ext cx="8642160" cy="51116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４．今後の予定について</a:t>
            </a: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p:txBody>
      </p:sp>
      <p:sp>
        <p:nvSpPr>
          <p:cNvPr id="3" name="PlaceHolder 2"/>
          <p:cNvSpPr>
            <a:spLocks noGrp="1"/>
          </p:cNvSpPr>
          <p:nvPr>
            <p:ph type="sldNum" idx="3"/>
          </p:nvPr>
        </p:nvSpPr>
        <p:spPr/>
        <p:txBody>
          <a:bodyPr/>
          <a:p>
            <a:fld id="{E8E15F2D-E59C-466F-AAB9-408D9E6CC1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28520" y="836640"/>
            <a:ext cx="8785440" cy="5113440"/>
          </a:xfrm>
          <a:prstGeom prst="rect">
            <a:avLst/>
          </a:prstGeom>
          <a:noFill/>
          <a:ln w="0">
            <a:noFill/>
          </a:ln>
        </p:spPr>
        <p:txBody>
          <a:bodyPr anchor="t">
            <a:normAutofit/>
          </a:bodyPr>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避難所データの更新・運用ガイドラインをもとにした避難所</a:t>
            </a:r>
            <a:r>
              <a:rPr b="0" lang="en-US" sz="2800" spc="-1" strike="noStrike">
                <a:solidFill>
                  <a:srgbClr val="000000"/>
                </a:solidFill>
                <a:latin typeface="HGPｺﾞｼｯｸE"/>
              </a:rPr>
              <a:t>GIS</a:t>
            </a:r>
            <a:r>
              <a:rPr b="0" lang="ja-JP" sz="2800" spc="-1" strike="noStrike">
                <a:solidFill>
                  <a:srgbClr val="000000"/>
                </a:solidFill>
                <a:latin typeface="HGPｺﾞｼｯｸE"/>
              </a:rPr>
              <a:t>データの本格運用は平成</a:t>
            </a:r>
            <a:r>
              <a:rPr b="0" lang="en-US" sz="2800" spc="-1" strike="noStrike">
                <a:solidFill>
                  <a:srgbClr val="000000"/>
                </a:solidFill>
                <a:latin typeface="HGPｺﾞｼｯｸE"/>
              </a:rPr>
              <a:t>25</a:t>
            </a:r>
            <a:r>
              <a:rPr b="0" lang="ja-JP" sz="2800" spc="-1" strike="noStrike">
                <a:solidFill>
                  <a:srgbClr val="000000"/>
                </a:solidFill>
                <a:latin typeface="HGPｺﾞｼｯｸE"/>
              </a:rPr>
              <a:t>年度からを予定しています。</a:t>
            </a:r>
            <a:endParaRPr b="0" lang="en-US" sz="2800" spc="-1" strike="noStrike">
              <a:solidFill>
                <a:srgbClr val="000000"/>
              </a:solidFill>
              <a:latin typeface="HGPｺﾞｼｯｸ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次年度は避難所データの精度を向上させるために注力します。避難所データの再構成は</a:t>
            </a:r>
            <a:r>
              <a:rPr b="0" lang="en-US" sz="2800" spc="-1" strike="noStrike">
                <a:solidFill>
                  <a:srgbClr val="000000"/>
                </a:solidFill>
                <a:latin typeface="HGPｺﾞｼｯｸE"/>
              </a:rPr>
              <a:t>8</a:t>
            </a:r>
            <a:r>
              <a:rPr b="0" lang="ja-JP" sz="2800" spc="-1" strike="noStrike">
                <a:solidFill>
                  <a:srgbClr val="000000"/>
                </a:solidFill>
                <a:latin typeface="HGPｺﾞｼｯｸE"/>
              </a:rPr>
              <a:t>月頃を目処としています。</a:t>
            </a:r>
            <a:endParaRPr b="0" lang="en-US" sz="2800" spc="-1" strike="noStrike">
              <a:solidFill>
                <a:srgbClr val="000000"/>
              </a:solidFill>
              <a:latin typeface="HGPｺﾞｼｯｸ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343080">
              <a:lnSpc>
                <a:spcPct val="9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上記の流れとは別に、防災情報を共有</a:t>
            </a:r>
            <a:r>
              <a:rPr b="0" lang="en-US" sz="2800" spc="-1" strike="noStrike">
                <a:solidFill>
                  <a:srgbClr val="000000"/>
                </a:solidFill>
                <a:latin typeface="HGPｺﾞｼｯｸE"/>
              </a:rPr>
              <a:t>/</a:t>
            </a:r>
            <a:r>
              <a:rPr b="0" lang="ja-JP" sz="2800" spc="-1" strike="noStrike">
                <a:solidFill>
                  <a:srgbClr val="000000"/>
                </a:solidFill>
                <a:latin typeface="HGPｺﾞｼｯｸE"/>
              </a:rPr>
              <a:t>利活用する仕組みについて、組合では来年度も引き続き検討を行っていきますが、ワーキングという形での活動は今年度で終了となります。</a:t>
            </a:r>
            <a:endParaRPr b="0" lang="en-US" sz="2800" spc="-1" strike="noStrike">
              <a:solidFill>
                <a:srgbClr val="000000"/>
              </a:solidFill>
              <a:latin typeface="HGPｺﾞｼｯｸE"/>
            </a:endParaRPr>
          </a:p>
        </p:txBody>
      </p:sp>
      <p:sp>
        <p:nvSpPr>
          <p:cNvPr id="338" name="Rectangle 2"/>
          <p:cNvSpPr/>
          <p:nvPr/>
        </p:nvSpPr>
        <p:spPr>
          <a:xfrm>
            <a:off x="179280" y="115920"/>
            <a:ext cx="8785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HGPｺﾞｼｯｸE"/>
                <a:ea typeface="HGPｺﾞｼｯｸE"/>
              </a:rPr>
              <a:t>４．今後の予定について</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6ED74203-DDFB-4007-978D-1AA26FED9DB6}"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第１回安心安全</a:t>
            </a:r>
            <a:r>
              <a:rPr b="0" lang="en-US" sz="3200" spc="-1" strike="noStrike">
                <a:solidFill>
                  <a:srgbClr val="000000"/>
                </a:solidFill>
                <a:latin typeface="HGPｺﾞｼｯｸE"/>
              </a:rPr>
              <a:t>WG</a:t>
            </a:r>
            <a:r>
              <a:rPr b="0" lang="ja-JP" sz="3200" spc="-1" strike="noStrike">
                <a:solidFill>
                  <a:srgbClr val="000000"/>
                </a:solidFill>
                <a:latin typeface="HGPｺﾞｼｯｸE"/>
              </a:rPr>
              <a:t>のおさらい</a:t>
            </a:r>
            <a:endParaRPr b="0" lang="en-US" sz="3200" spc="-1" strike="noStrike">
              <a:solidFill>
                <a:srgbClr val="000000"/>
              </a:solidFill>
              <a:latin typeface="HGPｺﾞｼｯｸE"/>
            </a:endParaRPr>
          </a:p>
        </p:txBody>
      </p:sp>
      <p:sp>
        <p:nvSpPr>
          <p:cNvPr id="96" name="PlaceHolder 2"/>
          <p:cNvSpPr>
            <a:spLocks noGrp="1"/>
          </p:cNvSpPr>
          <p:nvPr>
            <p:ph/>
          </p:nvPr>
        </p:nvSpPr>
        <p:spPr>
          <a:xfrm>
            <a:off x="252360" y="1052640"/>
            <a:ext cx="8640720" cy="5256000"/>
          </a:xfrm>
          <a:prstGeom prst="rect">
            <a:avLst/>
          </a:prstGeom>
          <a:noFill/>
          <a:ln w="0">
            <a:noFill/>
          </a:ln>
        </p:spPr>
        <p:txBody>
          <a:bodyPr anchor="t">
            <a:normAutofit/>
          </a:bodyPr>
          <a:p>
            <a:pPr marL="343080" indent="-343080">
              <a:lnSpc>
                <a:spcPct val="90000"/>
              </a:lnSpc>
              <a:spcBef>
                <a:spcPts val="6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第１回安心・安全</a:t>
            </a:r>
            <a:r>
              <a:rPr b="0" lang="en-US" sz="2400" spc="-1" strike="noStrike">
                <a:solidFill>
                  <a:srgbClr val="000000"/>
                </a:solidFill>
                <a:latin typeface="HGPｺﾞｼｯｸE"/>
              </a:rPr>
              <a:t>WG</a:t>
            </a:r>
            <a:r>
              <a:rPr b="0" lang="ja-JP" sz="2400" spc="-1" strike="noStrike">
                <a:solidFill>
                  <a:srgbClr val="000000"/>
                </a:solidFill>
                <a:latin typeface="HGPｺﾞｼｯｸE"/>
              </a:rPr>
              <a:t>では以下の事項について、ご報告、協議等を行いました。</a:t>
            </a:r>
            <a:endParaRPr b="0" lang="en-US" sz="2400" spc="-1" strike="noStrike">
              <a:solidFill>
                <a:srgbClr val="000000"/>
              </a:solidFill>
              <a:latin typeface="HGPｺﾞｼｯｸE"/>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a:t>
            </a:r>
            <a:r>
              <a:rPr b="0" lang="en-US" sz="2000" spc="-1" strike="noStrike">
                <a:solidFill>
                  <a:srgbClr val="000000"/>
                </a:solidFill>
                <a:latin typeface="ＭＳ Ｐゴシック"/>
              </a:rPr>
              <a:t>22</a:t>
            </a:r>
            <a:r>
              <a:rPr b="0" lang="ja-JP" sz="2000" spc="-1" strike="noStrike">
                <a:solidFill>
                  <a:srgbClr val="000000"/>
                </a:solidFill>
                <a:latin typeface="ＭＳ Ｐゴシック"/>
              </a:rPr>
              <a:t>年度の検討経緯として、以下の項目の説明を行いました。</a:t>
            </a:r>
            <a:endParaRPr b="0" lang="en-US" sz="20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避難所データの更新及び配信手法の検討</a:t>
            </a:r>
            <a:endParaRPr b="0" lang="en-US" sz="18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県域で共有すべき防災情報に関する調査</a:t>
            </a:r>
            <a:endParaRPr b="0" lang="en-US" sz="18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今年度の活動計画として、以下の</a:t>
            </a:r>
            <a:r>
              <a:rPr b="0" lang="en-US" sz="2000" spc="-1" strike="noStrike">
                <a:solidFill>
                  <a:srgbClr val="000000"/>
                </a:solidFill>
                <a:latin typeface="ＭＳ Ｐゴシック"/>
              </a:rPr>
              <a:t>2</a:t>
            </a:r>
            <a:r>
              <a:rPr b="0" lang="ja-JP" sz="2000" spc="-1" strike="noStrike">
                <a:solidFill>
                  <a:srgbClr val="000000"/>
                </a:solidFill>
                <a:latin typeface="ＭＳ Ｐゴシック"/>
              </a:rPr>
              <a:t>点を検討していくことの説明を行いました。</a:t>
            </a:r>
            <a:endParaRPr b="0" lang="en-US" sz="20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避難所データの共同更新及び配信実験の実施</a:t>
            </a:r>
            <a:endParaRPr b="0" lang="en-US" sz="18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防災分野における共有デジタル地図の利活用手法の検討</a:t>
            </a:r>
            <a:endParaRPr b="0" lang="en-US" sz="18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避難所データの更新及び公開実験の実施のため、以下の説明を行いました。</a:t>
            </a:r>
            <a:endParaRPr b="0" lang="en-US" sz="20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避難所データについてのおさらい</a:t>
            </a:r>
            <a:endParaRPr b="0" lang="en-US" sz="18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避難所データを更新するメリット</a:t>
            </a:r>
            <a:endParaRPr b="0" lang="en-US" sz="1800" spc="-1" strike="noStrike">
              <a:solidFill>
                <a:srgbClr val="000000"/>
              </a:solidFill>
              <a:latin typeface="ＭＳ Ｐゴシック"/>
            </a:endParaRPr>
          </a:p>
          <a:p>
            <a:pPr lvl="2" marL="1143000" indent="-228600">
              <a:lnSpc>
                <a:spcPct val="90000"/>
              </a:lnSpc>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避難所データの更新実験の実施概要、目的、実施期間、実施内容</a:t>
            </a:r>
            <a:endParaRPr b="0" lang="en-US" sz="1800" spc="-1" strike="noStrike">
              <a:solidFill>
                <a:srgbClr val="000000"/>
              </a:solidFill>
              <a:latin typeface="ＭＳ Ｐゴシック"/>
            </a:endParaRPr>
          </a:p>
          <a:p>
            <a:pPr lvl="1" marL="743040" indent="-285840">
              <a:lnSpc>
                <a:spcPct val="90000"/>
              </a:lnSpc>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G</a:t>
            </a:r>
            <a:r>
              <a:rPr b="0" lang="ja-JP" sz="2000" spc="-1" strike="noStrike">
                <a:solidFill>
                  <a:srgbClr val="000000"/>
                </a:solidFill>
                <a:latin typeface="ＭＳ Ｐゴシック"/>
              </a:rPr>
              <a:t>終了後、避難所データ更新マニュアルに基づく</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操作研修会を開催しました。</a:t>
            </a:r>
            <a:endParaRPr b="0" lang="en-US" sz="2000" spc="-1" strike="noStrike">
              <a:solidFill>
                <a:srgbClr val="000000"/>
              </a:solidFill>
              <a:latin typeface="ＭＳ Ｐゴシック"/>
            </a:endParaRPr>
          </a:p>
        </p:txBody>
      </p:sp>
      <p:sp>
        <p:nvSpPr>
          <p:cNvPr id="4" name="PlaceHolder 3"/>
          <p:cNvSpPr>
            <a:spLocks noGrp="1"/>
          </p:cNvSpPr>
          <p:nvPr>
            <p:ph type="sldNum" idx="3"/>
          </p:nvPr>
        </p:nvSpPr>
        <p:spPr/>
        <p:txBody>
          <a:bodyPr/>
          <a:p>
            <a:fld id="{85A17088-F0F9-4152-ADBA-03AB16EE24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第２回安心安全</a:t>
            </a:r>
            <a:r>
              <a:rPr b="0" lang="en-US" sz="3200" spc="-1" strike="noStrike">
                <a:solidFill>
                  <a:srgbClr val="000000"/>
                </a:solidFill>
                <a:latin typeface="HGPｺﾞｼｯｸE"/>
              </a:rPr>
              <a:t>WG</a:t>
            </a:r>
            <a:r>
              <a:rPr b="0" lang="ja-JP" sz="3200" spc="-1" strike="noStrike">
                <a:solidFill>
                  <a:srgbClr val="000000"/>
                </a:solidFill>
                <a:latin typeface="HGPｺﾞｼｯｸE"/>
              </a:rPr>
              <a:t>のおさらい</a:t>
            </a:r>
            <a:endParaRPr b="0" lang="en-US" sz="3200" spc="-1" strike="noStrike">
              <a:solidFill>
                <a:srgbClr val="000000"/>
              </a:solidFill>
              <a:latin typeface="HGPｺﾞｼｯｸE"/>
            </a:endParaRPr>
          </a:p>
        </p:txBody>
      </p:sp>
      <p:sp>
        <p:nvSpPr>
          <p:cNvPr id="98" name="PlaceHolder 2"/>
          <p:cNvSpPr>
            <a:spLocks noGrp="1"/>
          </p:cNvSpPr>
          <p:nvPr>
            <p:ph/>
          </p:nvPr>
        </p:nvSpPr>
        <p:spPr>
          <a:xfrm>
            <a:off x="252360" y="1052640"/>
            <a:ext cx="8640720" cy="5256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第２回安心・安全</a:t>
            </a:r>
            <a:r>
              <a:rPr b="0" lang="en-US" sz="2800" spc="-1" strike="noStrike">
                <a:solidFill>
                  <a:srgbClr val="000000"/>
                </a:solidFill>
                <a:latin typeface="HGPｺﾞｼｯｸE"/>
              </a:rPr>
              <a:t>WG</a:t>
            </a:r>
            <a:r>
              <a:rPr b="0" lang="ja-JP" sz="2800" spc="-1" strike="noStrike">
                <a:solidFill>
                  <a:srgbClr val="000000"/>
                </a:solidFill>
                <a:latin typeface="HGPｺﾞｼｯｸE"/>
              </a:rPr>
              <a:t>では以下の事項について、ご報告、協議等を行いました。</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避難所データの更新及び公開実験についてのレビューシート及びヒアリング結果を元にした現状での更新作業の課題とその解決案について説明を行い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東日本大震災の被災自治体での地図の利活用調査を実施し、その結果報告を行いました。</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台風</a:t>
            </a:r>
            <a:r>
              <a:rPr b="0" lang="en-US" sz="2400" spc="-1" strike="noStrike">
                <a:solidFill>
                  <a:srgbClr val="000000"/>
                </a:solidFill>
                <a:latin typeface="ＭＳ Ｐゴシック"/>
              </a:rPr>
              <a:t>12</a:t>
            </a:r>
            <a:r>
              <a:rPr b="0" lang="ja-JP" sz="2400" spc="-1" strike="noStrike">
                <a:solidFill>
                  <a:srgbClr val="000000"/>
                </a:solidFill>
                <a:latin typeface="ＭＳ Ｐゴシック"/>
              </a:rPr>
              <a:t>号の被災自治体での地図の利活用調査を実施し、その結果報告を行いました。</a:t>
            </a:r>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2491E2F5-112B-4C9C-A676-D05B411C4E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３．第３回安心安全</a:t>
            </a:r>
            <a:r>
              <a:rPr b="0" lang="en-US" sz="3200" spc="-1" strike="noStrike">
                <a:solidFill>
                  <a:srgbClr val="000000"/>
                </a:solidFill>
                <a:latin typeface="HGPｺﾞｼｯｸE"/>
              </a:rPr>
              <a:t>WG</a:t>
            </a:r>
            <a:r>
              <a:rPr b="0" lang="ja-JP" sz="3200" spc="-1" strike="noStrike">
                <a:solidFill>
                  <a:srgbClr val="000000"/>
                </a:solidFill>
                <a:latin typeface="HGPｺﾞｼｯｸE"/>
              </a:rPr>
              <a:t>のおさらい</a:t>
            </a:r>
            <a:endParaRPr b="0" lang="en-US" sz="3200" spc="-1" strike="noStrike">
              <a:solidFill>
                <a:srgbClr val="000000"/>
              </a:solidFill>
              <a:latin typeface="HGPｺﾞｼｯｸE"/>
            </a:endParaRPr>
          </a:p>
        </p:txBody>
      </p:sp>
      <p:sp>
        <p:nvSpPr>
          <p:cNvPr id="100" name="PlaceHolder 2"/>
          <p:cNvSpPr>
            <a:spLocks noGrp="1"/>
          </p:cNvSpPr>
          <p:nvPr>
            <p:ph/>
          </p:nvPr>
        </p:nvSpPr>
        <p:spPr>
          <a:xfrm>
            <a:off x="252360" y="1052640"/>
            <a:ext cx="8640720" cy="5256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第３回安心・安全</a:t>
            </a:r>
            <a:r>
              <a:rPr b="0" lang="en-US" sz="2800" spc="-1" strike="noStrike">
                <a:solidFill>
                  <a:srgbClr val="000000"/>
                </a:solidFill>
                <a:latin typeface="HGPｺﾞｼｯｸE"/>
              </a:rPr>
              <a:t>WG</a:t>
            </a:r>
            <a:r>
              <a:rPr b="0" lang="ja-JP" sz="2800" spc="-1" strike="noStrike">
                <a:solidFill>
                  <a:srgbClr val="000000"/>
                </a:solidFill>
                <a:latin typeface="HGPｺﾞｼｯｸE"/>
              </a:rPr>
              <a:t>では以下の事項について、ご報告、協議等を行いました。</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避難所データの更新及び公開実験についてのレビューシート及びヒアリング結果を元にした更新作業の課題とその解決案について説明を行い、参加者の意見を伺いました。</a:t>
            </a:r>
            <a:endParaRPr b="0" lang="en-US" sz="24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意見を踏まえ、来年度の避難所データ更新の仕組みの適用方法を事務局において検討することとしました。</a:t>
            </a:r>
            <a:r>
              <a:rPr b="0" lang="ja-JP" sz="2800" spc="-1" strike="noStrike">
                <a:solidFill>
                  <a:srgbClr val="000000"/>
                </a:solidFill>
                <a:latin typeface="ＭＳ Ｐゴシック"/>
              </a:rPr>
              <a:t> </a:t>
            </a:r>
            <a:endParaRPr b="0" lang="en-US" sz="28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事務局において、被災自治体における防災情報に関する利用調査結果及び</a:t>
            </a:r>
            <a:r>
              <a:rPr b="0" lang="en-US" sz="2400" spc="-1" strike="noStrike">
                <a:solidFill>
                  <a:srgbClr val="000000"/>
                </a:solidFill>
                <a:latin typeface="ＭＳ Ｐゴシック"/>
              </a:rPr>
              <a:t>GIS</a:t>
            </a:r>
            <a:r>
              <a:rPr b="0" lang="ja-JP" sz="2400" spc="-1" strike="noStrike">
                <a:solidFill>
                  <a:srgbClr val="000000"/>
                </a:solidFill>
                <a:latin typeface="ＭＳ Ｐゴシック"/>
              </a:rPr>
              <a:t>の利用状況を報告しました。</a:t>
            </a:r>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6B8B382C-03B4-4345-A710-B8EB1EEFA3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50920" y="1196640"/>
            <a:ext cx="8642160" cy="51116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２．避難所データの更新及び</a:t>
            </a:r>
            <a:endParaRPr b="0" lang="en-US" sz="4000" spc="-1" strike="noStrike">
              <a:solidFill>
                <a:srgbClr val="000000"/>
              </a:solidFill>
              <a:latin typeface="HGPｺﾞｼｯｸE"/>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公開実験について</a:t>
            </a:r>
            <a:endParaRPr b="0" lang="en-US" sz="4000" spc="-1" strike="noStrike">
              <a:solidFill>
                <a:srgbClr val="000000"/>
              </a:solidFill>
              <a:latin typeface="HGPｺﾞｼｯｸE"/>
            </a:endParaRPr>
          </a:p>
        </p:txBody>
      </p:sp>
      <p:sp>
        <p:nvSpPr>
          <p:cNvPr id="3" name="PlaceHolder 2"/>
          <p:cNvSpPr>
            <a:spLocks noGrp="1"/>
          </p:cNvSpPr>
          <p:nvPr>
            <p:ph type="sldNum" idx="3"/>
          </p:nvPr>
        </p:nvSpPr>
        <p:spPr/>
        <p:txBody>
          <a:bodyPr/>
          <a:p>
            <a:fld id="{6E697F43-C19C-4C2E-A2B1-F87F709ECB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392C-1F13-4833-970A-2286931CDBB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323640" y="907920"/>
            <a:ext cx="8507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避難所データの更新及び公開実験の現状での課題</a:t>
            </a:r>
            <a:endParaRPr b="0" lang="en-US" sz="2800" spc="-1" strike="noStrike">
              <a:solidFill>
                <a:srgbClr val="000000"/>
              </a:solidFill>
              <a:latin typeface="HGPｺﾞｼｯｸE"/>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ガイドラインの運用テストを通じて、市町の運用における課題の抽出は実施したが、未だに以下の点については未解決であるのが実情です。</a:t>
            </a:r>
            <a:endParaRPr b="0" lang="en-US" sz="2400" spc="-1" strike="noStrike">
              <a:solidFill>
                <a:srgbClr val="000000"/>
              </a:solidFill>
              <a:latin typeface="ＭＳ Ｐゴシック"/>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課題</a:t>
            </a:r>
            <a:r>
              <a:rPr b="0" lang="en-US" sz="2400" spc="-1" strike="noStrike">
                <a:solidFill>
                  <a:srgbClr val="000000"/>
                </a:solidFill>
                <a:latin typeface="MS UI Gothic"/>
                <a:ea typeface="MS UI Gothic"/>
              </a:rPr>
              <a:t>①</a:t>
            </a:r>
            <a:endParaRPr b="0" lang="en-US" sz="2400" spc="-1" strike="noStrike">
              <a:solidFill>
                <a:srgbClr val="000000"/>
              </a:solidFill>
              <a:latin typeface="ＭＳ Ｐゴシック"/>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　 元々の原典資料である避難所データの位置精度が悪い</a:t>
            </a:r>
            <a:endParaRPr b="0" lang="en-US" sz="2400" spc="-1" strike="noStrike">
              <a:solidFill>
                <a:srgbClr val="000000"/>
              </a:solidFill>
              <a:latin typeface="ＭＳ Ｐゴシック"/>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課題</a:t>
            </a:r>
            <a:r>
              <a:rPr b="0" lang="en-US" sz="2400" spc="-1" strike="noStrike">
                <a:solidFill>
                  <a:srgbClr val="000000"/>
                </a:solidFill>
                <a:latin typeface="MS UI Gothic"/>
                <a:ea typeface="MS UI Gothic"/>
              </a:rPr>
              <a:t>②</a:t>
            </a:r>
            <a:endParaRPr b="0" lang="en-US" sz="2400" spc="-1" strike="noStrike">
              <a:solidFill>
                <a:srgbClr val="000000"/>
              </a:solidFill>
              <a:latin typeface="ＭＳ Ｐゴシック"/>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　 </a:t>
            </a:r>
            <a:r>
              <a:rPr b="0" lang="ja-JP" sz="2400" spc="-1" strike="noStrike">
                <a:solidFill>
                  <a:srgbClr val="000000"/>
                </a:solidFill>
                <a:latin typeface="ＭＳ Ｐゴシック"/>
              </a:rPr>
              <a:t>避難所データの更新は、</a:t>
            </a:r>
            <a:r>
              <a:rPr b="0" lang="en-US" sz="2400" spc="-1" strike="noStrike">
                <a:solidFill>
                  <a:srgbClr val="000000"/>
                </a:solidFill>
                <a:latin typeface="ＭＳ Ｐゴシック"/>
              </a:rPr>
              <a:t>GIS</a:t>
            </a:r>
            <a:r>
              <a:rPr b="0" lang="ja-JP" sz="2400" spc="-1" strike="noStrike">
                <a:solidFill>
                  <a:srgbClr val="000000"/>
                </a:solidFill>
                <a:latin typeface="ＭＳ Ｐゴシック"/>
              </a:rPr>
              <a:t>スキルにも依存するところが大きいため、</a:t>
            </a:r>
            <a:r>
              <a:rPr b="0" lang="ja-JP" sz="2400" spc="-1" strike="noStrike">
                <a:solidFill>
                  <a:srgbClr val="000000"/>
                </a:solidFill>
                <a:latin typeface="MS UI Gothic"/>
                <a:ea typeface="MS UI Gothic"/>
              </a:rPr>
              <a:t>現在の共同更新の仕組みを</a:t>
            </a:r>
            <a:r>
              <a:rPr b="0" lang="en-US" sz="2400" spc="-1" strike="noStrike">
                <a:solidFill>
                  <a:srgbClr val="000000"/>
                </a:solidFill>
                <a:latin typeface="MS UI Gothic"/>
                <a:ea typeface="MS UI Gothic"/>
              </a:rPr>
              <a:t>WG</a:t>
            </a:r>
            <a:r>
              <a:rPr b="0" lang="ja-JP" sz="2400" spc="-1" strike="noStrike">
                <a:solidFill>
                  <a:srgbClr val="000000"/>
                </a:solidFill>
                <a:latin typeface="MS UI Gothic"/>
                <a:ea typeface="MS UI Gothic"/>
              </a:rPr>
              <a:t>に参加していない市町へ展開 するのは難しい</a:t>
            </a:r>
            <a:endParaRPr b="0" lang="en-US" sz="2400" spc="-1" strike="noStrike">
              <a:solidFill>
                <a:srgbClr val="000000"/>
              </a:solidFill>
              <a:latin typeface="ＭＳ Ｐゴシック"/>
            </a:endParaRPr>
          </a:p>
        </p:txBody>
      </p:sp>
      <p:sp>
        <p:nvSpPr>
          <p:cNvPr id="104"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17D1A18-CCC4-43B0-8B06-782C9552E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DCE0-2594-43C7-A7F6-C6AACACED9C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323640" y="907920"/>
            <a:ext cx="8507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現状での課題についての考察</a:t>
            </a:r>
            <a:endParaRPr b="0" lang="en-US" sz="2800" spc="-1" strike="noStrike">
              <a:solidFill>
                <a:srgbClr val="000000"/>
              </a:solidFill>
              <a:latin typeface="HGPｺﾞｼｯｸE"/>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本</a:t>
            </a:r>
            <a:r>
              <a:rPr b="0" lang="en-US" sz="2400" spc="-1" strike="noStrike">
                <a:solidFill>
                  <a:srgbClr val="000000"/>
                </a:solidFill>
                <a:latin typeface="MS UI Gothic"/>
                <a:ea typeface="MS UI Gothic"/>
              </a:rPr>
              <a:t>WG</a:t>
            </a:r>
            <a:r>
              <a:rPr b="0" lang="ja-JP" sz="2400" spc="-1" strike="noStrike">
                <a:solidFill>
                  <a:srgbClr val="000000"/>
                </a:solidFill>
                <a:latin typeface="MS UI Gothic"/>
                <a:ea typeface="MS UI Gothic"/>
              </a:rPr>
              <a:t>において検討を行ったガイドラインについては、運用テストを通して基本的には運用可能であるという判断を行うこととし、来年度以降の本格運用に向けては、避難所データの位置精度を向上させる手段をとる必要があります。</a:t>
            </a:r>
            <a:endParaRPr b="0" lang="en-US" sz="2400" spc="-1" strike="noStrike">
              <a:solidFill>
                <a:srgbClr val="000000"/>
              </a:solidFill>
              <a:latin typeface="ＭＳ Ｐゴシック"/>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前回の</a:t>
            </a:r>
            <a:r>
              <a:rPr b="0" lang="en-US" sz="2400" spc="-1" strike="noStrike">
                <a:solidFill>
                  <a:srgbClr val="000000"/>
                </a:solidFill>
                <a:latin typeface="MS UI Gothic"/>
                <a:ea typeface="MS UI Gothic"/>
              </a:rPr>
              <a:t>WG</a:t>
            </a:r>
            <a:r>
              <a:rPr b="0" lang="ja-JP" sz="2400" spc="-1" strike="noStrike">
                <a:solidFill>
                  <a:srgbClr val="000000"/>
                </a:solidFill>
                <a:latin typeface="MS UI Gothic"/>
                <a:ea typeface="MS UI Gothic"/>
              </a:rPr>
              <a:t>でもお話が上がりましたが、既存の地域防災計画上の避難所一覧表をベースとして、現状の避難所データの精度を向上させる手法について検討を実施しました。</a:t>
            </a:r>
            <a:endParaRPr b="0" lang="en-US" sz="2400" spc="-1" strike="noStrike">
              <a:solidFill>
                <a:srgbClr val="000000"/>
              </a:solidFill>
              <a:latin typeface="ＭＳ Ｐゴシック"/>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07"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59C1D4B-77C5-44E7-9CCC-E7DE1A5F54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50920" y="907920"/>
            <a:ext cx="8642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市町の地域防災計画の現状について</a:t>
            </a:r>
            <a:endParaRPr b="0" lang="en-US" sz="2800" spc="-1" strike="noStrike">
              <a:solidFill>
                <a:srgbClr val="000000"/>
              </a:solidFill>
              <a:latin typeface="HGPｺﾞｼｯｸE"/>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各市町から提出される地域防災計画中での、避難所の一覧に掲載する項目については、現状は各市町によって任意の項目とされています。</a:t>
            </a:r>
            <a:endParaRPr b="0" lang="en-US" sz="2400" spc="-1" strike="noStrike">
              <a:solidFill>
                <a:srgbClr val="000000"/>
              </a:solidFill>
              <a:latin typeface="ＭＳ Ｐゴシック"/>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インターネットでの調査により、名称や所在、連絡先、収容人数など、ある程度の共通項目は散見されましたが、現状、各市町が管理している項目の統一化を図ることは、市町の負担が非常に大きく、実現は困難であると考えます。</a:t>
            </a: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1" marL="743040" indent="-285840">
              <a:lnSpc>
                <a:spcPct val="100000"/>
              </a:lnSpc>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ただし、各市町が所有の資料において、この地域防災計画に掲載している避難所一覧が、最も避難所を管理する上での正確かつ鮮度の高い資料であることも事実です。</a:t>
            </a:r>
            <a:endParaRPr b="0" lang="en-US" sz="2400" spc="-1" strike="noStrike">
              <a:solidFill>
                <a:srgbClr val="000000"/>
              </a:solidFill>
              <a:latin typeface="ＭＳ Ｐゴシック"/>
            </a:endParaRPr>
          </a:p>
        </p:txBody>
      </p:sp>
      <p:sp>
        <p:nvSpPr>
          <p:cNvPr id="109" name="Rectangle 2"/>
          <p:cNvSpPr/>
          <p:nvPr/>
        </p:nvSpPr>
        <p:spPr>
          <a:xfrm>
            <a:off x="154080" y="77760"/>
            <a:ext cx="8810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２－１．来年度の避難所データ更新事業について</a:t>
            </a:r>
            <a:endParaRPr b="0" lang="en-US" sz="2800" spc="-1" strike="noStrike">
              <a:solidFill>
                <a:srgbClr val="000000"/>
              </a:solidFill>
              <a:latin typeface="Arial"/>
            </a:endParaRPr>
          </a:p>
        </p:txBody>
      </p:sp>
      <p:sp>
        <p:nvSpPr>
          <p:cNvPr id="110" name="AutoShape 7"/>
          <p:cNvSpPr/>
          <p:nvPr/>
        </p:nvSpPr>
        <p:spPr>
          <a:xfrm>
            <a:off x="6732720" y="4581360"/>
            <a:ext cx="1944720" cy="358920"/>
          </a:xfrm>
          <a:custGeom>
            <a:avLst/>
            <a:gdLst>
              <a:gd name="textAreaLeft" fmla="*/ 0 w 1944720"/>
              <a:gd name="textAreaRight" fmla="*/ 1945080 w 194472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２</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0C32A3-8603-4F4B-B746-27350800C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1:38:45Z</dcterms:created>
  <dc:creator>標準A</dc:creator>
  <dc:description/>
  <dc:language>en-US</dc:language>
  <cp:lastModifiedBy>d.kudo</cp:lastModifiedBy>
  <dcterms:modified xsi:type="dcterms:W3CDTF">2012-03-06T10:11:19Z</dcterms:modified>
  <cp:revision>155</cp:revision>
  <dc:subject/>
  <dc:title>平成２３年度 第１回安心・安全ワーキンググループ</dc:title>
</cp:coreProperties>
</file>